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B0F4-D854-4B7C-9209-5FDC2F9B2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1F15-93BF-495F-B99A-E2AE7F9EAC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4C3D-5523-46F0-9D64-3D79E03A43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AC6F-7F76-4217-98BF-F910D43592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5D7A-021D-4CFE-AD43-A7A4A068DD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9149-E0AB-4789-BEF0-CD6581E4C5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B29-CFAE-4C2A-8C7E-68529370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3DF-2E3C-40F9-9410-7C637690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ABD-F85C-4830-9740-DBAA7818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033-4788-4AB5-99E8-F020B8BF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03C4-D57F-480B-979A-330464B5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600A-8496-4A97-8245-1876FF6E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9D34-E263-40B3-816D-FC36FCE1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B217-5324-4D6D-A524-A27FAC73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5A87-BD59-4F71-A2EA-DD931A2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ADDF-C078-4FB1-834D-19822AF3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0771-5BB6-4456-812D-0E77BB59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BF9-764A-4232-A4C4-E556EB9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097E-0A1A-4DAD-80C9-02F5211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EC20-4FFB-421E-B76A-1C23704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48E2-784F-444E-B9C6-397E98D1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D7A0-4C61-4547-8846-F2EAB21B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030D-97A1-46FA-8FD9-7974C6E6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C3D-F009-4914-AD83-6900C456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8EE-578F-4982-9C88-447BB07A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0A9-774D-4894-A9FC-7D785380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303-9578-4D2A-BB37-0A2B245B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E4E-0727-4E29-9E88-814D289B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278-B02B-4AD6-8714-C5C78858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F47-B9B0-4B18-8780-451C7799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9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E732-E4AC-463C-BC89-1C809CD90F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5257800"/>
            <a:ext cx="8229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9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SWFoxBanner2011_Wide_NO_DiscountBlurb_Animated"/>
          <p:cNvPicPr/>
          <p:nvPr/>
        </p:nvPicPr>
        <p:blipFill>
          <a:blip r:embed="rId2"/>
          <a:stretch/>
        </p:blipFill>
        <p:spPr>
          <a:xfrm>
            <a:off x="6172200" y="5791320"/>
            <a:ext cx="257184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1D45-CC03-42C4-AECE-51D03D6C4A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evinragsdale@charter.ne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It’s so, uh, </a:t>
            </a:r>
            <a:r>
              <a:rPr b="0" i="1" lang="en-US" sz="4400" spc="-1" strike="noStrike">
                <a:solidFill>
                  <a:srgbClr val="e9d1cc"/>
                </a:solidFill>
                <a:latin typeface="Tahoma"/>
              </a:rPr>
              <a:t>gray</a:t>
            </a: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…” – Tips &amp; Tricks to Improve Your UI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Kevin Ragsda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log: http://kevinragsdale.ne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kevin@kevinragsdale.ne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Phone: 931-409-9899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witter: @KevinRagsda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319040" y="4680"/>
            <a:ext cx="66294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143000" y="11160"/>
            <a:ext cx="67816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839880" y="0"/>
            <a:ext cx="73152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ip #2: Windows Guideline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143000"/>
            <a:ext cx="815328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Microsoft UX Guide: 823 pages of standard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Respect the users Windows Setting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31896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d1cc"/>
                </a:solidFill>
                <a:latin typeface="Tahoma"/>
              </a:rPr>
              <a:t>Colors</a:t>
            </a:r>
            <a:endParaRPr b="0" lang="en-US" sz="24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31896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d1cc"/>
                </a:solidFill>
                <a:latin typeface="Tahoma"/>
              </a:rPr>
              <a:t>Fonts</a:t>
            </a:r>
            <a:endParaRPr b="0" lang="en-US" sz="24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If you do only </a:t>
            </a:r>
            <a:r>
              <a:rPr b="0" i="1" lang="en-US" sz="2800" spc="-1" strike="noStrike">
                <a:solidFill>
                  <a:srgbClr val="e9d1cc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 thing: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Respect the users</a:t>
            </a:r>
            <a:br>
              <a:rPr sz="4400"/>
            </a:b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indows setting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31896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d1cc"/>
              </a:solidFill>
              <a:latin typeface="Tahoma"/>
            </a:endParaRPr>
          </a:p>
          <a:p>
            <a:pPr lvl="2" marL="74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olors and VFP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143000"/>
            <a:ext cx="815328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Visual FoxPro provides all the power we need for colors (BackColor, ForeColor, etc.)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  <a:p>
            <a:pPr lvl="1" marL="743040" indent="-34308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d1cc"/>
              </a:solidFill>
              <a:latin typeface="Tahoma"/>
            </a:endParaRPr>
          </a:p>
          <a:p>
            <a:pPr lvl="2" marL="800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838080" y="11160"/>
            <a:ext cx="74041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762120" y="27000"/>
            <a:ext cx="75438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647640" y="0"/>
            <a:ext cx="769644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ip: Use VFP’s Default Settings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f you use the Default colors, VFP will use the “Default” colors for the current Windows them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07880" y="2895480"/>
            <a:ext cx="372276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3647880" cy="270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5334120" y="2514600"/>
            <a:ext cx="36385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aveat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s is NOT a “Best Practices” sess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session does not match the description, exactly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 if I change the color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VFP will “force” the color (192,192,192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72456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2747880" y="2076480"/>
            <a:ext cx="3648240" cy="270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3"/>
          <a:stretch/>
        </p:blipFill>
        <p:spPr>
          <a:xfrm>
            <a:off x="5105520" y="2433600"/>
            <a:ext cx="36385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Yuck! Set it back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f you re-enter the “default” in the Properties sheet, the “default” becomes the “forced” color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Use “Reset to Default”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14320" y="0"/>
            <a:ext cx="80010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371600" y="0"/>
            <a:ext cx="61722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Font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ry to use the Windows system fon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XP – Tahoma, 8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Vista, Windows 7 – Segoe UI, 9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ach instance should “know” which font to us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oes the user want </a:t>
            </a:r>
            <a:r>
              <a:rPr b="0" lang="en-US" sz="3600" spc="-1" strike="noStrike">
                <a:solidFill>
                  <a:srgbClr val="e9d1cc"/>
                </a:solidFill>
                <a:latin typeface="Tahoma"/>
              </a:rPr>
              <a:t>Large Fonts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Pick a font, and stick to it, exclusively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Is your app DPI-aware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Users may select a higher DPI (larger fonts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ach visual should be resized, moved, and re-anchored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ustom control (cusResizer) – drop on a form and it does all the resizin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PI-awar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indows Vista and 7 use DPI-virtualiz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You must tell Vista and 7 that your app is “DPI Aware” in your app’s manifes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Once you do that, no virtualization – but, you are responsible for resizin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heme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y’re here to stay, so get used to them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9d1cc"/>
                </a:solidFill>
                <a:latin typeface="Tahoma"/>
              </a:rPr>
              <a:t>Except when they’re not there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– so be ready for that, too! (Windows Classic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on’t mix Themes = .T. and Themes = .F. between controls on the same form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olors/Skinning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Judicious use of colors – try to stick to the users’ Windows setting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No need for a different BackColor on every form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kinning? N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Navigation overload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300 records in a tab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oolbar (First, Previous, Next, Last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uttons (First, Previous, Next, Last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ry a custom control to handle navigation for smaller recordset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How important is UI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o our users, the UI </a:t>
            </a:r>
            <a:r>
              <a:rPr b="1" i="1" lang="en-US" sz="3200" spc="-1" strike="noStrike">
                <a:solidFill>
                  <a:srgbClr val="e9d1cc"/>
                </a:solidFill>
                <a:latin typeface="Tahoma"/>
              </a:rPr>
              <a:t>IS  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application.”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- Jeff Atwood, Coding Horror Blo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ith great power comes great responsibility.” – Uncle Ben Park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MESSAGEBOX()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re you sure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ally sure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ally,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really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sure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You’re on the first (or last) record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Limit the interruptions!!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ick tip: stop the bleeding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ome form controls (checkbox, optionbox) “bleed” when Themes = .T. and they’re clicked on more than on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101680" y="3505320"/>
            <a:ext cx="49672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ick tip: stop the bleeding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ome form controls (checkbox, optionbox) “bleed” when Themes = .T. and they’re clicked on more than on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ake background Opaque (not always attractive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s.Caption = This.Cap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ick tip: Vista/7/8 and Aer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How do I get my forms to display with Aero effects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esktop = .T.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est when used with top-level main form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ick tip: Forcing black tex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f you have a control that must have a black RGB(0,0,0) forecolor (or backcolor), subclass the control and set the color to RGB(2,2,2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Humans can’t see the difference, but FoxPro know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ustom Control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Visual cue textbox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Hyperlink label and contain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Visual cue textbox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reate your own “visual cue” text box with a few properties and method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423720" y="2590920"/>
            <a:ext cx="8469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Hyperlink container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hy not just a blue label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ontain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ommand Button (needed for focus, hot key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Fading form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ake forms fade in/out, with Windows API calls and a timer contro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UI </a:t>
            </a:r>
            <a:r>
              <a:rPr b="0" i="1" lang="en-US" sz="3200" spc="-1" strike="noStrike">
                <a:solidFill>
                  <a:srgbClr val="e9d1cc"/>
                </a:solidFill>
                <a:latin typeface="Tahoma"/>
              </a:rPr>
              <a:t>is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the applic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xPro has powerful capabilities to create a compelling, modern, and elegant UI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Human natur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98" name="Content Placeholder 6" descr=""/>
          <p:cNvPicPr/>
          <p:nvPr/>
        </p:nvPicPr>
        <p:blipFill>
          <a:blip r:embed="rId1"/>
          <a:stretch/>
        </p:blipFill>
        <p:spPr>
          <a:xfrm>
            <a:off x="3003480" y="1295280"/>
            <a:ext cx="313704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’s in a name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icrosoft Visual FoxPr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 love the name (you probably do, too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o the outside world, there are many negatives (it’s old, it’s ugly, etc.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628880" cy="236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4819680" cy="32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2100240" y="1913040"/>
            <a:ext cx="4943520" cy="14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ip #1: Lose the VFP!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move references to Visual FoxPro from your app (error-handling becomes critically important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cons, MESSAGEBOX(), etc.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app name does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have to include the words Fox, Foxy, Visual or Pr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Visual Foxy Accounting Pr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’s an ugly app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838080" y="27000"/>
            <a:ext cx="73915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1080" y="-11160"/>
            <a:ext cx="6934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6:27:53Z</dcterms:created>
  <dc:creator>Kevin Ragsdale</dc:creator>
  <dc:description/>
  <dc:language>en-US</dc:language>
  <cp:lastModifiedBy>Kevin Ragsdale</cp:lastModifiedBy>
  <dcterms:modified xsi:type="dcterms:W3CDTF">2014-04-17T03:55:44Z</dcterms:modified>
  <cp:revision>62</cp:revision>
  <dc:subject/>
  <dc:title>“It’s so, uh, gray.” – Tips &amp; Tricks to Improve Your U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33</vt:lpwstr>
  </property>
</Properties>
</file>