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6C36-88D1-49C7-8885-F77BA7AA5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D6D1-676C-4486-A8A3-2281AD80BB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B2F6-8DB6-4289-86D0-507F5B3652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DBA6-FF41-42A8-8FE9-378049BDEB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FA80-5B57-45EC-8653-9E0B2823BF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106E-1016-43B1-A32E-98E848BA0A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7E92-B5A2-4938-86C6-EC1F14FC8F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D7C2-C757-4DB0-9A13-776BAD6347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4BF7-520B-4D57-9072-9CD6082E21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0783-0911-47B0-8E3C-81A3E21D8A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A9A1-F2E1-43C0-B782-83A722127F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E14B-CF27-4DC7-836C-C1B6DFCD0B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4180-74C1-46CD-B0D5-82CA3EA505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F4CF-4E7A-4816-801C-DC714D774E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C4FF-CA61-41F2-ABC3-740A8A839C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7525-F83C-446C-8F3C-9502FC9696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67D7-BD74-42C9-8FCB-4D744DC77A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2B6F-811C-40AC-8210-A255E94520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9595-D651-4875-A78B-0F019F3DB2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FBEC-F0D6-476E-BAAD-DC6AAB3C83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0BC3-0202-40E7-AAF9-474BBB1F69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7254-0480-4D27-ACFB-E89893DCF2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396E-51EE-45BA-BF3D-9FEC09DC25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1E4F-80FB-4505-A5D5-78FDF73391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6835-22A6-419B-A473-A5730A9B3B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F700-B019-464D-AF77-36DBF950FE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46F9-FF24-4BE1-8B41-CAEA90BE8C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D715-22FC-4936-90B0-5F32254C42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8110-5F6C-4F45-88F6-5D0656949F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9D66-3575-47E7-BD46-2E78C4071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205080"/>
            <a:ext cx="822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122F-0B00-475D-9142-8F8613D7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2B41-EEBA-492C-88B5-FE3C0BE6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2050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2050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2050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C956-0ADC-4D08-9A89-3FBFEFC9E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8532-2DD4-465F-8A6C-5F338327C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E136-1A97-4646-B842-B0963665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6DE6-9ADA-4940-91C0-1ABD7D6F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BCFF-8C8B-4EF7-A456-F398AD73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C87F-315D-4708-87EC-98FF3782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3E5C-11DA-4211-967C-EC8C1241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428E-EBE2-405C-B63E-40A49827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D305-2A6D-4A24-AAF3-86622350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57FD-D5AE-4C91-80E9-D11FCC80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05080"/>
            <a:ext cx="822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38FE-7583-4BD4-ABD9-70C36F80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05080"/>
            <a:ext cx="822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4877-A08E-4B77-9AD5-A049F908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6583-CBC6-452C-A35A-B07B9033A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050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050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050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8061-7A82-4979-8B49-2EB571CD6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1138-2B72-41B8-AB5A-9D6E88FB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DAA6-F159-4DA3-A48E-9C4E6758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168E-9385-4448-9A62-E64C4160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6C9A-4320-4DFA-AB9C-71E133EA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E1B2-EB34-4CCC-9C4E-79F09F3A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0D98-1446-4A2D-86CF-39E7EF3E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205080"/>
            <a:ext cx="822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0E79-0316-4E4B-B4AC-FBB0EFE4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spcBef>
                <a:spcPts val="79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07960" indent="-2008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10440" indent="-2008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BE49-8BC5-455E-ACF4-0E2657B2CA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0" descr="TamarSWFoxBanner_Wide"/>
          <p:cNvPicPr/>
          <p:nvPr/>
        </p:nvPicPr>
        <p:blipFill>
          <a:blip r:embed="rId2"/>
          <a:stretch/>
        </p:blipFill>
        <p:spPr>
          <a:xfrm>
            <a:off x="6172200" y="5791320"/>
            <a:ext cx="257184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TamarSWFoxBanner_Wide"/>
          <p:cNvPicPr/>
          <p:nvPr/>
        </p:nvPicPr>
        <p:blipFill>
          <a:blip r:embed="rId2"/>
          <a:stretch/>
        </p:blipFill>
        <p:spPr>
          <a:xfrm>
            <a:off x="6172200" y="5791320"/>
            <a:ext cx="257184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spcBef>
                <a:spcPts val="79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07960" indent="-2008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10440" indent="-2008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104A-5B75-47B7-A0A5-C43D2FBF15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 Overview of WMI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(Windows Management Instrumentation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rbara Peis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isch Custom Softw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MI Service – Part 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nning by defaul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rt or stop WMI wi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T START WINMGMT or NET STOP WINMGM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5" descr="WMI.JPG"/>
          <p:cNvPicPr/>
          <p:nvPr/>
        </p:nvPicPr>
        <p:blipFill>
          <a:blip r:embed="rId1"/>
          <a:stretch/>
        </p:blipFill>
        <p:spPr>
          <a:xfrm>
            <a:off x="2438280" y="2971800"/>
            <a:ext cx="381024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MI Service – Part 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grammatically make sure WMI is runn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* The following line will start the service if it's not run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* and is set to manual or automati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* It will fail if the service is disabl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WMI = GETOBJECT('WinMgmts:'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SSAGEBOX("WMI is running. You may proceed."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T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SSAGEBOX("WMI isn't running"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DT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amespa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as created by Windo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set security to control access to each namesp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WMI classes belong to a namesp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ault namespace is \root\cimv2 and has most of the classes you ne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MI System Class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alled </a:t>
            </a: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intrinsic event class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ased on CIM structur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llow monitoring of other WMI class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utomatically created for each namespace in the syste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ass names start with double underscor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yntax is more complex (we’ll cover it later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xtrinsic Event Class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ist within a specific “provider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led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xtrinsic event clas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a much simp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sed on MOF struc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MI “Providers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tegories of tasks available through WMI. Some examples of providers ar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ive Directory Provi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formance Monitoring Provi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ssion Provider (for managing network session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stem Registry Provi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n32 Provi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few Win32 Provider Class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761760"/>
            <a:ext cx="822960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25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Win32_BIOS – For reading BIOS settings on your computer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25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Win32_ComputerShutdownEvent – To detect when your computer is shutting down and the kind of shutdown requested (User log-off, complete shutdown or restart)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25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Win32_ComputerSystem – Has all sorts of information about your computer, including: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425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The manufacturer and model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425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Whether or not you’ve enabled daylight savings time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425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Whether or not the button on the front of your computer lets you reboot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425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Whether or not there’s an infrared port on your computer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425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Name of the workgroup for this computer (if any)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425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Many, many other items too numerous to list here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25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Win32_DefragAnalysis – Information about how fragmented your disk drive is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25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Win32_Fan – Information about the cooling fan in your computer like when it was installed and what its last error code was and what its current status is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asic WMI Query Syntax for Extrinsic Class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WMI = GETOBJECT('WinMgmts:'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MyResults = loWMI.ExecQuery('Select * from WMIClassName'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lts come back in a documented structure unique to each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…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in32_Product Class (Windows).mht and demo(“ShowProducts”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alling WMI Method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91440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WMI = GETOBJECT('WinMgmts:'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cPrinter = GETPRINTER(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F NOT EMPTY(lcPrinter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cQuery = "Select * from Win32_Printer where Caption = '"+lcPrinter+"'“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Printers = loWMI.ExecQuery(lcQuer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R EACH loPrinter IN loPrint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F loPrinter.Pause()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SSAGEBOX(lcPrinter+" has been paused.",64,"Success"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SSAGEBOX(lcPrinter+" could not be paused.",48,"Failure"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DIF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DFOR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DIF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lag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WMI methods have an iFlags parame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osition of this parameter va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cumentation for flags refers to constants which are in Wbemdisp.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bout m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wner of Peisch Custom Softw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turning SW Fox speak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crosoft MV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ng out on Foxite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er columnist for FoxTalk an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ammer in Fox since 198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d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ynchronou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Program will wait until results are returned before continu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synchronou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Program execution continues while WMI request is processing. Objects are returned to a SWbemSink obj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misynchronou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Like asynchronous,  Program will continue while query is running, but results returned to calling program instead of sink obj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ow to Specify Mo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xamples so far have been Semisynchronou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r commands that support Asynchronous mode, add Async to command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5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xecQueryAsync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5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xecNotificationQueryAsync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Use wbemFlagReturnWhenComplete flag for Synchronous mod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apturing Windows Even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capture Windows events we us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stem Class (Intrinsic Event Clas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ynchronous c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k ob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…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mo(“catchprintevent”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curity – Configuration - Namespa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ype wmimgmt.msc in Start…Ru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51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ight-click on icon on left and choose Properti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51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on Security tab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51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lect a namespace and click Security butt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51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ermissions are inherited from Root. Click Advanced if you want special permission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curity – Configuration – Remote Usa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e dcomcnfg in Start…Ru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and Component Services and Compu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ght-click on My Computer and choose Proper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on the COM Security ta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on the Edit Limits button in both Access Permissions and Launch and Activation Permissions to specify rights for us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curity – When calling WM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’t do anything in WMI you wouldn’t have permissions for normal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of specifying Impersonation and Authentication setting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WMI = GetObject("WinMgmts:{impersonationLevel=impersonate," + 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authenticationLevel=pktPrivacy}" + 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!\\.\root\cimv2"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cessing a Remote Comput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t have Admin rights on the local mach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t know a valid username and password on the remote mach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nect using older syntax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WMILocator = createobject("WbemScripting.SWbemLocator"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WMIServices = oWMILocator.ConnectServer(ComputerName, 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meSpace, UserName, Password, Locale, Authority, Flags)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…RemoteDemo.pr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me topics I haven’t covere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MI for ODB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msdn.microsoft.com/en-us/library/aa393647(VS.85).aspx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ilding your own provider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http://msdn.microsoft.com/en-us/library/cc512238(VS.85).asp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http://msdn.microsoft.com/en-us/library/aa389276(VS.85).aspx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MI can be overwhelming, but it’s very powerfu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the links in the white paper as a launching poi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762120" y="3434400"/>
            <a:ext cx="7635600" cy="16578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member to fill out your evalua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ssion slides, white paper, and code samples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il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upda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MI bas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essing a local mach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pturing Windows ev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essing a remote ser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is WMI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s you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ry anything you want about a system’s hardware or softw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nitor all aspects of system stat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n scripts and call metho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access either local or remote machi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good tutorial on WMI from a VFP perspectiv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23520"/>
            <a:ext cx="822960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art Dunkeld has done quite a bit with WMI and has blogged about it. Here is a page that references each of the blog entries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ttp://weblogs.foxite.com/stuartdunkeld/archive/category/1007.aspx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sour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SDN has all the info you need but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’s scattered across many, many top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’s hard to find—doesn’t always show up in a search the way you’d exp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hite paper has many links to help y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rony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hite paper has links for each of the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75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WMI – Windows Management Instrumentation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75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CIM – Common Information Model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75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IDL – Interface Definition Language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75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MOF – Managed Object Format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75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WBEM – Web-Based Enterprise Management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75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WQL – WMI Query Language. The syntax of WMI queries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S Limit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vailable since Windows 9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ndows 98/NT/ME may need installation of core (link in white pape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lly implemented with Windows 2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all classes/functionality available in every 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.H Fil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sdn.microsoft.com has lots of documentation for W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cumentation often references .h fi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h files are hard to find! The best source is in Visual Studi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los Alloatti provided win32_ap_includes.zip with all .h fi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22:52:36Z</dcterms:created>
  <dc:creator>Barbara Peisch</dc:creator>
  <dc:description/>
  <cp:keywords/>
  <dc:language>en-US</dc:language>
  <cp:lastModifiedBy>Demo</cp:lastModifiedBy>
  <dcterms:modified xsi:type="dcterms:W3CDTF">2008-10-17T18:46:06Z</dcterms:modified>
  <cp:revision>48</cp:revision>
  <dc:subject>Southwest Fox 2008</dc:subject>
  <dc:title>Your Title Goes He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2561681033</vt:lpwstr>
  </property>
</Properties>
</file>