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11E-DF71-49DD-9E96-6AEB9D7A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7D1-423B-43DB-9D74-0E3CC621E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29DF-8908-4F65-A68E-053EEDE7A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6A9D-B021-4BFF-BDE2-B3966A8BB7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1794-5254-431A-AF6D-EFE3035EE6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4E0D-D791-4FCD-A361-EA026D158F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9EA-BDCA-445E-8634-8A75DEFA18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88A-DAEA-42B3-A115-4F8BAC6325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AFA0-0B75-43BB-8685-C324A3FFBA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475-103F-436D-BDA6-3969271836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A8E-E12E-4A75-A8E5-7BBAB9390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EF1-3D60-47CB-AEC9-0D20233A2C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39D-6CE7-43E1-99A2-86DE30C243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DC6-C646-4391-B09C-B62E7B66F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424-E585-4099-B238-61CBEDA3D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1C5-1C9C-44C6-908F-71A6A985EB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E903-9468-4E92-B81D-8B5B23496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1C0-A4C1-4925-A7B5-46F62680F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14DE-FAD2-4634-A0BF-53A45F0894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009-37B3-41AA-BF5C-8275208CB5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640-46EE-4220-B579-1A4B12961D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3A11-A27C-4602-9A89-4340E34620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3F92-1139-4C60-A7F1-2FB78BE94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D0A7-F9AD-40A5-8AB3-8C9F46CF9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EB7-72DE-46CD-AAFC-13580FF3E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50C-C4FD-43C4-9806-13368F400F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B32-4363-4E8B-B4B0-6BDBB47A62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s.prg Ex 1 an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DE2-7881-45DC-8761-F785ABD9D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2241-A886-496A-BE80-D08056815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226-D85C-445E-8950-0105DD9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553-67C3-4C02-8ABF-A83DA5E2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164-FF45-4AF4-B787-A59F4D9E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A24-1311-4168-9BE3-B203611D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3B2-AE34-46EC-B24D-F9812FE4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C3D9-341A-4E5C-B53C-94697EAC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4629-FA79-4A9B-BA3C-5300EC4B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D17-F91A-49E0-8BF6-92432A6E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6EE-0849-49D3-880E-EBFFB7C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7EDB-E3BA-4A58-A0EF-7648E899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4014-E739-49A7-B05C-859E165D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1F9-A004-4E0D-ADDF-2331D35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7F6C-782C-4805-A924-F0416FBA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8CD6-2927-4805-B203-0A26BE3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8352-6644-44F9-8D0B-544E46C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A2D-294F-4673-A0E7-3347131A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DCA7-E964-42FE-B1F4-7F5FFC5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660-CEF2-4CA4-A7A3-A4FACA1A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589-D2AF-434F-B050-6F7B55D3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4E5-5000-4FB2-B4DE-6013278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D2A-6B99-43C3-9BFE-8E31BAE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7E0-800D-4013-8267-3B08AF4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5AF-332B-4109-80F1-B08B0AF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F9D-A664-41C2-9716-9F4A32A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E8B-AB3D-4B3E-9F0F-562B9165B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9" descr="SWFoxBanner_Narrow_With_DiscountBlurb2008"/>
          <p:cNvPicPr/>
          <p:nvPr/>
        </p:nvPicPr>
        <p:blipFill>
          <a:blip r:embed="rId2"/>
          <a:stretch/>
        </p:blipFill>
        <p:spPr>
          <a:xfrm>
            <a:off x="6264360" y="5813280"/>
            <a:ext cx="2422440" cy="43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WFoxBanner_Narrow_With_DiscountBlurb2008"/>
          <p:cNvPicPr/>
          <p:nvPr/>
        </p:nvPicPr>
        <p:blipFill>
          <a:blip r:embed="rId2"/>
          <a:stretch/>
        </p:blipFill>
        <p:spPr>
          <a:xfrm>
            <a:off x="6264360" y="5813280"/>
            <a:ext cx="2422440" cy="430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C86-7C50-41CE-8FEC-06C3DC0CEA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derstanding scope in Visual FoxP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bara Pe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erty and Method Visi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– same as public for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ed – similar to private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dden – similar to local var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ublicProtectedHidden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3" descr="img1.JPG"/>
          <p:cNvPicPr/>
          <p:nvPr/>
        </p:nvPicPr>
        <p:blipFill>
          <a:blip r:embed="rId1"/>
          <a:stretch/>
        </p:blipFill>
        <p:spPr>
          <a:xfrm>
            <a:off x="1066680" y="3016080"/>
            <a:ext cx="2160720" cy="186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img1.JPG"/>
          <p:cNvPicPr/>
          <p:nvPr/>
        </p:nvPicPr>
        <p:blipFill>
          <a:blip r:embed="rId2"/>
          <a:stretch/>
        </p:blipFill>
        <p:spPr>
          <a:xfrm>
            <a:off x="4419720" y="3025800"/>
            <a:ext cx="293976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s are just a special kind of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VCX-based, SCX-based or PRG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modal or mode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EVENTS for modeless forms (Also need CLEAR EV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ope of Form Properties and Metho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X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operties and methods are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CX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make properties and methods public, protected or hid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G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e as VCX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ys to instantiate a for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3716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-214560">
              <a:spcBef>
                <a:spcPts val="55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CX-based fo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FORM MyFo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FORM MyForm NAME oSomeV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CX-based fo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omeVar = CREATEOBJECT(“MyForm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omeVar.Show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omeVar = NEWOBJECT(“MyForm”,”MyVCX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omeVar.Show(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Quiz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Ex3a,b,c,d in Exercises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lternatives to public 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t-in system variab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VFP system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no AddProperty Method—use AddProperty function instead—can’t add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_Screen system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add properties but not meth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m Manager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add properties and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S vs. THISFORM vs. PAR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reference container hierarc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fers to the current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reference objects in classes or on a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FORM refers to the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e as THIS if in a method of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amet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METERS vs. LPARA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METERS is Priv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PARAMETERS is Lo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meters() vs. Pcount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meters() is reset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yt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count() is more rel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aramex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ssing parameters by value vs. refer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O Something WITH SomeVar passes by value by defaul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hange by using DO Something WITH (SomeVar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74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omething(SomeVar) passes by reference by defaul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75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hange by using SET UDFPARM or @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Arrays must always use @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eReference.pr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ata ses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data session encapsulat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meanings of “Default data sess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nomer – should really be called “Data session 1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ataSession property of a form set to 1 – Default Data Session means use the Data session of whatever called thi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T commands and Data ses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a lot of SET commands that scope to the data session. Some 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TAL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EX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DELE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EX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MULTILOC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NU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CENTU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CONFI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 of Peisch Custom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ing SW Fox sp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MV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g out on Foxite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r columnist for FoxTalk an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er in Fox since 19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asses and Data ses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lass works in the data session in which it was instantiated unless you change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in a PRG that are not part of a class will work in the data session of whatever calls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keeping data session-sensitive functions outside of a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ameterized View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form prop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- Property is visible throughout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- Can’t open view outside of form with that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memory variable (NOT PUBLIC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 – Can open the view any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– Must remember to initialize var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lling Repo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report called from a PRG or an SCX-based form can se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anythin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that PRG/form (this includes PRG classes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5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er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5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45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ues of objects like textboxes, option grou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report called from a VCX-based form can only see public properties on the form plus all variables seen by the method that called 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report will only see the data session of what called it if it doesn’t have its own private data sess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s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portScope.prg and ReportScope.sc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ope of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alling a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one in the current PRG takes prece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VFP looks in programs named in SET PROCEDURE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n it looks at functions in the chain of PRGs that called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ly, it looks for an external program file by that name (EXE, APP, FXP then PR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iz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Test.prg and FirstPrg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ITH…ENDWI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have a RETURN command between a WITH and ENDWIT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use WITH…ENDWITH if an ON KEY LABEL is in eff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call any other function from inside a WITH…END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ternatives for WITH…ENDWITH are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WithEndwith.sc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#DEFINE and #INCLU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are a way to define constants that are compiled into the execu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private and only visible to the object/PRG in which they were decla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use #INCLUDE through dialog window for VCX and SCX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Define.prg and Define.sc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cluding components from an execu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luded components can only see PRG code in the execu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ited objects not a problem on excluded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function to call back to internal ob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yScreen.pjx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ands that accept a scop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pe” has another meaning 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s to the records proc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NEXT/ALL/REST/RECORD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pl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E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 F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BEL 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/EXPO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PL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a LOT more to this topic than you would think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pe doesn’t always work the way you expect. Experiment and te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62120" y="3362760"/>
            <a:ext cx="7635600" cy="165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o fill out your evalu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ssion slides, white paper, and code sampl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ill 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 upd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genda</a:t>
            </a:r>
            <a:br>
              <a:rPr sz="44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We’re going to cover the rules of scope for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475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93120" indent="-245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y variables (including array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93120" indent="-245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93120" indent="-245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93120" indent="-245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…ENDWITH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93120" indent="-2455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#DEFINE and #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931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371600"/>
            <a:ext cx="4038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325800" indent="-325800">
              <a:spcBef>
                <a:spcPts val="700"/>
              </a:spcBef>
              <a:buClr>
                <a:srgbClr val="00f2f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 and form properties and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700"/>
              </a:spcBef>
              <a:buClr>
                <a:srgbClr val="00f2f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700"/>
              </a:spcBef>
              <a:buClr>
                <a:srgbClr val="00f2f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700"/>
              </a:spcBef>
              <a:buClr>
                <a:srgbClr val="00f2f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ing components from execu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25800" indent="-3258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ology I’m going to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– Any procedure, function or class method that performs a ta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lare – To reserve a space in memory for a variable without setting its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ize – To set a memory variable’s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mory 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028520" indent="-205560">
              <a:spcBef>
                <a:spcPts val="55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ublic (aka Global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ible for entire VFP sessio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utomatically initialized to .F. when declar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Use VERY sparingly, if at all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55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iva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ible to current function and anything it call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Not initialized when declar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55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c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Visible for current function only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476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utomatically initialized to .F. when declare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uiz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ubAndLocal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ming conventions for 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letter is lower case and shows sc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 = global or publ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 = priv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 = loc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 = parame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letter is lower case and shows ty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= charac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 = numer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 = d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= obj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 = datetim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st is camel case (mixed case) and is a meaningful label for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examples of variable na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cMyVar – a local character vari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Today – a private date vari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pp – a global object refe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tTimeStamp – a parameter with a DateTime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Z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Exercise 1 and Exercise 2 in Exercises.pr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r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rray is a list of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VFP - can be 1 or 2 dimen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ys to create array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, DIMENSION, DECLARE, LOCAL (creates empty) – ARRAY clause is op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QL SELECT into an ar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FP Functions that send results into an arr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pe is private unless you declare otherw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ass properties and metho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roperties and methods are public by def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create your own properties and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img1.JPG"/>
          <p:cNvPicPr/>
          <p:nvPr/>
        </p:nvPicPr>
        <p:blipFill>
          <a:blip r:embed="rId1"/>
          <a:stretch/>
        </p:blipFill>
        <p:spPr>
          <a:xfrm>
            <a:off x="2943360" y="3124080"/>
            <a:ext cx="193356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img1.JPG"/>
          <p:cNvPicPr/>
          <p:nvPr/>
        </p:nvPicPr>
        <p:blipFill>
          <a:blip r:embed="rId2"/>
          <a:stretch/>
        </p:blipFill>
        <p:spPr>
          <a:xfrm>
            <a:off x="5205240" y="3025800"/>
            <a:ext cx="2414880" cy="207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2:24:56Z</dcterms:created>
  <dc:creator>Barbara Peisch</dc:creator>
  <dc:description/>
  <cp:keywords/>
  <dc:language>en-US</dc:language>
  <cp:lastModifiedBy>Barbara Peisch</cp:lastModifiedBy>
  <dcterms:modified xsi:type="dcterms:W3CDTF">2008-09-12T05:40:11Z</dcterms:modified>
  <cp:revision>122</cp:revision>
  <dc:subject>Southwest Fox 2008</dc:subject>
  <dc:title>Understanding Scope in VF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