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A125-C700-488A-B08B-9DFA4277E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848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612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1912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1912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9612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94848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9612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780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1912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780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1912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612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553080" y="6377040"/>
            <a:ext cx="25909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133720" y="5972040"/>
            <a:ext cx="4771800" cy="885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evmode.txt" TargetMode="External"/><Relationship Id="rId3" Type="http://schemas.openxmlformats.org/officeDocument/2006/relationships/hyperlink" Target="file:///Demo/Windows.h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Using the XFRX Preview Container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Barbara Peisch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Peisch Custom Softwar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380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pei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A Real Properties Dialog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YS(1037) with new second parameter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vantage: Can save settings from VF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advantage: Too many dialog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DocumentProperties AP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vantage: Shows a true properties dialo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advantage: Can’t save settings so that you can use them from VF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XFRX’s _xfPrinterProperties() method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The ultimate solution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XFRX: New parameter for PrintDocument allows you to send DEVMODE structur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Without XFRX use the SYS(1037) features for reading and writing the settings, but DocumentProperties for displaying the dialog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Other goodies included with this session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PrinterTrays.prg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pulates an array with available printers and a cursor with printer tray inform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tPrinterProperties.prg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ows programmatic change to printer propert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PrintTest.scx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mo of usage of SetPrinterProperties.pr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Acknowledgment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Martin Haluz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alvin Hsi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John Koziol, Richard Stanton and Lisa Slater Nicholl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Boudewijn Lutgerink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hristian Ehlscheid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Southwest Fox Update Pag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www.swfox.ne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s session will have web update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ctr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Please remember to fill out your evaluation.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Who Am I?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Owner of Peisch Custom Softwar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Returning SW Fox speaker and former speaker at GLGDW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Microsoft MVP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Tech Editor for WebRAD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Former columnist for CoDe and FoxTalk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Developer using Fox since 1988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What We’ll Cover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Some of the features of the XFRX preview container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okmark op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urning the second toolbar on or o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arch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Some of the challenges of using the preview container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andling multiple repor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in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An evolution of the printing process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vanced concep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Why a preview container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Easily preview multiple reports as if they were on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Search capabilities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Mix portrait and landscape reports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Why not a PDF with the free reader?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on’t have to install reader on all comput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on’t have to deal with users saving PDF files and filling up hard dri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on’t want it to be quite so easy to e-mail repor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Which form class?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an use your own form class with the Container Class on i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ocumentation says to add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thisform.cntXFRX.clearLink() to the Destro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Container won’t resize without additional co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Recommend creating a subclass of XFRX’s XFRXfrmPreview form clas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Multiple Report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In versions before 11.1, the generic preview form shows an example of running two hard coded report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Using the aRpts2Run array of the Report Object makes using multiple reports in the container generic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Other Consideration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Scoping considerations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Combining landscape and portrait reports in combination with your own listener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MyListener = CREATEOBJECT("MyListenerClass"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MyListener.IsSuccessor = .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rebuchet MS"/>
              </a:rPr>
              <a:t>loXFRXListener = xfrx("XFRX#LISTENER"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rebuchet MS"/>
              </a:rPr>
              <a:t>loXFRXListener.Successor = loMyListen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PORT FORM (toRptObject.aRpts2Run[lnRpt,1]) ; OBJECT loXFRXListen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Preview Propertie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ShowStatus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urns second toolbar on or o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ibook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1 = Disable bookmar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0 = Enable bookmarks but hide them (users need to click on the bookmark button to see them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= Enable bookmarks, always showing th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= Enable bookmarks, but show or hide them automatically based on whether or not there are bookmar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Printing Challenges with ability to change printer properties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Printing with native VFP from preview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allenge of calculating selected pa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ge breaks are differ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Use XFRX 10.2 or later for PrintDocument method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fault form allows selection of printer and pages on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ook into Print method of container to add function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Learning DocumentProperties API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DevMode</a:t>
            </a: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 a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Window.H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21:29:58Z</dcterms:created>
  <dc:creator>3M HIS</dc:creator>
  <dc:description/>
  <dc:language>en-US</dc:language>
  <cp:lastModifiedBy>Barbara Peisch</cp:lastModifiedBy>
  <dcterms:modified xsi:type="dcterms:W3CDTF">2005-09-23T06:31:31Z</dcterms:modified>
  <cp:revision>30</cp:revision>
  <dc:subject/>
  <dc:title>Slide 1</dc:title>
</cp:coreProperties>
</file>