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12384088" cy="698341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451D-3B37-4EB7-9060-BF0BCFD3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9200" y="277920"/>
            <a:ext cx="9531360" cy="11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8840" y="1871280"/>
            <a:ext cx="9242280" cy="19314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8840" y="3986640"/>
            <a:ext cx="9242280" cy="19314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41BF-0BE8-43D6-964F-E678AC38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19200" y="277920"/>
            <a:ext cx="9531360" cy="11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8840" y="1871280"/>
            <a:ext cx="4510080" cy="19314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54640" y="1871280"/>
            <a:ext cx="4510080" cy="19314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840" y="3986640"/>
            <a:ext cx="4510080" cy="19314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54640" y="3986640"/>
            <a:ext cx="4510080" cy="19314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DEF7-A9DC-4BDE-9D74-4E5234BB2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19200" y="277920"/>
            <a:ext cx="9531360" cy="11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8840" y="1871280"/>
            <a:ext cx="2975760" cy="19314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43640" y="1871280"/>
            <a:ext cx="2975760" cy="19314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68800" y="1871280"/>
            <a:ext cx="2975760" cy="19314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8840" y="3986640"/>
            <a:ext cx="2975760" cy="19314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43640" y="3986640"/>
            <a:ext cx="2975760" cy="19314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868800" y="3986640"/>
            <a:ext cx="2975760" cy="19314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5140-71AB-4C14-A013-69A9C16A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9200" y="277920"/>
            <a:ext cx="9531360" cy="11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8840" y="1871280"/>
            <a:ext cx="924228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FCE1-4EBC-443A-96DE-9A08A2BD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9200" y="277920"/>
            <a:ext cx="9531360" cy="11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8840" y="1871280"/>
            <a:ext cx="924228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0D72-5FCF-4CE1-8AB2-79F029B0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9200" y="277920"/>
            <a:ext cx="9531360" cy="11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8840" y="1871280"/>
            <a:ext cx="451008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54640" y="1871280"/>
            <a:ext cx="451008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D59C-958B-407E-9024-1D57D9FD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9200" y="277920"/>
            <a:ext cx="9531360" cy="11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0C66-EB22-4F33-98AA-63629EB3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19200" y="277920"/>
            <a:ext cx="9531360" cy="54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A8F9-F711-483C-9967-E31BE3E3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19200" y="277920"/>
            <a:ext cx="9531360" cy="11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8840" y="1871280"/>
            <a:ext cx="4510080" cy="19314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54640" y="1871280"/>
            <a:ext cx="451008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8840" y="3986640"/>
            <a:ext cx="4510080" cy="19314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477C-F52F-4B4A-A31A-1230661A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19200" y="277920"/>
            <a:ext cx="9531360" cy="11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8840" y="1871280"/>
            <a:ext cx="451008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54640" y="1871280"/>
            <a:ext cx="4510080" cy="19314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54640" y="3986640"/>
            <a:ext cx="4510080" cy="19314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00C4-356B-4EB6-AF06-C09155FB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19200" y="277920"/>
            <a:ext cx="9531360" cy="11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8840" y="1871280"/>
            <a:ext cx="4510080" cy="19314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4640" y="1871280"/>
            <a:ext cx="4510080" cy="19314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8840" y="3986640"/>
            <a:ext cx="9242280" cy="19314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F453-11F8-419C-8DCA-BD9CA5C0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532560" y="3692520"/>
            <a:ext cx="5851440" cy="32907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-144360" y="120600"/>
            <a:ext cx="10439280" cy="160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19200" y="277920"/>
            <a:ext cx="9531360" cy="11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URW Gothic 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18840" y="1871280"/>
            <a:ext cx="924228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9200" y="6362640"/>
            <a:ext cx="2882880" cy="4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235040" y="6362640"/>
            <a:ext cx="3924360" cy="4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879040" y="6362640"/>
            <a:ext cx="2882880" cy="4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08A2B-5CC1-4959-A5F6-6035CC566C6D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mailto:michael@realtimedata.co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Who am I?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 fontScale="90000"/>
          </a:bodyPr>
          <a:p>
            <a:pPr marL="388440" indent="-2912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Michael Cumm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Owner Real Time Data In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tarted with FoxPro in Dos 199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Wrote my first Socket Server 199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ought Stock Market Data Service Company 2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Data Service has Real Time and End of Day Serv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0">
              <a:lnSpc>
                <a:spcPct val="93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(TCP Socket Servers, and HTTP Server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We write custom programs for Web, Desktops, Servers, Tablet and Phone apps for iOS and Andro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0">
              <a:lnSpc>
                <a:spcPct val="93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Show Me the Code!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Helloworld.js:  (Complete Web Server in Nod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ourier New"/>
              </a:rPr>
              <a:t>var http = require('http'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ourier New"/>
              </a:rPr>
              <a:t>http.createServer(function(req, res) {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3000" spc="-1" strike="noStrike">
                <a:solidFill>
                  <a:srgbClr val="000000"/>
                </a:solidFill>
                <a:latin typeface="Courier New"/>
              </a:rPr>
              <a:t>res.writeHead(200, {'Content-Type' : 'text/plain'}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3000" spc="-1" strike="noStrike">
                <a:solidFill>
                  <a:srgbClr val="000000"/>
                </a:solidFill>
                <a:latin typeface="Courier New"/>
              </a:rPr>
              <a:t>res.end('Hello World!\n'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ourier New"/>
              </a:rPr>
              <a:t>}).listen(1337, '127.0.0.1'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79640" y="6119640"/>
            <a:ext cx="561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rom 'Node: Up and Running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Node's HTTP Server is Low Level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Node provides a very low level HTTP ser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You are responsible for everyth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You have to write HTTP hea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You are responsible for URL rou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t would take a long time to make a useful site if you did it using what comes inside node itself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How to get a more advanced HTTP serv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Node has Modules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npm = Node Package Manager at npmjs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63640" y="2376360"/>
            <a:ext cx="7632720" cy="4176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987640" y="3959280"/>
            <a:ext cx="2052720" cy="431640"/>
          </a:xfrm>
          <a:prstGeom prst="ellips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Node has a Community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Github hosts  thousands of projects  github.c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36720" y="2448000"/>
            <a:ext cx="8856720" cy="31384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714840" y="4751280"/>
            <a:ext cx="3989160" cy="647640"/>
          </a:xfrm>
          <a:prstGeom prst="ellips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Node has Momentum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24000" y="1728720"/>
            <a:ext cx="7632720" cy="45482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11200" y="2952720"/>
            <a:ext cx="1828800" cy="432000"/>
          </a:xfrm>
          <a:prstGeom prst="ellips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Express is a Cool HTTP Server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 fontScale="90000"/>
          </a:bodyPr>
          <a:p>
            <a:pPr marL="388440" indent="-2912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Express handl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tandard HTTP Hea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tatic Pages &amp; Template P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Routing URL to your page or you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Express is more primitive than IIS or Ap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Express gives you more control and responsibility than IIS or Ap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$ sudo npm install -g ex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(Node Package Manager) („-g“ = global install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Mini Express HTTP App </a:t>
            </a:r>
            <a:br>
              <a:rPr sz="4100"/>
            </a:b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Traditional Request &gt; Response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helloexpress.j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var express = require('express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var app = express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app.get('/', function(req, re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res.send("Hello Express!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app.listen(133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console.log("Express on port 1338"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79640" y="6119640"/>
            <a:ext cx="561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rom 'Node: Up and Running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Real Time Web Sites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Real Time Web Sites ne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tatic Pages and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Template P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Live Update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Express has all that, except the live upda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Real Time Web Sites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Live Ch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Live Stock Market Qu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Live Updates – Users see changes instant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Message based, not pol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o traffic if no upd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o constant polling database for upd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upports thousands of live connected client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Challenges for Real Time Sites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 fontScale="97000"/>
          </a:bodyPr>
          <a:p>
            <a:pPr marL="418680" indent="-31392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HTTP:</a:t>
            </a:r>
            <a:br>
              <a:rPr sz="3000"/>
            </a:b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Connect &gt; Request &gt; Response &gt; Disconn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We cannot push real time updates on a disconnected socke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Faking it by client poll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7720" indent="-31428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HTTP connect/disconnect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7720" indent="-31428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Each client connection consumes resources on ser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7720" indent="-31428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Typically reads from a database and expands a templa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144720" y="287280"/>
            <a:ext cx="10007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Node?</a:t>
            </a:r>
            <a:br>
              <a:rPr sz="4100"/>
            </a:b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Real-Time Web Apps?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36720" y="2663640"/>
            <a:ext cx="1089792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Is Node a programming languag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Is Node a web serv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Is Node a socket serv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Client Polling is a Resource Hog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Consumes and discards socke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Each connection consumes and discards significant server memo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Rebuilding the content from a database query and a template file keeps the disk bus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Most polling requests don't get new data anyhow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TCP Socket is Better than Polling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 fontScale="91000"/>
          </a:bodyPr>
          <a:p>
            <a:pPr marL="392760" indent="-29448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Keep an open tcp socket to push updat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Plain TCP Socket on the server does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9484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Open the connection and keep it op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9484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Easy to code a TCP server with Node (but there is a better wa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9484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Easy enough to debug with Telnet cli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9484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rowers and browser javascript do not have sock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9484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Various work-arounds like flash sockets make a usable socket in browser javascript. (but there is a better wa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Simple Standalone TCP Server</a:t>
            </a:r>
            <a:br>
              <a:rPr sz="4100"/>
            </a:b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(Raw TCP Sockets)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 fontScale="89000"/>
          </a:bodyPr>
          <a:p>
            <a:pPr marL="38412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cpserver.js  (can accept telnet connec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var net = require('net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var chatServer = net.createServ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chatServer.on('connection'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function(client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client.write('Hi!\n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client.write('Bye!\n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client.end();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chatServer.listen(900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console.log("Listening on port 9000"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08000" y="6421320"/>
            <a:ext cx="5616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rom 'Node: Up and Running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The Better Way!</a:t>
            </a:r>
            <a:br>
              <a:rPr sz="4100"/>
            </a:b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Node.js + Socket.io 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 fontScale="91000"/>
          </a:bodyPr>
          <a:p>
            <a:pPr marL="392760" indent="-29448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HTML5 has WebSockets</a:t>
            </a:r>
            <a:br>
              <a:rPr sz="3000"/>
            </a:b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Not all browsers support WebSock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Socket.io is WebSocket-like API for many/most browsers and devices regardless if the browser supports HTML5 WebSockets or no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Socket.io works in iOS and Android Phones, Tablets, Mac, P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Socket.io and Node Web Server can share the </a:t>
            </a:r>
            <a:br>
              <a:rPr sz="3000"/>
            </a:b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same socket and port on the serve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Chat Server Example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 fontScale="82000"/>
          </a:bodyPr>
          <a:p>
            <a:pPr marL="353880" indent="-26532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Chat Servers are the archetype of real-time server.</a:t>
            </a:r>
            <a:br>
              <a:rPr sz="3000"/>
            </a:b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If you can code a chat server, you can code a real-time web si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3880" indent="-26532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Chat Server example files: app.js and index.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3880" indent="-26532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Courtesy of Michael Muhkin</a:t>
            </a: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http://psitsmike.com/2011/09/node-js-and-socket-io-chat-tutorial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3880" indent="-26532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Changes for Express 3 Courtesy of Michael Moeller</a:t>
            </a:r>
            <a:br>
              <a:rPr sz="3000"/>
            </a:b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http://stackoverflow.com/questions/14284668/simple-express-3-x-socket-io-ch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HTTP and TCP Sharing the Same Socket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Two protocols sharing the same socket and port, using Express and Socket.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var express = require('express'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http = require('http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var app = express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var server = http.createServer(app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var io = require('socket.io').listen(serve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server.listen(80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56360" y="3816360"/>
            <a:ext cx="4208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Socket.io eavesdropping on http serv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398560" y="4032360"/>
            <a:ext cx="1659240" cy="57600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79640" y="5975280"/>
            <a:ext cx="4176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Code from Muhkin and Mo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Serve the HTML Page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app.get() sets up a URL event hand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res.sendfile() sends out a file from dis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app.get('/', function (req, re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res.sendfile(__dirname + '/index.html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79640" y="5975280"/>
            <a:ext cx="4176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Code from Muhkin and Mo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Set Up each Socket on 'connection' event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New sockets arrive raw – we have to assign properties and event handl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io.sockets = collection of sock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The newly connected socket is passed as a parameter to the 'connection' handle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io.sockets.on('connection', function (</a:t>
            </a:r>
            <a:r>
              <a:rPr b="0" lang="de-DE" sz="2200" spc="-1" strike="noStrike">
                <a:solidFill>
                  <a:srgbClr val="ff0000"/>
                </a:solidFill>
                <a:latin typeface="Courier New"/>
              </a:rPr>
              <a:t>socket</a:t>
            </a: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) {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64000" y="4319640"/>
            <a:ext cx="4824360" cy="720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79640" y="5975280"/>
            <a:ext cx="4176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Code from Muhkin and Mo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Server Side Messages</a:t>
            </a:r>
            <a:br>
              <a:rPr sz="4100"/>
            </a:b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Messages are Events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For our simple chat server, each socket on the server only needs to handle 3 messag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'sendchat', 'adduser', 'disconnect'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ttach an anonymous function to each message even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socket.on('sendchat', function (data) {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          io.sockets.emit('updatechat',  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                 socket.username, data); }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socket.on('adduser', function(username){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socket.on('disconnect', function(){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79640" y="5975280"/>
            <a:ext cx="4176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Code from Muhkin and Mo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Client Side Messages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 fontScale="96000"/>
          </a:bodyPr>
          <a:p>
            <a:pPr marL="414360" indent="-31068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Client only handles 3 messag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9080" indent="-31104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'connect', 'updatechat', 'updateusers'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'connect' sends an 'adduser' message to server</a:t>
            </a:r>
            <a:br>
              <a:rPr sz="3000"/>
            </a:b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  socket.on('connect', function(){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        socket.emit('adduser', prompt("What's your 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                                          name?")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'updatechat' and 'updateusers' use some jQuery magic to append content to a div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$('#conversation').append(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79640" y="5975280"/>
            <a:ext cx="4176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Code from Muhkin and Mo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Node runs Javascript 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 fontScale="97000"/>
          </a:bodyPr>
          <a:p>
            <a:pPr marL="4186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Node is a command line program that runs your javascript. Your javascript has full access to everything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Javascript in the browser is sandboxed and canno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7720" indent="-31428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Open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7720" indent="-31428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Open Sock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7720" indent="-31428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ccess the Operating Syste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86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Node for Web Apps!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Node is total overkill for a simple brochure si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Node + Socket.io overcomes HTTP limitations of the request &gt; response mod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The days of Windows apps being 'richer' than web apps are OVER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The Browser is a big canvas to draw whatever you can dream u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References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 fontScale="82000"/>
          </a:bodyPr>
          <a:p>
            <a:pPr marL="353880" indent="-26532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'Node: Up and Running' Tom Hughes-Croucher</a:t>
            </a:r>
            <a:br>
              <a:rPr sz="3000"/>
            </a:b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O'REILLY Boo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3880" indent="-26532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'JavaScript: The Good Parts' Douglas Crockford</a:t>
            </a:r>
            <a:br>
              <a:rPr sz="3000"/>
            </a:b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O'REILLY Boo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3880" indent="-26532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Chat Server courtesy of Michael Muhkin</a:t>
            </a:r>
            <a:br>
              <a:rPr sz="3000"/>
            </a:b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http://psitsmike.com/2011/09/node-js-and-socket-io-chat-tutorial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3880" indent="-26532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Changes for Express 3 Courtesy of Michael Moeller  http://stackoverflow.com/questions/14284668/simple-express-3-x-socket-io-ch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Contact Me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Michael Cummings</a:t>
            </a:r>
            <a:br>
              <a:rPr sz="3000"/>
            </a:b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Real Time Data Inc.</a:t>
            </a:r>
            <a:br>
              <a:rPr sz="3000"/>
            </a:b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Round Rock, Texas </a:t>
            </a:r>
            <a:br>
              <a:rPr sz="3000"/>
            </a:b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512-903-3180</a:t>
            </a:r>
            <a:br>
              <a:rPr sz="3000"/>
            </a:br>
            <a:r>
              <a:rPr b="0" lang="de-DE" sz="3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michael@realtimedata.com</a:t>
            </a:r>
            <a:br>
              <a:rPr sz="3000"/>
            </a:b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rtdmobile.com, realtimedata.c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Javascript Runs in the Browser, Right?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9200" y="237636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Javascript runs in a scripting eng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Javascript can run anywhe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You could add a Javascript engine to your Windows programs if you wan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Javascript is a Pain in the A**, Right?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 fontScale="96000"/>
          </a:bodyPr>
          <a:p>
            <a:pPr marL="41436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The DOM – Document Object Model is not identical between browsers, or browser vers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The Javascript interpreters are different between browsers and vers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The real pain is writing all the work-arounds to make it work in all brows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Node runs on the server, and has none of that pa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Javascript is Beautiful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9200" y="190800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And it is ugly at the same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We have all seen beautiful, expressive languages with warts.  This is another o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Javascript's Anonymous Functions are a great fit for the Async nature of Nod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Read 'Javascript: the Good Parts'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9200" y="277920"/>
            <a:ext cx="5068800" cy="6418080"/>
          </a:xfrm>
          <a:prstGeom prst="rect">
            <a:avLst/>
          </a:prstGeom>
          <a:ln w="9360">
            <a:solidFill>
              <a:srgbClr val="333333"/>
            </a:solidFill>
            <a:round/>
          </a:ln>
        </p:spPr>
      </p:pic>
      <p:sp>
        <p:nvSpPr>
          <p:cNvPr id="58" name=""/>
          <p:cNvSpPr/>
          <p:nvPr/>
        </p:nvSpPr>
        <p:spPr>
          <a:xfrm>
            <a:off x="619200" y="277920"/>
            <a:ext cx="1440" cy="6418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Ok, So What is Node?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Node is a command line program that runs your Javascript using Google's super fast V8 engi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Node provides all the stuff that javascript in the browser does not allow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File Ac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Database Ac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TCP Sockets and Server Ob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Node is Magical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9200" y="223200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 fontScale="94000"/>
          </a:bodyPr>
          <a:p>
            <a:pPr marL="405720" indent="-30420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Node is high performance in few lines of cod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5720" indent="-30420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Node runs on Linux, Mac, Windows and Toasters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5720" indent="-30420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With node, you can writ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11800" indent="-30456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ommand line util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1800" indent="-30456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HTTP Serv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1800" indent="-30456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ocket Serv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1800" indent="-30456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ombined HTTP / Socket Serv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1800" indent="-30456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Real Time Web Si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36720" y="6421320"/>
            <a:ext cx="6102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* http://voodootikigod.com/nodebots-the-rise-of-js-robotic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01:00:00Z</dcterms:created>
  <dc:creator>Michael Cummings</dc:creator>
  <dc:description/>
  <dc:language>en-US</dc:language>
  <cp:lastModifiedBy>Michael Cummings</cp:lastModifiedBy>
  <dcterms:modified xsi:type="dcterms:W3CDTF">2013-03-22T01:41:14Z</dcterms:modified>
  <cp:revision>22</cp:revision>
  <dc:subject/>
  <dc:title/>
</cp:coreProperties>
</file>