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326C-C226-4E58-A282-03B8474D023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75AE-CED1-4D2D-8164-3B871052A3A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30080" y="191880"/>
            <a:ext cx="71326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30080" y="1042560"/>
            <a:ext cx="7140600" cy="217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630080" y="3420720"/>
            <a:ext cx="7140600" cy="217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30080" y="191880"/>
            <a:ext cx="71326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30080" y="1042560"/>
            <a:ext cx="3484440" cy="217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89120" y="1042560"/>
            <a:ext cx="3484440" cy="217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630080" y="3420720"/>
            <a:ext cx="3484440" cy="217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89120" y="3420720"/>
            <a:ext cx="3484440" cy="217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30080" y="191880"/>
            <a:ext cx="71326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30080" y="1042560"/>
            <a:ext cx="2298960" cy="217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44240" y="1042560"/>
            <a:ext cx="2298960" cy="217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58760" y="1042560"/>
            <a:ext cx="2298960" cy="217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630080" y="3420720"/>
            <a:ext cx="2298960" cy="217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044240" y="3420720"/>
            <a:ext cx="2298960" cy="217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58760" y="3420720"/>
            <a:ext cx="2298960" cy="217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30080" y="191880"/>
            <a:ext cx="71326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630080" y="1042560"/>
            <a:ext cx="7140600" cy="45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30080" y="191880"/>
            <a:ext cx="71326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630080" y="1042560"/>
            <a:ext cx="714060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30080" y="191880"/>
            <a:ext cx="71326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30080" y="1042560"/>
            <a:ext cx="348444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89120" y="1042560"/>
            <a:ext cx="348444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30080" y="191880"/>
            <a:ext cx="71326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630080" y="233280"/>
            <a:ext cx="713268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30080" y="191880"/>
            <a:ext cx="71326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30080" y="1042560"/>
            <a:ext cx="3484440" cy="217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89120" y="1042560"/>
            <a:ext cx="348444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630080" y="3420720"/>
            <a:ext cx="3484440" cy="217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30080" y="191880"/>
            <a:ext cx="71326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30080" y="1042560"/>
            <a:ext cx="348444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89120" y="1042560"/>
            <a:ext cx="3484440" cy="217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89120" y="3420720"/>
            <a:ext cx="3484440" cy="217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30080" y="191880"/>
            <a:ext cx="71326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30080" y="1042560"/>
            <a:ext cx="3484440" cy="217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89120" y="1042560"/>
            <a:ext cx="3484440" cy="217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630080" y="3420720"/>
            <a:ext cx="7140600" cy="217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30080" y="23328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30080" y="1042560"/>
            <a:ext cx="714060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054080" indent="-18576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3" marL="1430280" indent="-18576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4" marL="1809720" indent="-18900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5" marL="1809720" indent="-18900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6" marL="1809720" indent="-18900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914800" y="6076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ightline Computers In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kron, OH,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41240" y="939960"/>
            <a:ext cx="7283160" cy="15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mplementing Design Patterns in Visual FoxPro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14240" y="3331800"/>
            <a:ext cx="7335720" cy="233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esented by 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ndy Kramek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ightline Computers, Inc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30080" y="23328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trategy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30080" y="1042560"/>
            <a:ext cx="714060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cond most common pattern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can we cope with multiple options?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ent: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To decouple an implementation from its client so that different implementations can be applied dynamically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ree component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Abstract Strategy </a:t>
            </a:r>
            <a:r>
              <a:rPr b="1" lang="en-US" sz="2200" spc="-1" strike="noStrike">
                <a:solidFill>
                  <a:srgbClr val="ffff00"/>
                </a:solidFill>
                <a:latin typeface="Wingdings"/>
                <a:ea typeface="Wingdings"/>
              </a:rPr>
              <a:t>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interface/generic code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oncrete Strategy </a:t>
            </a:r>
            <a:r>
              <a:rPr b="1" lang="en-US" sz="2200" spc="-1" strike="noStrike">
                <a:solidFill>
                  <a:srgbClr val="ffff00"/>
                </a:solidFill>
                <a:latin typeface="Wingdings"/>
                <a:ea typeface="Wingdings"/>
              </a:rPr>
              <a:t>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an implementation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ontext </a:t>
            </a:r>
            <a:r>
              <a:rPr b="1" lang="en-US" sz="2200" spc="-1" strike="noStrike">
                <a:solidFill>
                  <a:srgbClr val="ffff00"/>
                </a:solidFill>
                <a:latin typeface="Wingdings"/>
                <a:ea typeface="Wingdings"/>
              </a:rPr>
              <a:t>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hold reference to implementation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30080" y="23328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trategy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57080" y="1244520"/>
            <a:ext cx="8213760" cy="4337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30080" y="23328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trategy - Summary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30080" y="1042560"/>
            <a:ext cx="714060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nefit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voids embedding alternatives in code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nimizes number of active objects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rawback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Requires a repository of available classes in order to decide which to instantiate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Participants must share a common interface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30080" y="23328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bstract Factory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30080" y="1042560"/>
            <a:ext cx="714060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ed to data drive object instantiation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void hard-coding class names in applications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ent: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Provide an interface for creating families of related or dependent objects without specifying their concrete classes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ree component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lient </a:t>
            </a:r>
            <a:r>
              <a:rPr b="1" lang="en-US" sz="2200" spc="-1" strike="noStrike">
                <a:solidFill>
                  <a:srgbClr val="ffff00"/>
                </a:solidFill>
                <a:latin typeface="Wingdings"/>
                <a:ea typeface="Wingdings"/>
              </a:rPr>
              <a:t>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generates the key for the required object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Metada </a:t>
            </a:r>
            <a:r>
              <a:rPr b="1" lang="en-US" sz="2200" spc="-1" strike="noStrike">
                <a:solidFill>
                  <a:srgbClr val="ffff00"/>
                </a:solidFill>
                <a:latin typeface="Wingdings"/>
                <a:ea typeface="Wingdings"/>
              </a:rPr>
              <a:t>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relates keys to specific classes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Factory </a:t>
            </a:r>
            <a:r>
              <a:rPr b="1" lang="en-US" sz="2200" spc="-1" strike="noStrike">
                <a:solidFill>
                  <a:srgbClr val="ffff00"/>
                </a:solidFill>
                <a:latin typeface="Wingdings"/>
                <a:ea typeface="Wingdings"/>
              </a:rPr>
              <a:t>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resolves key and instantiates class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30080" y="23328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bstract Factory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50960" y="2443320"/>
          <a:ext cx="7891560" cy="190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0960" y="2443320"/>
                    <a:ext cx="7891560" cy="19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30080" y="23328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bstract Factory - Summary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30080" y="1042560"/>
            <a:ext cx="714060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nefit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voids hard-coding class names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es changing implementation very easy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rawback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Must maintain the metadata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Requires additional (global) object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30080" y="23328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ain of Responsibility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30080" y="1042560"/>
            <a:ext cx="714060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 single object can’t always do it al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nctionality may be distributed among objects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ent: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To decouple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ender of a request from the recipient, giving more than one object a chance to handle it 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wo component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lient </a:t>
            </a:r>
            <a:r>
              <a:rPr b="1" lang="en-US" sz="2200" spc="-1" strike="noStrike">
                <a:solidFill>
                  <a:srgbClr val="ffff00"/>
                </a:solidFill>
                <a:latin typeface="Wingdings"/>
                <a:ea typeface="Wingdings"/>
              </a:rPr>
              <a:t>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sends a request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Handler(s) </a:t>
            </a:r>
            <a:r>
              <a:rPr b="1" lang="en-US" sz="2200" spc="-1" strike="noStrike">
                <a:solidFill>
                  <a:srgbClr val="ffff00"/>
                </a:solidFill>
                <a:latin typeface="Wingdings"/>
                <a:ea typeface="Wingdings"/>
              </a:rPr>
              <a:t>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Assess request and act on it if capable of doing so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30080" y="23328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ain of Responsibility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55480" y="2117880"/>
            <a:ext cx="8245800" cy="2436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30080" y="23328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hain of Responsibility - Summary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30080" y="1042560"/>
            <a:ext cx="714060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nefit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sily, and even dynamically, extensible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vide functionality without explicit code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rawback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Participants must have common interface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Increases the number of active objects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30080" y="23328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ecorator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30080" y="1042560"/>
            <a:ext cx="714060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wo main scenarios: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ed to change functionality, but no access to the source code (e.g. ActiveX Control)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ndle exceptions without sub-classing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ent: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attach additional functionality to an object dynamically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wo component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Implementation </a:t>
            </a:r>
            <a:r>
              <a:rPr b="1" lang="en-US" sz="2200" spc="-1" strike="noStrike">
                <a:solidFill>
                  <a:srgbClr val="ffff00"/>
                </a:solidFill>
                <a:latin typeface="Wingdings"/>
                <a:ea typeface="Wingdings"/>
              </a:rPr>
              <a:t>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Basic functionality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Decorator </a:t>
            </a:r>
            <a:r>
              <a:rPr b="1" lang="en-US" sz="2200" spc="-1" strike="noStrike">
                <a:solidFill>
                  <a:srgbClr val="ffff00"/>
                </a:solidFill>
                <a:latin typeface="Wingdings"/>
                <a:ea typeface="Wingdings"/>
              </a:rPr>
              <a:t>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Mimic interface; add functionality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630440" y="939600"/>
            <a:ext cx="7278480" cy="44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dependent Consultant since 1993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icrosoft MVP since 1996 and MCP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-Author of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egaFox: 1002 TYWTKA Extending VFP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001 Things YWTKA VFP(Kilofox)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evolutionary Guide to VFP OOP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oxTalk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Kitbox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Column since April 1998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peaker at User Groups/Conference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GLGDW (WhilFest) [2000/01/02/03]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ssential Fox [2002/03/04]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dvisor DevCon [2001/02]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ondon, Frankfurt, Amsterdam, Prague, Sydney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9" name="MVPLogo" descr=""/>
          <p:cNvPicPr/>
          <p:nvPr/>
        </p:nvPicPr>
        <p:blipFill>
          <a:blip r:embed="rId2"/>
          <a:stretch/>
        </p:blipFill>
        <p:spPr>
          <a:xfrm>
            <a:off x="8001000" y="237960"/>
            <a:ext cx="990720" cy="865440"/>
          </a:xfrm>
          <a:prstGeom prst="rect">
            <a:avLst/>
          </a:prstGeom>
          <a:ln w="0">
            <a:noFill/>
          </a:ln>
        </p:spPr>
      </p:pic>
      <p:pic>
        <p:nvPicPr>
          <p:cNvPr id="50" name="MCP_c" descr=""/>
          <p:cNvPicPr/>
          <p:nvPr/>
        </p:nvPicPr>
        <p:blipFill>
          <a:blip r:embed="rId3"/>
          <a:stretch/>
        </p:blipFill>
        <p:spPr>
          <a:xfrm>
            <a:off x="7315200" y="1266840"/>
            <a:ext cx="1676520" cy="419040"/>
          </a:xfrm>
          <a:prstGeom prst="rect">
            <a:avLst/>
          </a:prstGeom>
          <a:ln w="0">
            <a:noFill/>
          </a:ln>
        </p:spPr>
      </p:pic>
      <p:pic>
        <p:nvPicPr>
          <p:cNvPr id="51" name="REvGuide" descr=""/>
          <p:cNvPicPr/>
          <p:nvPr/>
        </p:nvPicPr>
        <p:blipFill>
          <a:blip r:embed="rId4"/>
          <a:stretch/>
        </p:blipFill>
        <p:spPr>
          <a:xfrm>
            <a:off x="146160" y="5000760"/>
            <a:ext cx="1231920" cy="1600200"/>
          </a:xfrm>
          <a:prstGeom prst="rect">
            <a:avLst/>
          </a:prstGeom>
          <a:ln w="0">
            <a:noFill/>
          </a:ln>
        </p:spPr>
      </p:pic>
      <p:pic>
        <p:nvPicPr>
          <p:cNvPr id="52" name="kilofoxcover" descr=""/>
          <p:cNvPicPr/>
          <p:nvPr/>
        </p:nvPicPr>
        <p:blipFill>
          <a:blip r:embed="rId5"/>
          <a:stretch/>
        </p:blipFill>
        <p:spPr>
          <a:xfrm>
            <a:off x="135000" y="3097080"/>
            <a:ext cx="1255680" cy="1676520"/>
          </a:xfrm>
          <a:prstGeom prst="rect">
            <a:avLst/>
          </a:prstGeom>
          <a:ln w="0">
            <a:noFill/>
          </a:ln>
        </p:spPr>
      </p:pic>
      <p:pic>
        <p:nvPicPr>
          <p:cNvPr id="53" name="megafoxcover" descr=""/>
          <p:cNvPicPr/>
          <p:nvPr/>
        </p:nvPicPr>
        <p:blipFill>
          <a:blip r:embed="rId6"/>
          <a:stretch/>
        </p:blipFill>
        <p:spPr>
          <a:xfrm>
            <a:off x="139680" y="1266840"/>
            <a:ext cx="1246320" cy="1603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1630080" y="23328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o Am I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30080" y="23328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ecorator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85720" y="2133720"/>
            <a:ext cx="8228160" cy="217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30080" y="23328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ecorator -Summary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30080" y="1042560"/>
            <a:ext cx="714060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nefit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pe with exceptions without needing to change class code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nly way to add functionality to objects to which we do not have source code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awback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ditional object and object reference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30080" y="23328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dapter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30080" y="1042560"/>
            <a:ext cx="714060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anges happen!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anges to interfaces can break existing code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ent: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e the interface of an object look like the one that clients expect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wo component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Adaptee </a:t>
            </a:r>
            <a:r>
              <a:rPr b="1" lang="en-US" sz="2200" spc="-1" strike="noStrike">
                <a:solidFill>
                  <a:srgbClr val="ffff00"/>
                </a:solidFill>
                <a:latin typeface="Wingdings"/>
                <a:ea typeface="Wingdings"/>
              </a:rPr>
              <a:t>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Original Class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Adapter </a:t>
            </a:r>
            <a:r>
              <a:rPr b="1" lang="en-US" sz="2200" spc="-1" strike="noStrike">
                <a:solidFill>
                  <a:srgbClr val="ffff00"/>
                </a:solidFill>
                <a:latin typeface="Wingdings"/>
                <a:ea typeface="Wingdings"/>
              </a:rPr>
              <a:t>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Provide interface translation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30080" y="23328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dapter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85720" y="2133720"/>
            <a:ext cx="8218440" cy="2235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30080" y="23328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dapter -Summary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30080" y="1042560"/>
            <a:ext cx="714060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nefit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voids the need to make retrospective changes when interfaces change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ows objects with differing interfaces to interact with a single client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awback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ditional object and object reference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30080" y="23328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rapper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30080" y="1042560"/>
            <a:ext cx="714060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 pattern in its own right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s as a “server” for other objects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ent: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vide services and management functions for an object or collection of objects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wo component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Wrapper </a:t>
            </a:r>
            <a:r>
              <a:rPr b="1" lang="en-US" sz="2200" spc="-1" strike="noStrike">
                <a:solidFill>
                  <a:srgbClr val="ffff00"/>
                </a:solidFill>
                <a:latin typeface="Wingdings"/>
                <a:ea typeface="Wingdings"/>
              </a:rPr>
              <a:t>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Management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Implementation</a:t>
            </a:r>
            <a:r>
              <a:rPr b="1" lang="en-US" sz="2200" spc="-1" strike="noStrike">
                <a:solidFill>
                  <a:srgbClr val="ffff00"/>
                </a:solidFill>
                <a:latin typeface="Wingdings"/>
                <a:ea typeface="Wingdings"/>
              </a:rPr>
              <a:t>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Functionality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30080" y="23328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rapper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85720" y="2133720"/>
            <a:ext cx="8213760" cy="1612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30080" y="23328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rapper -Summary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30080" y="1042560"/>
            <a:ext cx="714060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nefit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vide object for functionality that is not defined directly (e.g. API functions) 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vide management and services for collections of objects with same lexical scope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awback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de may be indirect, harder to maintain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oduces an extra layer of referencing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30080" y="23328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nclusion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30080" y="1042560"/>
            <a:ext cx="714060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tterns address design problem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t solutions, give “templates” for solutions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problems and their associated pattern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rd coded implementation </a:t>
            </a:r>
            <a:r>
              <a:rPr b="1" lang="en-US" sz="2200" spc="-1" strike="noStrike">
                <a:solidFill>
                  <a:srgbClr val="ffff00"/>
                </a:solidFill>
                <a:latin typeface="Wingdings"/>
                <a:ea typeface="Wingdings"/>
              </a:rPr>
              <a:t>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ridge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ditional implementation </a:t>
            </a:r>
            <a:r>
              <a:rPr b="1" lang="en-US" sz="2200" spc="-1" strike="noStrike">
                <a:solidFill>
                  <a:srgbClr val="ffff00"/>
                </a:solidFill>
                <a:latin typeface="Wingdings"/>
                <a:ea typeface="Wingdings"/>
              </a:rPr>
              <a:t>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Strategy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Unlimited options </a:t>
            </a:r>
            <a:r>
              <a:rPr b="1" lang="en-US" sz="2200" spc="-1" strike="noStrike">
                <a:solidFill>
                  <a:srgbClr val="ffff00"/>
                </a:solidFill>
                <a:latin typeface="Wingdings"/>
                <a:ea typeface="Wingdings"/>
              </a:rPr>
              <a:t>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hain of Responsibility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Exceptional behavior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Wingdings"/>
                <a:ea typeface="Wingdings"/>
              </a:rPr>
              <a:t>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Decorator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Design changes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Wingdings"/>
                <a:ea typeface="Wingdings"/>
              </a:rPr>
              <a:t>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Adapter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Manage functionality </a:t>
            </a:r>
            <a:r>
              <a:rPr b="1" lang="en-US" sz="2200" spc="-1" strike="noStrike">
                <a:solidFill>
                  <a:srgbClr val="ffff00"/>
                </a:solidFill>
                <a:latin typeface="Wingdings"/>
                <a:ea typeface="Wingdings"/>
              </a:rPr>
              <a:t>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Wrapper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BD06663_" descr=""/>
          <p:cNvPicPr/>
          <p:nvPr/>
        </p:nvPicPr>
        <p:blipFill>
          <a:blip r:embed="rId2"/>
          <a:stretch/>
        </p:blipFill>
        <p:spPr>
          <a:xfrm>
            <a:off x="1617840" y="41400"/>
            <a:ext cx="7014960" cy="5763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 rot="488400">
            <a:off x="1820520" y="3409920"/>
            <a:ext cx="465768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Questions?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30080" y="23328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ession Overview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30440" y="1042560"/>
            <a:ext cx="6308640" cy="39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5840" indent="-28584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evel: Intermediate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epth: How-To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fficulty Level: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quired Knowledge: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71040" indent="-196200">
              <a:spcBef>
                <a:spcPts val="150"/>
              </a:spcBef>
              <a:spcAft>
                <a:spcPts val="150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rinciples of OOP and Class Design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1040" indent="-196200">
              <a:spcBef>
                <a:spcPts val="150"/>
              </a:spcBef>
              <a:spcAft>
                <a:spcPts val="150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orking with object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38320" y="2936880"/>
            <a:ext cx="6248520" cy="3049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62360" y="24987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00080" y="249876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65640" y="3047760"/>
            <a:ext cx="0" cy="533160"/>
          </a:xfrm>
          <a:prstGeom prst="line">
            <a:avLst/>
          </a:prstGeom>
          <a:ln w="10152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30080" y="23328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genda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30080" y="1042920"/>
            <a:ext cx="666756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5840" indent="-28584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hat is a Design Pattern?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ey Pattern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71040" indent="-196200">
              <a:spcBef>
                <a:spcPts val="150"/>
              </a:spcBef>
              <a:spcAft>
                <a:spcPts val="150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ridge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1040" indent="-196200">
              <a:spcBef>
                <a:spcPts val="150"/>
              </a:spcBef>
              <a:spcAft>
                <a:spcPts val="150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trategy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1040" indent="-196200">
              <a:spcBef>
                <a:spcPts val="150"/>
              </a:spcBef>
              <a:spcAft>
                <a:spcPts val="150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ctory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1040" indent="-196200">
              <a:spcBef>
                <a:spcPts val="150"/>
              </a:spcBef>
              <a:spcAft>
                <a:spcPts val="150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hain of Responsibility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1040" indent="-196200">
              <a:spcBef>
                <a:spcPts val="150"/>
              </a:spcBef>
              <a:spcAft>
                <a:spcPts val="150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ecorator and Adapter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1040" indent="-196200">
              <a:spcBef>
                <a:spcPts val="150"/>
              </a:spcBef>
              <a:spcAft>
                <a:spcPts val="150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rapper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clusion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Question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30080" y="23328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is a Design Pattern?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30080" y="1042560"/>
            <a:ext cx="714060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224"/>
              </a:spcBef>
              <a:spcAft>
                <a:spcPts val="224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esign Patterns: Elements of Reusable Object-Oriented Software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y Erich Gamma, Richard Helm, Ralph Johnson and John Vlissides  (aka “The Gang of Four”)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249"/>
              </a:spcBef>
              <a:spcAft>
                <a:spcPts val="2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efines 24 Standard Patterns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249"/>
              </a:spcBef>
              <a:spcAft>
                <a:spcPts val="2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efinition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50"/>
              </a:spcBef>
              <a:spcAft>
                <a:spcPts val="150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 design pattern names, abstracts, and identifies the key aspects of a common design structure that make it useful for creating a reusable object-oriented design. The design pattern identifies the participating classes and instances, their roles and collaborations, and the distribution of responsibilities.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249"/>
              </a:spcBef>
              <a:spcAft>
                <a:spcPts val="2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ncapsulates the 4 key elements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30080" y="23328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is a Design Pattern?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30440" y="1042560"/>
            <a:ext cx="6781680" cy="418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t has a name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Essential for communication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bstracts the problem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The “Intent” describes the nature of problem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efines a design structure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Separate solutions from situations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dentifies the distribution of responsibilitie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Get to the “best” solution more quickly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ith that in mind…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30080" y="23328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ridge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30080" y="1042560"/>
            <a:ext cx="714060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e most fundamental pattern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Underpins many higher level patterns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ent: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To decouple an abstraction from its implementation so that the two can vary independently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wo component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Abstraction </a:t>
            </a:r>
            <a:r>
              <a:rPr b="1" lang="en-US" sz="2200" spc="-1" strike="noStrike">
                <a:solidFill>
                  <a:srgbClr val="ffff00"/>
                </a:solidFill>
                <a:latin typeface="Wingdings"/>
                <a:ea typeface="Wingdings"/>
              </a:rPr>
              <a:t>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initiates an action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Implementation </a:t>
            </a:r>
            <a:r>
              <a:rPr b="1" lang="en-US" sz="2200" spc="-1" strike="noStrike">
                <a:solidFill>
                  <a:srgbClr val="ffff00"/>
                </a:solidFill>
                <a:latin typeface="Wingdings"/>
                <a:ea typeface="Wingdings"/>
              </a:rPr>
              <a:t>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carries it out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30080" y="23328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ridge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042920" y="2133720"/>
            <a:ext cx="7861320" cy="2141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30080" y="23328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ridge - Summary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30080" y="1042560"/>
            <a:ext cx="714060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enefit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Allows for changes to implementation without the necessity of re-writing code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rawback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Requires planning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39"/>
              </a:spcBef>
              <a:spcAft>
                <a:spcPts val="13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Participants must share a common interface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4T15:59:25Z</dcterms:created>
  <dc:creator>Andy Kramek</dc:creator>
  <dc:description/>
  <dc:language>en-US</dc:language>
  <cp:lastModifiedBy>Andy Kramek</cp:lastModifiedBy>
  <dcterms:modified xsi:type="dcterms:W3CDTF">2004-11-07T16:06:32Z</dcterms:modified>
  <cp:revision>45</cp:revision>
  <dc:subject/>
  <dc:title>PowerPoint Presentation</dc:title>
</cp:coreProperties>
</file>