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7760" y="228600"/>
            <a:ext cx="801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28600"/>
            <a:ext cx="801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152280"/>
            <a:ext cx="8686800" cy="6096240"/>
            <a:chOff x="152280" y="152280"/>
            <a:chExt cx="8686800" cy="6096240"/>
          </a:xfrm>
        </p:grpSpPr>
        <p:sp>
          <p:nvSpPr>
            <p:cNvPr id="2" name=""/>
            <p:cNvSpPr/>
            <p:nvPr/>
          </p:nvSpPr>
          <p:spPr>
            <a:xfrm>
              <a:off x="53316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152280"/>
              <a:ext cx="8534520" cy="12193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219320"/>
              <a:ext cx="80773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Fox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320" y="1155600"/>
            <a:ext cx="8991360" cy="4496040"/>
            <a:chOff x="76320" y="1155600"/>
            <a:chExt cx="8991360" cy="4496040"/>
          </a:xfrm>
        </p:grpSpPr>
        <p:grpSp>
          <p:nvGrpSpPr>
            <p:cNvPr id="44" name=""/>
            <p:cNvGrpSpPr/>
            <p:nvPr/>
          </p:nvGrpSpPr>
          <p:grpSpPr>
            <a:xfrm>
              <a:off x="76320" y="1155600"/>
              <a:ext cx="8991360" cy="4496040"/>
              <a:chOff x="76320" y="1155600"/>
              <a:chExt cx="8991360" cy="4496040"/>
            </a:xfrm>
          </p:grpSpPr>
          <p:sp>
            <p:nvSpPr>
              <p:cNvPr id="45" name=""/>
              <p:cNvSpPr/>
              <p:nvPr/>
            </p:nvSpPr>
            <p:spPr>
              <a:xfrm>
                <a:off x="761760" y="2298600"/>
                <a:ext cx="7391160" cy="3353040"/>
              </a:xfrm>
              <a:prstGeom prst="roundRect">
                <a:avLst>
                  <a:gd name="adj" fmla="val 16667"/>
                </a:avLst>
              </a:pr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4560" y="1155600"/>
                <a:ext cx="7162560" cy="9907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1600200"/>
                <a:ext cx="8991360" cy="1828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76320" y="3289320"/>
              <a:ext cx="83055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1752480" cy="75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a Windows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ara Pe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isch Custo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e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I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new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“Web sites” and choose New | Web site to start the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it to the correct dire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“read” or “run scripts”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I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ing the new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 extensions (script m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ing network conn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CP/IP is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atic IP address and the settings provided by your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1728720"/>
            <a:ext cx="3848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and the Host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s must be configured so the DNS servers direct requests to your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alternate prefixes or eliminate the need for www through the Host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good idea to create a custom HTTP header so the domain is shown instead of the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62440" y="1913040"/>
            <a:ext cx="39243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headers Allow you to run multiple web sites under a single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62440" y="2104920"/>
            <a:ext cx="39243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fil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ire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dire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rectories for each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NOT using \Inetpub\ftp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users for privat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permissions in Windows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te that handles both Public and Private or one site for 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ultiple sites to run under the same IP address by changing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62440" y="1981080"/>
            <a:ext cx="3924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a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tatic IP transfers to th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n IP address to use for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rt Forwarding to send requests to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62440" y="2333520"/>
            <a:ext cx="3924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Software: Microsoft Internet Information Services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Version: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ate: 2004-06-25 08:19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Fields: date time c-ip cs-username s-sitename s-computername s-ip s-port cs-method cs-uri-stem cs-uri-query sc-status sc-win32-status cs-version cs-host cs(User-Agent) cs(Cookie) cs(Refer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-06-25 08:19:19 64.160.96.182 - W3SVC3 WIN2KADVSERVER 192.168.1.100 80 GET /scripts/..%5c../winnt/system32/cmd.exe /c+dir 404 3 HTTP/1.0 www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-06-25 09:19:38 193.95.47.130 - W3SVC3 WIN2KADVSERVER 192.168.1.100 80 GET /publicfiles/everything.zip - 200 64 HTTP/1.0 63.193.37.117 Mozilla/4.0+(compatible;+MSIE+6.0;+Windows+NT+5.1) - http://www.peisch.com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 of Peisch Custo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M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Editor for Web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columnist for CoDe and Fox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 using Fox since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P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Software: Microsoft Internet Information Services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Version: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ate: 2004-05-05 17:15: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Fields: time c-ip cs-method cs-uri-stem sc-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:15:27 192.168.1.1 [9]USER anonymous 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:15:27 192.168.1.1 [9]PASS IEUser@ 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Software: Microsoft Internet Information Services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Version: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ate: 2004-05-05 17:20: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Fields: time c-ip cs-method cs-uri-stem sc-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:29:46 192.168.1.1 [19]USER ClientXYZ 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:29:46 192.168.1.1 [19]PASS - 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:29:57 192.168.1.1 [19]created PCS.BAT 22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Fox Updat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outhwestf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will/will not have web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remember to fill out your eval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 and configuration of IIS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y structure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curity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on’t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up a mail server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up a news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s, W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Server 2003 – an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2000 Server – an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NT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2000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95/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your Directo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directory that doesn’t have anything that shouldn’t be accessible to the outside world at or below tha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NOT using \Inetpub\www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kind of web site e.g. business vs.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Explorer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“Everyone” from root node and all sub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“IUSR_” account read access to the public web sites and FTP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“IUSR_” from private FTP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eparate users for each private FTP site and grant appropriat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ing I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Add/Remove Windows Compon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3713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3733920"/>
            <a:ext cx="838080" cy="838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ing I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Server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nformation Services (I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 Protocol (F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Information Service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Wide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62440" y="2359080"/>
            <a:ext cx="3924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Barbara Peisch</cp:lastModifiedBy>
  <dcterms:modified xsi:type="dcterms:W3CDTF">2004-09-14T04:33:06Z</dcterms:modified>
  <cp:revision>13</cp:revision>
  <dc:subject/>
  <dc:title>Slide 1</dc:title>
</cp:coreProperties>
</file>