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7C68-119F-4077-AEEB-485B7E569A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B67B-740B-49CD-AFA2-6F26E72A94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75880" y="3619080"/>
            <a:ext cx="714060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4920" y="110484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75880" y="361908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34920" y="361908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229896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90040" y="1104840"/>
            <a:ext cx="229896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04560" y="1104840"/>
            <a:ext cx="229896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75880" y="3619080"/>
            <a:ext cx="229896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190040" y="3619080"/>
            <a:ext cx="229896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04560" y="3619080"/>
            <a:ext cx="229896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348444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34920" y="1104840"/>
            <a:ext cx="348444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74440" y="276120"/>
            <a:ext cx="7132680" cy="28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34920" y="1104840"/>
            <a:ext cx="348444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75880" y="361908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348444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4920" y="110484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34920" y="361908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74440" y="234720"/>
            <a:ext cx="713268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4920" y="1104840"/>
            <a:ext cx="348444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75880" y="3619080"/>
            <a:ext cx="7140600" cy="22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3" marL="14302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4" marL="1809720" indent="-18900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5" marL="1809720" indent="-18900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6" marL="1809720" indent="-18900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18120" y="6094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ghtline Computers In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Akron, OH,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5720" y="1095480"/>
            <a:ext cx="7169040" cy="13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dvanced SQL Quer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5720" y="2462040"/>
            <a:ext cx="7220160" cy="23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ed by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y Kramek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ightline Computers, Inc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oin Syntax – ANSI 92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Also known as Canonical Join Syntax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ssociates join conditions directly with table name, reserves WHERE clause for filter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SELECT CU.cust_name, CO.con_lname ;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FROM contact CO JOIN customer CU ;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ON CO.cust_fk = CU.cust_pk ;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WHERE CU.cust_pk &gt; 100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 and C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Either Sequential or nested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VFP can support inner and outer join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Not supported by all databases (Oracle!)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2" dur="1" fill="hold"/>
                                  <p:tgtEl>
                                    <p:spTgt spid="7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33" dur="1" fill="hold"/>
                                  <p:tgtEl>
                                    <p:spTgt spid="7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34" dur="1" fill="hold"/>
                                  <p:tgtEl>
                                    <p:spTgt spid="7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35" dur="1" fill="hold"/>
                                  <p:tgtEl>
                                    <p:spTgt spid="7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ner Joi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fault join type (also known as ‘Natural’)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92480" y="1700280"/>
            <a:ext cx="5317200" cy="1584000"/>
            <a:chOff x="2292480" y="1700280"/>
            <a:chExt cx="5317200" cy="1584000"/>
          </a:xfrm>
        </p:grpSpPr>
        <p:sp>
          <p:nvSpPr>
            <p:cNvPr id="78" name=""/>
            <p:cNvSpPr/>
            <p:nvPr/>
          </p:nvSpPr>
          <p:spPr>
            <a:xfrm>
              <a:off x="2292480" y="1700280"/>
              <a:ext cx="2658960" cy="1584000"/>
            </a:xfrm>
            <a:custGeom>
              <a:avLst/>
              <a:gdLst/>
              <a:ahLst/>
              <a:rect l="l" t="t" r="r" b="b"/>
              <a:pathLst>
                <a:path w="1725" h="1147">
                  <a:moveTo>
                    <a:pt x="1725" y="975"/>
                  </a:moveTo>
                  <a:lnTo>
                    <a:pt x="1708" y="964"/>
                  </a:lnTo>
                  <a:lnTo>
                    <a:pt x="1693" y="954"/>
                  </a:lnTo>
                  <a:lnTo>
                    <a:pt x="1676" y="943"/>
                  </a:lnTo>
                  <a:lnTo>
                    <a:pt x="1660" y="933"/>
                  </a:lnTo>
                  <a:lnTo>
                    <a:pt x="1646" y="922"/>
                  </a:lnTo>
                  <a:lnTo>
                    <a:pt x="1630" y="911"/>
                  </a:lnTo>
                  <a:lnTo>
                    <a:pt x="1616" y="899"/>
                  </a:lnTo>
                  <a:lnTo>
                    <a:pt x="1604" y="888"/>
                  </a:lnTo>
                  <a:lnTo>
                    <a:pt x="1589" y="876"/>
                  </a:lnTo>
                  <a:lnTo>
                    <a:pt x="1577" y="864"/>
                  </a:lnTo>
                  <a:lnTo>
                    <a:pt x="1565" y="852"/>
                  </a:lnTo>
                  <a:lnTo>
                    <a:pt x="1554" y="840"/>
                  </a:lnTo>
                  <a:lnTo>
                    <a:pt x="1543" y="828"/>
                  </a:lnTo>
                  <a:lnTo>
                    <a:pt x="1533" y="816"/>
                  </a:lnTo>
                  <a:lnTo>
                    <a:pt x="1523" y="803"/>
                  </a:lnTo>
                  <a:lnTo>
                    <a:pt x="1513" y="790"/>
                  </a:lnTo>
                  <a:lnTo>
                    <a:pt x="1504" y="778"/>
                  </a:lnTo>
                  <a:lnTo>
                    <a:pt x="1496" y="765"/>
                  </a:lnTo>
                  <a:lnTo>
                    <a:pt x="1487" y="751"/>
                  </a:lnTo>
                  <a:lnTo>
                    <a:pt x="1480" y="738"/>
                  </a:lnTo>
                  <a:lnTo>
                    <a:pt x="1473" y="725"/>
                  </a:lnTo>
                  <a:lnTo>
                    <a:pt x="1468" y="712"/>
                  </a:lnTo>
                  <a:lnTo>
                    <a:pt x="1462" y="698"/>
                  </a:lnTo>
                  <a:lnTo>
                    <a:pt x="1458" y="684"/>
                  </a:lnTo>
                  <a:lnTo>
                    <a:pt x="1452" y="671"/>
                  </a:lnTo>
                  <a:lnTo>
                    <a:pt x="1449" y="657"/>
                  </a:lnTo>
                  <a:lnTo>
                    <a:pt x="1445" y="643"/>
                  </a:lnTo>
                  <a:lnTo>
                    <a:pt x="1442" y="630"/>
                  </a:lnTo>
                  <a:lnTo>
                    <a:pt x="1441" y="615"/>
                  </a:lnTo>
                  <a:lnTo>
                    <a:pt x="1439" y="602"/>
                  </a:lnTo>
                  <a:lnTo>
                    <a:pt x="1438" y="587"/>
                  </a:lnTo>
                  <a:lnTo>
                    <a:pt x="1438" y="574"/>
                  </a:lnTo>
                  <a:lnTo>
                    <a:pt x="1438" y="559"/>
                  </a:lnTo>
                  <a:lnTo>
                    <a:pt x="1439" y="545"/>
                  </a:lnTo>
                  <a:lnTo>
                    <a:pt x="1441" y="532"/>
                  </a:lnTo>
                  <a:lnTo>
                    <a:pt x="1442" y="517"/>
                  </a:lnTo>
                  <a:lnTo>
                    <a:pt x="1445" y="504"/>
                  </a:lnTo>
                  <a:lnTo>
                    <a:pt x="1449" y="489"/>
                  </a:lnTo>
                  <a:lnTo>
                    <a:pt x="1452" y="476"/>
                  </a:lnTo>
                  <a:lnTo>
                    <a:pt x="1458" y="463"/>
                  </a:lnTo>
                  <a:lnTo>
                    <a:pt x="1462" y="448"/>
                  </a:lnTo>
                  <a:lnTo>
                    <a:pt x="1468" y="435"/>
                  </a:lnTo>
                  <a:lnTo>
                    <a:pt x="1473" y="422"/>
                  </a:lnTo>
                  <a:lnTo>
                    <a:pt x="1480" y="409"/>
                  </a:lnTo>
                  <a:lnTo>
                    <a:pt x="1487" y="395"/>
                  </a:lnTo>
                  <a:lnTo>
                    <a:pt x="1496" y="382"/>
                  </a:lnTo>
                  <a:lnTo>
                    <a:pt x="1504" y="369"/>
                  </a:lnTo>
                  <a:lnTo>
                    <a:pt x="1513" y="357"/>
                  </a:lnTo>
                  <a:lnTo>
                    <a:pt x="1523" y="344"/>
                  </a:lnTo>
                  <a:lnTo>
                    <a:pt x="1533" y="332"/>
                  </a:lnTo>
                  <a:lnTo>
                    <a:pt x="1543" y="319"/>
                  </a:lnTo>
                  <a:lnTo>
                    <a:pt x="1554" y="307"/>
                  </a:lnTo>
                  <a:lnTo>
                    <a:pt x="1565" y="295"/>
                  </a:lnTo>
                  <a:lnTo>
                    <a:pt x="1577" y="283"/>
                  </a:lnTo>
                  <a:lnTo>
                    <a:pt x="1589" y="271"/>
                  </a:lnTo>
                  <a:lnTo>
                    <a:pt x="1604" y="259"/>
                  </a:lnTo>
                  <a:lnTo>
                    <a:pt x="1616" y="247"/>
                  </a:lnTo>
                  <a:lnTo>
                    <a:pt x="1630" y="237"/>
                  </a:lnTo>
                  <a:lnTo>
                    <a:pt x="1646" y="225"/>
                  </a:lnTo>
                  <a:lnTo>
                    <a:pt x="1660" y="214"/>
                  </a:lnTo>
                  <a:lnTo>
                    <a:pt x="1676" y="204"/>
                  </a:lnTo>
                  <a:lnTo>
                    <a:pt x="1693" y="193"/>
                  </a:lnTo>
                  <a:lnTo>
                    <a:pt x="1708" y="182"/>
                  </a:lnTo>
                  <a:lnTo>
                    <a:pt x="1725" y="172"/>
                  </a:lnTo>
                  <a:lnTo>
                    <a:pt x="1688" y="152"/>
                  </a:lnTo>
                  <a:lnTo>
                    <a:pt x="1650" y="132"/>
                  </a:lnTo>
                  <a:lnTo>
                    <a:pt x="1611" y="114"/>
                  </a:lnTo>
                  <a:lnTo>
                    <a:pt x="1570" y="98"/>
                  </a:lnTo>
                  <a:lnTo>
                    <a:pt x="1527" y="82"/>
                  </a:lnTo>
                  <a:lnTo>
                    <a:pt x="1483" y="69"/>
                  </a:lnTo>
                  <a:lnTo>
                    <a:pt x="1439" y="55"/>
                  </a:lnTo>
                  <a:lnTo>
                    <a:pt x="1395" y="44"/>
                  </a:lnTo>
                  <a:lnTo>
                    <a:pt x="1349" y="34"/>
                  </a:lnTo>
                  <a:lnTo>
                    <a:pt x="1303" y="25"/>
                  </a:lnTo>
                  <a:lnTo>
                    <a:pt x="1257" y="18"/>
                  </a:lnTo>
                  <a:lnTo>
                    <a:pt x="1209" y="12"/>
                  </a:lnTo>
                  <a:lnTo>
                    <a:pt x="1162" y="6"/>
                  </a:lnTo>
                  <a:lnTo>
                    <a:pt x="1114" y="2"/>
                  </a:lnTo>
                  <a:lnTo>
                    <a:pt x="1066" y="1"/>
                  </a:lnTo>
                  <a:lnTo>
                    <a:pt x="1018" y="0"/>
                  </a:lnTo>
                  <a:lnTo>
                    <a:pt x="968" y="0"/>
                  </a:lnTo>
                  <a:lnTo>
                    <a:pt x="920" y="2"/>
                  </a:lnTo>
                  <a:lnTo>
                    <a:pt x="872" y="5"/>
                  </a:lnTo>
                  <a:lnTo>
                    <a:pt x="825" y="9"/>
                  </a:lnTo>
                  <a:lnTo>
                    <a:pt x="777" y="14"/>
                  </a:lnTo>
                  <a:lnTo>
                    <a:pt x="730" y="22"/>
                  </a:lnTo>
                  <a:lnTo>
                    <a:pt x="683" y="30"/>
                  </a:lnTo>
                  <a:lnTo>
                    <a:pt x="637" y="40"/>
                  </a:lnTo>
                  <a:lnTo>
                    <a:pt x="591" y="50"/>
                  </a:lnTo>
                  <a:lnTo>
                    <a:pt x="548" y="63"/>
                  </a:lnTo>
                  <a:lnTo>
                    <a:pt x="504" y="77"/>
                  </a:lnTo>
                  <a:lnTo>
                    <a:pt x="461" y="91"/>
                  </a:lnTo>
                  <a:lnTo>
                    <a:pt x="420" y="107"/>
                  </a:lnTo>
                  <a:lnTo>
                    <a:pt x="379" y="124"/>
                  </a:lnTo>
                  <a:lnTo>
                    <a:pt x="340" y="144"/>
                  </a:lnTo>
                  <a:lnTo>
                    <a:pt x="303" y="164"/>
                  </a:lnTo>
                  <a:lnTo>
                    <a:pt x="284" y="174"/>
                  </a:lnTo>
                  <a:lnTo>
                    <a:pt x="267" y="185"/>
                  </a:lnTo>
                  <a:lnTo>
                    <a:pt x="250" y="196"/>
                  </a:lnTo>
                  <a:lnTo>
                    <a:pt x="233" y="206"/>
                  </a:lnTo>
                  <a:lnTo>
                    <a:pt x="218" y="217"/>
                  </a:lnTo>
                  <a:lnTo>
                    <a:pt x="202" y="229"/>
                  </a:lnTo>
                  <a:lnTo>
                    <a:pt x="188" y="239"/>
                  </a:lnTo>
                  <a:lnTo>
                    <a:pt x="174" y="251"/>
                  </a:lnTo>
                  <a:lnTo>
                    <a:pt x="160" y="263"/>
                  </a:lnTo>
                  <a:lnTo>
                    <a:pt x="147" y="275"/>
                  </a:lnTo>
                  <a:lnTo>
                    <a:pt x="134" y="288"/>
                  </a:lnTo>
                  <a:lnTo>
                    <a:pt x="122" y="300"/>
                  </a:lnTo>
                  <a:lnTo>
                    <a:pt x="110" y="312"/>
                  </a:lnTo>
                  <a:lnTo>
                    <a:pt x="99" y="325"/>
                  </a:lnTo>
                  <a:lnTo>
                    <a:pt x="89" y="339"/>
                  </a:lnTo>
                  <a:lnTo>
                    <a:pt x="79" y="352"/>
                  </a:lnTo>
                  <a:lnTo>
                    <a:pt x="69" y="365"/>
                  </a:lnTo>
                  <a:lnTo>
                    <a:pt x="61" y="378"/>
                  </a:lnTo>
                  <a:lnTo>
                    <a:pt x="52" y="391"/>
                  </a:lnTo>
                  <a:lnTo>
                    <a:pt x="45" y="405"/>
                  </a:lnTo>
                  <a:lnTo>
                    <a:pt x="38" y="418"/>
                  </a:lnTo>
                  <a:lnTo>
                    <a:pt x="31" y="432"/>
                  </a:lnTo>
                  <a:lnTo>
                    <a:pt x="25" y="446"/>
                  </a:lnTo>
                  <a:lnTo>
                    <a:pt x="20" y="459"/>
                  </a:lnTo>
                  <a:lnTo>
                    <a:pt x="15" y="473"/>
                  </a:lnTo>
                  <a:lnTo>
                    <a:pt x="11" y="488"/>
                  </a:lnTo>
                  <a:lnTo>
                    <a:pt x="8" y="501"/>
                  </a:lnTo>
                  <a:lnTo>
                    <a:pt x="5" y="516"/>
                  </a:lnTo>
                  <a:lnTo>
                    <a:pt x="3" y="530"/>
                  </a:lnTo>
                  <a:lnTo>
                    <a:pt x="1" y="545"/>
                  </a:lnTo>
                  <a:lnTo>
                    <a:pt x="0" y="559"/>
                  </a:lnTo>
                  <a:lnTo>
                    <a:pt x="0" y="574"/>
                  </a:lnTo>
                  <a:lnTo>
                    <a:pt x="1" y="603"/>
                  </a:lnTo>
                  <a:lnTo>
                    <a:pt x="5" y="632"/>
                  </a:lnTo>
                  <a:lnTo>
                    <a:pt x="11" y="661"/>
                  </a:lnTo>
                  <a:lnTo>
                    <a:pt x="21" y="689"/>
                  </a:lnTo>
                  <a:lnTo>
                    <a:pt x="31" y="717"/>
                  </a:lnTo>
                  <a:lnTo>
                    <a:pt x="45" y="743"/>
                  </a:lnTo>
                  <a:lnTo>
                    <a:pt x="61" y="771"/>
                  </a:lnTo>
                  <a:lnTo>
                    <a:pt x="79" y="796"/>
                  </a:lnTo>
                  <a:lnTo>
                    <a:pt x="99" y="821"/>
                  </a:lnTo>
                  <a:lnTo>
                    <a:pt x="122" y="847"/>
                  </a:lnTo>
                  <a:lnTo>
                    <a:pt x="146" y="870"/>
                  </a:lnTo>
                  <a:lnTo>
                    <a:pt x="173" y="894"/>
                  </a:lnTo>
                  <a:lnTo>
                    <a:pt x="199" y="917"/>
                  </a:lnTo>
                  <a:lnTo>
                    <a:pt x="231" y="938"/>
                  </a:lnTo>
                  <a:lnTo>
                    <a:pt x="262" y="959"/>
                  </a:lnTo>
                  <a:lnTo>
                    <a:pt x="294" y="979"/>
                  </a:lnTo>
                  <a:lnTo>
                    <a:pt x="330" y="997"/>
                  </a:lnTo>
                  <a:lnTo>
                    <a:pt x="366" y="1016"/>
                  </a:lnTo>
                  <a:lnTo>
                    <a:pt x="405" y="1033"/>
                  </a:lnTo>
                  <a:lnTo>
                    <a:pt x="444" y="1049"/>
                  </a:lnTo>
                  <a:lnTo>
                    <a:pt x="485" y="1063"/>
                  </a:lnTo>
                  <a:lnTo>
                    <a:pt x="526" y="1078"/>
                  </a:lnTo>
                  <a:lnTo>
                    <a:pt x="570" y="1090"/>
                  </a:lnTo>
                  <a:lnTo>
                    <a:pt x="614" y="1102"/>
                  </a:lnTo>
                  <a:lnTo>
                    <a:pt x="661" y="1112"/>
                  </a:lnTo>
                  <a:lnTo>
                    <a:pt x="708" y="1122"/>
                  </a:lnTo>
                  <a:lnTo>
                    <a:pt x="756" y="1128"/>
                  </a:lnTo>
                  <a:lnTo>
                    <a:pt x="804" y="1135"/>
                  </a:lnTo>
                  <a:lnTo>
                    <a:pt x="853" y="1140"/>
                  </a:lnTo>
                  <a:lnTo>
                    <a:pt x="904" y="1144"/>
                  </a:lnTo>
                  <a:lnTo>
                    <a:pt x="955" y="1146"/>
                  </a:lnTo>
                  <a:lnTo>
                    <a:pt x="1006" y="1147"/>
                  </a:lnTo>
                  <a:lnTo>
                    <a:pt x="1032" y="1147"/>
                  </a:lnTo>
                  <a:lnTo>
                    <a:pt x="1057" y="1146"/>
                  </a:lnTo>
                  <a:lnTo>
                    <a:pt x="1083" y="1146"/>
                  </a:lnTo>
                  <a:lnTo>
                    <a:pt x="1108" y="1144"/>
                  </a:lnTo>
                  <a:lnTo>
                    <a:pt x="1132" y="1143"/>
                  </a:lnTo>
                  <a:lnTo>
                    <a:pt x="1158" y="1140"/>
                  </a:lnTo>
                  <a:lnTo>
                    <a:pt x="1182" y="1138"/>
                  </a:lnTo>
                  <a:lnTo>
                    <a:pt x="1207" y="1135"/>
                  </a:lnTo>
                  <a:lnTo>
                    <a:pt x="1231" y="1132"/>
                  </a:lnTo>
                  <a:lnTo>
                    <a:pt x="1255" y="1130"/>
                  </a:lnTo>
                  <a:lnTo>
                    <a:pt x="1279" y="1126"/>
                  </a:lnTo>
                  <a:lnTo>
                    <a:pt x="1303" y="1122"/>
                  </a:lnTo>
                  <a:lnTo>
                    <a:pt x="1328" y="1118"/>
                  </a:lnTo>
                  <a:lnTo>
                    <a:pt x="1350" y="1112"/>
                  </a:lnTo>
                  <a:lnTo>
                    <a:pt x="1397" y="1102"/>
                  </a:lnTo>
                  <a:lnTo>
                    <a:pt x="1442" y="1090"/>
                  </a:lnTo>
                  <a:lnTo>
                    <a:pt x="1486" y="1078"/>
                  </a:lnTo>
                  <a:lnTo>
                    <a:pt x="1530" y="1063"/>
                  </a:lnTo>
                  <a:lnTo>
                    <a:pt x="1571" y="1048"/>
                  </a:lnTo>
                  <a:lnTo>
                    <a:pt x="1612" y="1032"/>
                  </a:lnTo>
                  <a:lnTo>
                    <a:pt x="1632" y="1022"/>
                  </a:lnTo>
                  <a:lnTo>
                    <a:pt x="1652" y="1013"/>
                  </a:lnTo>
                  <a:lnTo>
                    <a:pt x="1670" y="1004"/>
                  </a:lnTo>
                  <a:lnTo>
                    <a:pt x="1690" y="995"/>
                  </a:lnTo>
                  <a:lnTo>
                    <a:pt x="1708" y="985"/>
                  </a:lnTo>
                  <a:lnTo>
                    <a:pt x="1725" y="97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64840" y="238284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able 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951440" y="1700280"/>
              <a:ext cx="2658240" cy="1584000"/>
            </a:xfrm>
            <a:custGeom>
              <a:avLst/>
              <a:gdLst/>
              <a:ahLst/>
              <a:rect l="l" t="t" r="r" b="b"/>
              <a:pathLst>
                <a:path w="1727" h="1147">
                  <a:moveTo>
                    <a:pt x="0" y="975"/>
                  </a:moveTo>
                  <a:lnTo>
                    <a:pt x="39" y="995"/>
                  </a:lnTo>
                  <a:lnTo>
                    <a:pt x="77" y="1015"/>
                  </a:lnTo>
                  <a:lnTo>
                    <a:pt x="116" y="1033"/>
                  </a:lnTo>
                  <a:lnTo>
                    <a:pt x="157" y="1049"/>
                  </a:lnTo>
                  <a:lnTo>
                    <a:pt x="200" y="1065"/>
                  </a:lnTo>
                  <a:lnTo>
                    <a:pt x="242" y="1078"/>
                  </a:lnTo>
                  <a:lnTo>
                    <a:pt x="286" y="1091"/>
                  </a:lnTo>
                  <a:lnTo>
                    <a:pt x="332" y="1103"/>
                  </a:lnTo>
                  <a:lnTo>
                    <a:pt x="377" y="1112"/>
                  </a:lnTo>
                  <a:lnTo>
                    <a:pt x="424" y="1122"/>
                  </a:lnTo>
                  <a:lnTo>
                    <a:pt x="470" y="1130"/>
                  </a:lnTo>
                  <a:lnTo>
                    <a:pt x="517" y="1135"/>
                  </a:lnTo>
                  <a:lnTo>
                    <a:pt x="565" y="1140"/>
                  </a:lnTo>
                  <a:lnTo>
                    <a:pt x="613" y="1144"/>
                  </a:lnTo>
                  <a:lnTo>
                    <a:pt x="661" y="1146"/>
                  </a:lnTo>
                  <a:lnTo>
                    <a:pt x="709" y="1147"/>
                  </a:lnTo>
                  <a:lnTo>
                    <a:pt x="758" y="1147"/>
                  </a:lnTo>
                  <a:lnTo>
                    <a:pt x="806" y="1144"/>
                  </a:lnTo>
                  <a:lnTo>
                    <a:pt x="854" y="1142"/>
                  </a:lnTo>
                  <a:lnTo>
                    <a:pt x="902" y="1138"/>
                  </a:lnTo>
                  <a:lnTo>
                    <a:pt x="950" y="1132"/>
                  </a:lnTo>
                  <a:lnTo>
                    <a:pt x="997" y="1124"/>
                  </a:lnTo>
                  <a:lnTo>
                    <a:pt x="1044" y="1116"/>
                  </a:lnTo>
                  <a:lnTo>
                    <a:pt x="1089" y="1107"/>
                  </a:lnTo>
                  <a:lnTo>
                    <a:pt x="1134" y="1097"/>
                  </a:lnTo>
                  <a:lnTo>
                    <a:pt x="1179" y="1083"/>
                  </a:lnTo>
                  <a:lnTo>
                    <a:pt x="1222" y="1070"/>
                  </a:lnTo>
                  <a:lnTo>
                    <a:pt x="1266" y="1056"/>
                  </a:lnTo>
                  <a:lnTo>
                    <a:pt x="1307" y="1040"/>
                  </a:lnTo>
                  <a:lnTo>
                    <a:pt x="1348" y="1022"/>
                  </a:lnTo>
                  <a:lnTo>
                    <a:pt x="1386" y="1003"/>
                  </a:lnTo>
                  <a:lnTo>
                    <a:pt x="1424" y="983"/>
                  </a:lnTo>
                  <a:lnTo>
                    <a:pt x="1443" y="972"/>
                  </a:lnTo>
                  <a:lnTo>
                    <a:pt x="1460" y="963"/>
                  </a:lnTo>
                  <a:lnTo>
                    <a:pt x="1477" y="951"/>
                  </a:lnTo>
                  <a:lnTo>
                    <a:pt x="1492" y="940"/>
                  </a:lnTo>
                  <a:lnTo>
                    <a:pt x="1509" y="930"/>
                  </a:lnTo>
                  <a:lnTo>
                    <a:pt x="1523" y="918"/>
                  </a:lnTo>
                  <a:lnTo>
                    <a:pt x="1539" y="907"/>
                  </a:lnTo>
                  <a:lnTo>
                    <a:pt x="1553" y="895"/>
                  </a:lnTo>
                  <a:lnTo>
                    <a:pt x="1567" y="884"/>
                  </a:lnTo>
                  <a:lnTo>
                    <a:pt x="1580" y="872"/>
                  </a:lnTo>
                  <a:lnTo>
                    <a:pt x="1593" y="858"/>
                  </a:lnTo>
                  <a:lnTo>
                    <a:pt x="1605" y="847"/>
                  </a:lnTo>
                  <a:lnTo>
                    <a:pt x="1617" y="835"/>
                  </a:lnTo>
                  <a:lnTo>
                    <a:pt x="1628" y="821"/>
                  </a:lnTo>
                  <a:lnTo>
                    <a:pt x="1638" y="808"/>
                  </a:lnTo>
                  <a:lnTo>
                    <a:pt x="1648" y="795"/>
                  </a:lnTo>
                  <a:lnTo>
                    <a:pt x="1658" y="783"/>
                  </a:lnTo>
                  <a:lnTo>
                    <a:pt x="1666" y="770"/>
                  </a:lnTo>
                  <a:lnTo>
                    <a:pt x="1675" y="755"/>
                  </a:lnTo>
                  <a:lnTo>
                    <a:pt x="1682" y="742"/>
                  </a:lnTo>
                  <a:lnTo>
                    <a:pt x="1689" y="729"/>
                  </a:lnTo>
                  <a:lnTo>
                    <a:pt x="1696" y="716"/>
                  </a:lnTo>
                  <a:lnTo>
                    <a:pt x="1702" y="701"/>
                  </a:lnTo>
                  <a:lnTo>
                    <a:pt x="1706" y="688"/>
                  </a:lnTo>
                  <a:lnTo>
                    <a:pt x="1712" y="673"/>
                  </a:lnTo>
                  <a:lnTo>
                    <a:pt x="1716" y="659"/>
                  </a:lnTo>
                  <a:lnTo>
                    <a:pt x="1719" y="645"/>
                  </a:lnTo>
                  <a:lnTo>
                    <a:pt x="1722" y="631"/>
                  </a:lnTo>
                  <a:lnTo>
                    <a:pt x="1723" y="616"/>
                  </a:lnTo>
                  <a:lnTo>
                    <a:pt x="1726" y="602"/>
                  </a:lnTo>
                  <a:lnTo>
                    <a:pt x="1726" y="587"/>
                  </a:lnTo>
                  <a:lnTo>
                    <a:pt x="1727" y="574"/>
                  </a:lnTo>
                  <a:lnTo>
                    <a:pt x="1726" y="544"/>
                  </a:lnTo>
                  <a:lnTo>
                    <a:pt x="1722" y="514"/>
                  </a:lnTo>
                  <a:lnTo>
                    <a:pt x="1714" y="487"/>
                  </a:lnTo>
                  <a:lnTo>
                    <a:pt x="1706" y="458"/>
                  </a:lnTo>
                  <a:lnTo>
                    <a:pt x="1695" y="430"/>
                  </a:lnTo>
                  <a:lnTo>
                    <a:pt x="1682" y="403"/>
                  </a:lnTo>
                  <a:lnTo>
                    <a:pt x="1665" y="376"/>
                  </a:lnTo>
                  <a:lnTo>
                    <a:pt x="1648" y="350"/>
                  </a:lnTo>
                  <a:lnTo>
                    <a:pt x="1627" y="325"/>
                  </a:lnTo>
                  <a:lnTo>
                    <a:pt x="1605" y="300"/>
                  </a:lnTo>
                  <a:lnTo>
                    <a:pt x="1581" y="276"/>
                  </a:lnTo>
                  <a:lnTo>
                    <a:pt x="1554" y="253"/>
                  </a:lnTo>
                  <a:lnTo>
                    <a:pt x="1526" y="230"/>
                  </a:lnTo>
                  <a:lnTo>
                    <a:pt x="1496" y="209"/>
                  </a:lnTo>
                  <a:lnTo>
                    <a:pt x="1465" y="188"/>
                  </a:lnTo>
                  <a:lnTo>
                    <a:pt x="1431" y="168"/>
                  </a:lnTo>
                  <a:lnTo>
                    <a:pt x="1397" y="149"/>
                  </a:lnTo>
                  <a:lnTo>
                    <a:pt x="1361" y="131"/>
                  </a:lnTo>
                  <a:lnTo>
                    <a:pt x="1322" y="114"/>
                  </a:lnTo>
                  <a:lnTo>
                    <a:pt x="1283" y="98"/>
                  </a:lnTo>
                  <a:lnTo>
                    <a:pt x="1242" y="83"/>
                  </a:lnTo>
                  <a:lnTo>
                    <a:pt x="1199" y="69"/>
                  </a:lnTo>
                  <a:lnTo>
                    <a:pt x="1157" y="57"/>
                  </a:lnTo>
                  <a:lnTo>
                    <a:pt x="1111" y="45"/>
                  </a:lnTo>
                  <a:lnTo>
                    <a:pt x="1066" y="34"/>
                  </a:lnTo>
                  <a:lnTo>
                    <a:pt x="1019" y="26"/>
                  </a:lnTo>
                  <a:lnTo>
                    <a:pt x="971" y="18"/>
                  </a:lnTo>
                  <a:lnTo>
                    <a:pt x="923" y="12"/>
                  </a:lnTo>
                  <a:lnTo>
                    <a:pt x="874" y="6"/>
                  </a:lnTo>
                  <a:lnTo>
                    <a:pt x="823" y="2"/>
                  </a:lnTo>
                  <a:lnTo>
                    <a:pt x="772" y="1"/>
                  </a:lnTo>
                  <a:lnTo>
                    <a:pt x="719" y="0"/>
                  </a:lnTo>
                  <a:lnTo>
                    <a:pt x="694" y="0"/>
                  </a:lnTo>
                  <a:lnTo>
                    <a:pt x="670" y="1"/>
                  </a:lnTo>
                  <a:lnTo>
                    <a:pt x="644" y="1"/>
                  </a:lnTo>
                  <a:lnTo>
                    <a:pt x="619" y="2"/>
                  </a:lnTo>
                  <a:lnTo>
                    <a:pt x="595" y="4"/>
                  </a:lnTo>
                  <a:lnTo>
                    <a:pt x="569" y="6"/>
                  </a:lnTo>
                  <a:lnTo>
                    <a:pt x="545" y="9"/>
                  </a:lnTo>
                  <a:lnTo>
                    <a:pt x="520" y="12"/>
                  </a:lnTo>
                  <a:lnTo>
                    <a:pt x="496" y="14"/>
                  </a:lnTo>
                  <a:lnTo>
                    <a:pt x="472" y="17"/>
                  </a:lnTo>
                  <a:lnTo>
                    <a:pt x="448" y="21"/>
                  </a:lnTo>
                  <a:lnTo>
                    <a:pt x="424" y="25"/>
                  </a:lnTo>
                  <a:lnTo>
                    <a:pt x="399" y="30"/>
                  </a:lnTo>
                  <a:lnTo>
                    <a:pt x="377" y="34"/>
                  </a:lnTo>
                  <a:lnTo>
                    <a:pt x="330" y="45"/>
                  </a:lnTo>
                  <a:lnTo>
                    <a:pt x="285" y="57"/>
                  </a:lnTo>
                  <a:lnTo>
                    <a:pt x="240" y="69"/>
                  </a:lnTo>
                  <a:lnTo>
                    <a:pt x="197" y="83"/>
                  </a:lnTo>
                  <a:lnTo>
                    <a:pt x="155" y="99"/>
                  </a:lnTo>
                  <a:lnTo>
                    <a:pt x="115" y="115"/>
                  </a:lnTo>
                  <a:lnTo>
                    <a:pt x="95" y="124"/>
                  </a:lnTo>
                  <a:lnTo>
                    <a:pt x="75" y="133"/>
                  </a:lnTo>
                  <a:lnTo>
                    <a:pt x="55" y="143"/>
                  </a:lnTo>
                  <a:lnTo>
                    <a:pt x="37" y="152"/>
                  </a:lnTo>
                  <a:lnTo>
                    <a:pt x="19" y="161"/>
                  </a:lnTo>
                  <a:lnTo>
                    <a:pt x="0" y="172"/>
                  </a:lnTo>
                  <a:lnTo>
                    <a:pt x="0" y="172"/>
                  </a:lnTo>
                  <a:lnTo>
                    <a:pt x="17" y="182"/>
                  </a:lnTo>
                  <a:lnTo>
                    <a:pt x="34" y="193"/>
                  </a:lnTo>
                  <a:lnTo>
                    <a:pt x="50" y="204"/>
                  </a:lnTo>
                  <a:lnTo>
                    <a:pt x="65" y="214"/>
                  </a:lnTo>
                  <a:lnTo>
                    <a:pt x="81" y="225"/>
                  </a:lnTo>
                  <a:lnTo>
                    <a:pt x="95" y="237"/>
                  </a:lnTo>
                  <a:lnTo>
                    <a:pt x="109" y="247"/>
                  </a:lnTo>
                  <a:lnTo>
                    <a:pt x="123" y="259"/>
                  </a:lnTo>
                  <a:lnTo>
                    <a:pt x="136" y="271"/>
                  </a:lnTo>
                  <a:lnTo>
                    <a:pt x="149" y="283"/>
                  </a:lnTo>
                  <a:lnTo>
                    <a:pt x="162" y="295"/>
                  </a:lnTo>
                  <a:lnTo>
                    <a:pt x="173" y="307"/>
                  </a:lnTo>
                  <a:lnTo>
                    <a:pt x="184" y="319"/>
                  </a:lnTo>
                  <a:lnTo>
                    <a:pt x="194" y="332"/>
                  </a:lnTo>
                  <a:lnTo>
                    <a:pt x="204" y="344"/>
                  </a:lnTo>
                  <a:lnTo>
                    <a:pt x="214" y="357"/>
                  </a:lnTo>
                  <a:lnTo>
                    <a:pt x="223" y="369"/>
                  </a:lnTo>
                  <a:lnTo>
                    <a:pt x="231" y="382"/>
                  </a:lnTo>
                  <a:lnTo>
                    <a:pt x="238" y="395"/>
                  </a:lnTo>
                  <a:lnTo>
                    <a:pt x="247" y="409"/>
                  </a:lnTo>
                  <a:lnTo>
                    <a:pt x="252" y="422"/>
                  </a:lnTo>
                  <a:lnTo>
                    <a:pt x="259" y="435"/>
                  </a:lnTo>
                  <a:lnTo>
                    <a:pt x="265" y="448"/>
                  </a:lnTo>
                  <a:lnTo>
                    <a:pt x="269" y="463"/>
                  </a:lnTo>
                  <a:lnTo>
                    <a:pt x="273" y="476"/>
                  </a:lnTo>
                  <a:lnTo>
                    <a:pt x="278" y="489"/>
                  </a:lnTo>
                  <a:lnTo>
                    <a:pt x="281" y="504"/>
                  </a:lnTo>
                  <a:lnTo>
                    <a:pt x="283" y="517"/>
                  </a:lnTo>
                  <a:lnTo>
                    <a:pt x="286" y="532"/>
                  </a:lnTo>
                  <a:lnTo>
                    <a:pt x="288" y="545"/>
                  </a:lnTo>
                  <a:lnTo>
                    <a:pt x="288" y="559"/>
                  </a:lnTo>
                  <a:lnTo>
                    <a:pt x="289" y="574"/>
                  </a:lnTo>
                  <a:lnTo>
                    <a:pt x="288" y="587"/>
                  </a:lnTo>
                  <a:lnTo>
                    <a:pt x="288" y="602"/>
                  </a:lnTo>
                  <a:lnTo>
                    <a:pt x="286" y="615"/>
                  </a:lnTo>
                  <a:lnTo>
                    <a:pt x="283" y="630"/>
                  </a:lnTo>
                  <a:lnTo>
                    <a:pt x="281" y="643"/>
                  </a:lnTo>
                  <a:lnTo>
                    <a:pt x="278" y="657"/>
                  </a:lnTo>
                  <a:lnTo>
                    <a:pt x="273" y="671"/>
                  </a:lnTo>
                  <a:lnTo>
                    <a:pt x="269" y="684"/>
                  </a:lnTo>
                  <a:lnTo>
                    <a:pt x="265" y="698"/>
                  </a:lnTo>
                  <a:lnTo>
                    <a:pt x="259" y="712"/>
                  </a:lnTo>
                  <a:lnTo>
                    <a:pt x="252" y="725"/>
                  </a:lnTo>
                  <a:lnTo>
                    <a:pt x="247" y="738"/>
                  </a:lnTo>
                  <a:lnTo>
                    <a:pt x="238" y="751"/>
                  </a:lnTo>
                  <a:lnTo>
                    <a:pt x="231" y="765"/>
                  </a:lnTo>
                  <a:lnTo>
                    <a:pt x="223" y="778"/>
                  </a:lnTo>
                  <a:lnTo>
                    <a:pt x="214" y="790"/>
                  </a:lnTo>
                  <a:lnTo>
                    <a:pt x="204" y="803"/>
                  </a:lnTo>
                  <a:lnTo>
                    <a:pt x="194" y="816"/>
                  </a:lnTo>
                  <a:lnTo>
                    <a:pt x="184" y="828"/>
                  </a:lnTo>
                  <a:lnTo>
                    <a:pt x="173" y="840"/>
                  </a:lnTo>
                  <a:lnTo>
                    <a:pt x="162" y="852"/>
                  </a:lnTo>
                  <a:lnTo>
                    <a:pt x="149" y="865"/>
                  </a:lnTo>
                  <a:lnTo>
                    <a:pt x="136" y="876"/>
                  </a:lnTo>
                  <a:lnTo>
                    <a:pt x="123" y="888"/>
                  </a:lnTo>
                  <a:lnTo>
                    <a:pt x="109" y="899"/>
                  </a:lnTo>
                  <a:lnTo>
                    <a:pt x="95" y="911"/>
                  </a:lnTo>
                  <a:lnTo>
                    <a:pt x="81" y="922"/>
                  </a:lnTo>
                  <a:lnTo>
                    <a:pt x="65" y="933"/>
                  </a:lnTo>
                  <a:lnTo>
                    <a:pt x="50" y="943"/>
                  </a:lnTo>
                  <a:lnTo>
                    <a:pt x="34" y="954"/>
                  </a:lnTo>
                  <a:lnTo>
                    <a:pt x="17" y="964"/>
                  </a:lnTo>
                  <a:lnTo>
                    <a:pt x="0" y="975"/>
                  </a:lnTo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23080" y="238284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Table B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07920" y="1937520"/>
              <a:ext cx="887040" cy="1108080"/>
            </a:xfrm>
            <a:custGeom>
              <a:avLst/>
              <a:gdLst/>
              <a:ahLst/>
              <a:rect l="l" t="t" r="r" b="b"/>
              <a:pathLst>
                <a:path w="576" h="803">
                  <a:moveTo>
                    <a:pt x="287" y="803"/>
                  </a:moveTo>
                  <a:lnTo>
                    <a:pt x="304" y="792"/>
                  </a:lnTo>
                  <a:lnTo>
                    <a:pt x="321" y="782"/>
                  </a:lnTo>
                  <a:lnTo>
                    <a:pt x="337" y="771"/>
                  </a:lnTo>
                  <a:lnTo>
                    <a:pt x="352" y="761"/>
                  </a:lnTo>
                  <a:lnTo>
                    <a:pt x="368" y="750"/>
                  </a:lnTo>
                  <a:lnTo>
                    <a:pt x="382" y="739"/>
                  </a:lnTo>
                  <a:lnTo>
                    <a:pt x="396" y="727"/>
                  </a:lnTo>
                  <a:lnTo>
                    <a:pt x="410" y="716"/>
                  </a:lnTo>
                  <a:lnTo>
                    <a:pt x="423" y="704"/>
                  </a:lnTo>
                  <a:lnTo>
                    <a:pt x="436" y="692"/>
                  </a:lnTo>
                  <a:lnTo>
                    <a:pt x="449" y="680"/>
                  </a:lnTo>
                  <a:lnTo>
                    <a:pt x="460" y="668"/>
                  </a:lnTo>
                  <a:lnTo>
                    <a:pt x="471" y="656"/>
                  </a:lnTo>
                  <a:lnTo>
                    <a:pt x="481" y="644"/>
                  </a:lnTo>
                  <a:lnTo>
                    <a:pt x="491" y="631"/>
                  </a:lnTo>
                  <a:lnTo>
                    <a:pt x="501" y="618"/>
                  </a:lnTo>
                  <a:lnTo>
                    <a:pt x="510" y="606"/>
                  </a:lnTo>
                  <a:lnTo>
                    <a:pt x="518" y="593"/>
                  </a:lnTo>
                  <a:lnTo>
                    <a:pt x="525" y="579"/>
                  </a:lnTo>
                  <a:lnTo>
                    <a:pt x="534" y="566"/>
                  </a:lnTo>
                  <a:lnTo>
                    <a:pt x="539" y="553"/>
                  </a:lnTo>
                  <a:lnTo>
                    <a:pt x="546" y="540"/>
                  </a:lnTo>
                  <a:lnTo>
                    <a:pt x="552" y="526"/>
                  </a:lnTo>
                  <a:lnTo>
                    <a:pt x="556" y="512"/>
                  </a:lnTo>
                  <a:lnTo>
                    <a:pt x="560" y="499"/>
                  </a:lnTo>
                  <a:lnTo>
                    <a:pt x="565" y="485"/>
                  </a:lnTo>
                  <a:lnTo>
                    <a:pt x="568" y="471"/>
                  </a:lnTo>
                  <a:lnTo>
                    <a:pt x="570" y="458"/>
                  </a:lnTo>
                  <a:lnTo>
                    <a:pt x="573" y="443"/>
                  </a:lnTo>
                  <a:lnTo>
                    <a:pt x="575" y="430"/>
                  </a:lnTo>
                  <a:lnTo>
                    <a:pt x="575" y="415"/>
                  </a:lnTo>
                  <a:lnTo>
                    <a:pt x="576" y="402"/>
                  </a:lnTo>
                  <a:lnTo>
                    <a:pt x="575" y="387"/>
                  </a:lnTo>
                  <a:lnTo>
                    <a:pt x="575" y="373"/>
                  </a:lnTo>
                  <a:lnTo>
                    <a:pt x="573" y="360"/>
                  </a:lnTo>
                  <a:lnTo>
                    <a:pt x="570" y="345"/>
                  </a:lnTo>
                  <a:lnTo>
                    <a:pt x="568" y="332"/>
                  </a:lnTo>
                  <a:lnTo>
                    <a:pt x="565" y="317"/>
                  </a:lnTo>
                  <a:lnTo>
                    <a:pt x="560" y="304"/>
                  </a:lnTo>
                  <a:lnTo>
                    <a:pt x="556" y="291"/>
                  </a:lnTo>
                  <a:lnTo>
                    <a:pt x="552" y="276"/>
                  </a:lnTo>
                  <a:lnTo>
                    <a:pt x="546" y="263"/>
                  </a:lnTo>
                  <a:lnTo>
                    <a:pt x="539" y="250"/>
                  </a:lnTo>
                  <a:lnTo>
                    <a:pt x="534" y="237"/>
                  </a:lnTo>
                  <a:lnTo>
                    <a:pt x="525" y="223"/>
                  </a:lnTo>
                  <a:lnTo>
                    <a:pt x="518" y="210"/>
                  </a:lnTo>
                  <a:lnTo>
                    <a:pt x="510" y="197"/>
                  </a:lnTo>
                  <a:lnTo>
                    <a:pt x="501" y="185"/>
                  </a:lnTo>
                  <a:lnTo>
                    <a:pt x="491" y="172"/>
                  </a:lnTo>
                  <a:lnTo>
                    <a:pt x="481" y="160"/>
                  </a:lnTo>
                  <a:lnTo>
                    <a:pt x="471" y="147"/>
                  </a:lnTo>
                  <a:lnTo>
                    <a:pt x="460" y="135"/>
                  </a:lnTo>
                  <a:lnTo>
                    <a:pt x="449" y="123"/>
                  </a:lnTo>
                  <a:lnTo>
                    <a:pt x="436" y="111"/>
                  </a:lnTo>
                  <a:lnTo>
                    <a:pt x="423" y="99"/>
                  </a:lnTo>
                  <a:lnTo>
                    <a:pt x="410" y="87"/>
                  </a:lnTo>
                  <a:lnTo>
                    <a:pt x="396" y="75"/>
                  </a:lnTo>
                  <a:lnTo>
                    <a:pt x="382" y="65"/>
                  </a:lnTo>
                  <a:lnTo>
                    <a:pt x="368" y="53"/>
                  </a:lnTo>
                  <a:lnTo>
                    <a:pt x="352" y="42"/>
                  </a:lnTo>
                  <a:lnTo>
                    <a:pt x="337" y="32"/>
                  </a:lnTo>
                  <a:lnTo>
                    <a:pt x="321" y="21"/>
                  </a:lnTo>
                  <a:lnTo>
                    <a:pt x="304" y="10"/>
                  </a:lnTo>
                  <a:lnTo>
                    <a:pt x="287" y="0"/>
                  </a:lnTo>
                  <a:lnTo>
                    <a:pt x="270" y="10"/>
                  </a:lnTo>
                  <a:lnTo>
                    <a:pt x="255" y="21"/>
                  </a:lnTo>
                  <a:lnTo>
                    <a:pt x="238" y="32"/>
                  </a:lnTo>
                  <a:lnTo>
                    <a:pt x="222" y="42"/>
                  </a:lnTo>
                  <a:lnTo>
                    <a:pt x="208" y="53"/>
                  </a:lnTo>
                  <a:lnTo>
                    <a:pt x="192" y="65"/>
                  </a:lnTo>
                  <a:lnTo>
                    <a:pt x="178" y="75"/>
                  </a:lnTo>
                  <a:lnTo>
                    <a:pt x="166" y="87"/>
                  </a:lnTo>
                  <a:lnTo>
                    <a:pt x="151" y="99"/>
                  </a:lnTo>
                  <a:lnTo>
                    <a:pt x="139" y="111"/>
                  </a:lnTo>
                  <a:lnTo>
                    <a:pt x="127" y="123"/>
                  </a:lnTo>
                  <a:lnTo>
                    <a:pt x="116" y="135"/>
                  </a:lnTo>
                  <a:lnTo>
                    <a:pt x="105" y="147"/>
                  </a:lnTo>
                  <a:lnTo>
                    <a:pt x="95" y="160"/>
                  </a:lnTo>
                  <a:lnTo>
                    <a:pt x="85" y="172"/>
                  </a:lnTo>
                  <a:lnTo>
                    <a:pt x="75" y="185"/>
                  </a:lnTo>
                  <a:lnTo>
                    <a:pt x="66" y="197"/>
                  </a:lnTo>
                  <a:lnTo>
                    <a:pt x="58" y="210"/>
                  </a:lnTo>
                  <a:lnTo>
                    <a:pt x="49" y="223"/>
                  </a:lnTo>
                  <a:lnTo>
                    <a:pt x="42" y="237"/>
                  </a:lnTo>
                  <a:lnTo>
                    <a:pt x="35" y="250"/>
                  </a:lnTo>
                  <a:lnTo>
                    <a:pt x="30" y="263"/>
                  </a:lnTo>
                  <a:lnTo>
                    <a:pt x="24" y="276"/>
                  </a:lnTo>
                  <a:lnTo>
                    <a:pt x="20" y="291"/>
                  </a:lnTo>
                  <a:lnTo>
                    <a:pt x="14" y="304"/>
                  </a:lnTo>
                  <a:lnTo>
                    <a:pt x="11" y="317"/>
                  </a:lnTo>
                  <a:lnTo>
                    <a:pt x="7" y="332"/>
                  </a:lnTo>
                  <a:lnTo>
                    <a:pt x="4" y="345"/>
                  </a:lnTo>
                  <a:lnTo>
                    <a:pt x="3" y="360"/>
                  </a:lnTo>
                  <a:lnTo>
                    <a:pt x="1" y="373"/>
                  </a:lnTo>
                  <a:lnTo>
                    <a:pt x="0" y="387"/>
                  </a:lnTo>
                  <a:lnTo>
                    <a:pt x="0" y="402"/>
                  </a:lnTo>
                  <a:lnTo>
                    <a:pt x="0" y="415"/>
                  </a:lnTo>
                  <a:lnTo>
                    <a:pt x="1" y="430"/>
                  </a:lnTo>
                  <a:lnTo>
                    <a:pt x="3" y="443"/>
                  </a:lnTo>
                  <a:lnTo>
                    <a:pt x="4" y="458"/>
                  </a:lnTo>
                  <a:lnTo>
                    <a:pt x="7" y="471"/>
                  </a:lnTo>
                  <a:lnTo>
                    <a:pt x="11" y="485"/>
                  </a:lnTo>
                  <a:lnTo>
                    <a:pt x="14" y="499"/>
                  </a:lnTo>
                  <a:lnTo>
                    <a:pt x="20" y="512"/>
                  </a:lnTo>
                  <a:lnTo>
                    <a:pt x="24" y="526"/>
                  </a:lnTo>
                  <a:lnTo>
                    <a:pt x="30" y="540"/>
                  </a:lnTo>
                  <a:lnTo>
                    <a:pt x="35" y="553"/>
                  </a:lnTo>
                  <a:lnTo>
                    <a:pt x="42" y="566"/>
                  </a:lnTo>
                  <a:lnTo>
                    <a:pt x="49" y="579"/>
                  </a:lnTo>
                  <a:lnTo>
                    <a:pt x="58" y="593"/>
                  </a:lnTo>
                  <a:lnTo>
                    <a:pt x="66" y="606"/>
                  </a:lnTo>
                  <a:lnTo>
                    <a:pt x="75" y="618"/>
                  </a:lnTo>
                  <a:lnTo>
                    <a:pt x="85" y="631"/>
                  </a:lnTo>
                  <a:lnTo>
                    <a:pt x="95" y="644"/>
                  </a:lnTo>
                  <a:lnTo>
                    <a:pt x="105" y="656"/>
                  </a:lnTo>
                  <a:lnTo>
                    <a:pt x="116" y="668"/>
                  </a:lnTo>
                  <a:lnTo>
                    <a:pt x="127" y="680"/>
                  </a:lnTo>
                  <a:lnTo>
                    <a:pt x="139" y="692"/>
                  </a:lnTo>
                  <a:lnTo>
                    <a:pt x="151" y="704"/>
                  </a:lnTo>
                  <a:lnTo>
                    <a:pt x="166" y="716"/>
                  </a:lnTo>
                  <a:lnTo>
                    <a:pt x="178" y="727"/>
                  </a:lnTo>
                  <a:lnTo>
                    <a:pt x="192" y="739"/>
                  </a:lnTo>
                  <a:lnTo>
                    <a:pt x="208" y="750"/>
                  </a:lnTo>
                  <a:lnTo>
                    <a:pt x="222" y="761"/>
                  </a:lnTo>
                  <a:lnTo>
                    <a:pt x="238" y="771"/>
                  </a:lnTo>
                  <a:lnTo>
                    <a:pt x="255" y="782"/>
                  </a:lnTo>
                  <a:lnTo>
                    <a:pt x="270" y="792"/>
                  </a:lnTo>
                  <a:lnTo>
                    <a:pt x="287" y="803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07920" y="1937520"/>
              <a:ext cx="887040" cy="1108080"/>
            </a:xfrm>
            <a:custGeom>
              <a:avLst/>
              <a:gdLst/>
              <a:ahLst/>
              <a:rect l="l" t="t" r="r" b="b"/>
              <a:pathLst>
                <a:path w="576" h="803">
                  <a:moveTo>
                    <a:pt x="287" y="803"/>
                  </a:moveTo>
                  <a:lnTo>
                    <a:pt x="304" y="792"/>
                  </a:lnTo>
                  <a:lnTo>
                    <a:pt x="321" y="782"/>
                  </a:lnTo>
                  <a:lnTo>
                    <a:pt x="337" y="771"/>
                  </a:lnTo>
                  <a:lnTo>
                    <a:pt x="352" y="761"/>
                  </a:lnTo>
                  <a:lnTo>
                    <a:pt x="368" y="750"/>
                  </a:lnTo>
                  <a:lnTo>
                    <a:pt x="382" y="739"/>
                  </a:lnTo>
                  <a:lnTo>
                    <a:pt x="396" y="727"/>
                  </a:lnTo>
                  <a:lnTo>
                    <a:pt x="410" y="716"/>
                  </a:lnTo>
                  <a:lnTo>
                    <a:pt x="423" y="704"/>
                  </a:lnTo>
                  <a:lnTo>
                    <a:pt x="436" y="692"/>
                  </a:lnTo>
                  <a:lnTo>
                    <a:pt x="449" y="680"/>
                  </a:lnTo>
                  <a:lnTo>
                    <a:pt x="460" y="668"/>
                  </a:lnTo>
                  <a:lnTo>
                    <a:pt x="471" y="656"/>
                  </a:lnTo>
                  <a:lnTo>
                    <a:pt x="481" y="644"/>
                  </a:lnTo>
                  <a:lnTo>
                    <a:pt x="491" y="631"/>
                  </a:lnTo>
                  <a:lnTo>
                    <a:pt x="501" y="618"/>
                  </a:lnTo>
                  <a:lnTo>
                    <a:pt x="510" y="606"/>
                  </a:lnTo>
                  <a:lnTo>
                    <a:pt x="518" y="593"/>
                  </a:lnTo>
                  <a:lnTo>
                    <a:pt x="525" y="579"/>
                  </a:lnTo>
                  <a:lnTo>
                    <a:pt x="534" y="566"/>
                  </a:lnTo>
                  <a:lnTo>
                    <a:pt x="539" y="553"/>
                  </a:lnTo>
                  <a:lnTo>
                    <a:pt x="546" y="540"/>
                  </a:lnTo>
                  <a:lnTo>
                    <a:pt x="552" y="526"/>
                  </a:lnTo>
                  <a:lnTo>
                    <a:pt x="556" y="512"/>
                  </a:lnTo>
                  <a:lnTo>
                    <a:pt x="560" y="499"/>
                  </a:lnTo>
                  <a:lnTo>
                    <a:pt x="565" y="485"/>
                  </a:lnTo>
                  <a:lnTo>
                    <a:pt x="568" y="471"/>
                  </a:lnTo>
                  <a:lnTo>
                    <a:pt x="570" y="458"/>
                  </a:lnTo>
                  <a:lnTo>
                    <a:pt x="573" y="443"/>
                  </a:lnTo>
                  <a:lnTo>
                    <a:pt x="575" y="430"/>
                  </a:lnTo>
                  <a:lnTo>
                    <a:pt x="575" y="415"/>
                  </a:lnTo>
                  <a:lnTo>
                    <a:pt x="576" y="402"/>
                  </a:lnTo>
                  <a:lnTo>
                    <a:pt x="575" y="387"/>
                  </a:lnTo>
                  <a:lnTo>
                    <a:pt x="575" y="373"/>
                  </a:lnTo>
                  <a:lnTo>
                    <a:pt x="573" y="360"/>
                  </a:lnTo>
                  <a:lnTo>
                    <a:pt x="570" y="345"/>
                  </a:lnTo>
                  <a:lnTo>
                    <a:pt x="568" y="332"/>
                  </a:lnTo>
                  <a:lnTo>
                    <a:pt x="565" y="317"/>
                  </a:lnTo>
                  <a:lnTo>
                    <a:pt x="560" y="304"/>
                  </a:lnTo>
                  <a:lnTo>
                    <a:pt x="556" y="291"/>
                  </a:lnTo>
                  <a:lnTo>
                    <a:pt x="552" y="276"/>
                  </a:lnTo>
                  <a:lnTo>
                    <a:pt x="546" y="263"/>
                  </a:lnTo>
                  <a:lnTo>
                    <a:pt x="539" y="250"/>
                  </a:lnTo>
                  <a:lnTo>
                    <a:pt x="534" y="237"/>
                  </a:lnTo>
                  <a:lnTo>
                    <a:pt x="525" y="223"/>
                  </a:lnTo>
                  <a:lnTo>
                    <a:pt x="518" y="210"/>
                  </a:lnTo>
                  <a:lnTo>
                    <a:pt x="510" y="197"/>
                  </a:lnTo>
                  <a:lnTo>
                    <a:pt x="501" y="185"/>
                  </a:lnTo>
                  <a:lnTo>
                    <a:pt x="491" y="172"/>
                  </a:lnTo>
                  <a:lnTo>
                    <a:pt x="481" y="160"/>
                  </a:lnTo>
                  <a:lnTo>
                    <a:pt x="471" y="147"/>
                  </a:lnTo>
                  <a:lnTo>
                    <a:pt x="460" y="135"/>
                  </a:lnTo>
                  <a:lnTo>
                    <a:pt x="449" y="123"/>
                  </a:lnTo>
                  <a:lnTo>
                    <a:pt x="436" y="111"/>
                  </a:lnTo>
                  <a:lnTo>
                    <a:pt x="423" y="99"/>
                  </a:lnTo>
                  <a:lnTo>
                    <a:pt x="410" y="87"/>
                  </a:lnTo>
                  <a:lnTo>
                    <a:pt x="396" y="75"/>
                  </a:lnTo>
                  <a:lnTo>
                    <a:pt x="382" y="65"/>
                  </a:lnTo>
                  <a:lnTo>
                    <a:pt x="368" y="53"/>
                  </a:lnTo>
                  <a:lnTo>
                    <a:pt x="352" y="42"/>
                  </a:lnTo>
                  <a:lnTo>
                    <a:pt x="337" y="32"/>
                  </a:lnTo>
                  <a:lnTo>
                    <a:pt x="321" y="21"/>
                  </a:lnTo>
                  <a:lnTo>
                    <a:pt x="304" y="10"/>
                  </a:lnTo>
                  <a:lnTo>
                    <a:pt x="287" y="0"/>
                  </a:lnTo>
                  <a:lnTo>
                    <a:pt x="270" y="10"/>
                  </a:lnTo>
                  <a:lnTo>
                    <a:pt x="255" y="21"/>
                  </a:lnTo>
                  <a:lnTo>
                    <a:pt x="238" y="32"/>
                  </a:lnTo>
                  <a:lnTo>
                    <a:pt x="222" y="42"/>
                  </a:lnTo>
                  <a:lnTo>
                    <a:pt x="208" y="53"/>
                  </a:lnTo>
                  <a:lnTo>
                    <a:pt x="192" y="65"/>
                  </a:lnTo>
                  <a:lnTo>
                    <a:pt x="178" y="75"/>
                  </a:lnTo>
                  <a:lnTo>
                    <a:pt x="166" y="87"/>
                  </a:lnTo>
                  <a:lnTo>
                    <a:pt x="151" y="99"/>
                  </a:lnTo>
                  <a:lnTo>
                    <a:pt x="139" y="111"/>
                  </a:lnTo>
                  <a:lnTo>
                    <a:pt x="127" y="123"/>
                  </a:lnTo>
                  <a:lnTo>
                    <a:pt x="116" y="135"/>
                  </a:lnTo>
                  <a:lnTo>
                    <a:pt x="105" y="147"/>
                  </a:lnTo>
                  <a:lnTo>
                    <a:pt x="95" y="160"/>
                  </a:lnTo>
                  <a:lnTo>
                    <a:pt x="85" y="172"/>
                  </a:lnTo>
                  <a:lnTo>
                    <a:pt x="75" y="185"/>
                  </a:lnTo>
                  <a:lnTo>
                    <a:pt x="66" y="197"/>
                  </a:lnTo>
                  <a:lnTo>
                    <a:pt x="58" y="210"/>
                  </a:lnTo>
                  <a:lnTo>
                    <a:pt x="49" y="223"/>
                  </a:lnTo>
                  <a:lnTo>
                    <a:pt x="42" y="237"/>
                  </a:lnTo>
                  <a:lnTo>
                    <a:pt x="35" y="250"/>
                  </a:lnTo>
                  <a:lnTo>
                    <a:pt x="30" y="263"/>
                  </a:lnTo>
                  <a:lnTo>
                    <a:pt x="24" y="276"/>
                  </a:lnTo>
                  <a:lnTo>
                    <a:pt x="20" y="291"/>
                  </a:lnTo>
                  <a:lnTo>
                    <a:pt x="14" y="304"/>
                  </a:lnTo>
                  <a:lnTo>
                    <a:pt x="11" y="317"/>
                  </a:lnTo>
                  <a:lnTo>
                    <a:pt x="7" y="332"/>
                  </a:lnTo>
                  <a:lnTo>
                    <a:pt x="4" y="345"/>
                  </a:lnTo>
                  <a:lnTo>
                    <a:pt x="3" y="360"/>
                  </a:lnTo>
                  <a:lnTo>
                    <a:pt x="1" y="373"/>
                  </a:lnTo>
                  <a:lnTo>
                    <a:pt x="0" y="387"/>
                  </a:lnTo>
                  <a:lnTo>
                    <a:pt x="0" y="402"/>
                  </a:lnTo>
                  <a:lnTo>
                    <a:pt x="0" y="415"/>
                  </a:lnTo>
                  <a:lnTo>
                    <a:pt x="1" y="430"/>
                  </a:lnTo>
                  <a:lnTo>
                    <a:pt x="3" y="443"/>
                  </a:lnTo>
                  <a:lnTo>
                    <a:pt x="4" y="458"/>
                  </a:lnTo>
                  <a:lnTo>
                    <a:pt x="7" y="471"/>
                  </a:lnTo>
                  <a:lnTo>
                    <a:pt x="11" y="485"/>
                  </a:lnTo>
                  <a:lnTo>
                    <a:pt x="14" y="499"/>
                  </a:lnTo>
                  <a:lnTo>
                    <a:pt x="20" y="512"/>
                  </a:lnTo>
                  <a:lnTo>
                    <a:pt x="24" y="526"/>
                  </a:lnTo>
                  <a:lnTo>
                    <a:pt x="30" y="540"/>
                  </a:lnTo>
                  <a:lnTo>
                    <a:pt x="35" y="553"/>
                  </a:lnTo>
                  <a:lnTo>
                    <a:pt x="42" y="566"/>
                  </a:lnTo>
                  <a:lnTo>
                    <a:pt x="49" y="579"/>
                  </a:lnTo>
                  <a:lnTo>
                    <a:pt x="58" y="593"/>
                  </a:lnTo>
                  <a:lnTo>
                    <a:pt x="66" y="606"/>
                  </a:lnTo>
                  <a:lnTo>
                    <a:pt x="75" y="618"/>
                  </a:lnTo>
                  <a:lnTo>
                    <a:pt x="85" y="631"/>
                  </a:lnTo>
                  <a:lnTo>
                    <a:pt x="95" y="644"/>
                  </a:lnTo>
                  <a:lnTo>
                    <a:pt x="105" y="656"/>
                  </a:lnTo>
                  <a:lnTo>
                    <a:pt x="116" y="668"/>
                  </a:lnTo>
                  <a:lnTo>
                    <a:pt x="127" y="680"/>
                  </a:lnTo>
                  <a:lnTo>
                    <a:pt x="139" y="692"/>
                  </a:lnTo>
                  <a:lnTo>
                    <a:pt x="151" y="704"/>
                  </a:lnTo>
                  <a:lnTo>
                    <a:pt x="166" y="716"/>
                  </a:lnTo>
                  <a:lnTo>
                    <a:pt x="178" y="727"/>
                  </a:lnTo>
                  <a:lnTo>
                    <a:pt x="192" y="739"/>
                  </a:lnTo>
                  <a:lnTo>
                    <a:pt x="208" y="750"/>
                  </a:lnTo>
                  <a:lnTo>
                    <a:pt x="222" y="761"/>
                  </a:lnTo>
                  <a:lnTo>
                    <a:pt x="238" y="771"/>
                  </a:lnTo>
                  <a:lnTo>
                    <a:pt x="255" y="782"/>
                  </a:lnTo>
                  <a:lnTo>
                    <a:pt x="270" y="792"/>
                  </a:lnTo>
                  <a:lnTo>
                    <a:pt x="287" y="80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776240" y="3486240"/>
            <a:ext cx="71406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282960" indent="-2829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dition must be met in both tables for inclu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4200" indent="-19404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Semantically equivalent to ‘Inner Join’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2960" indent="-28296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95360" y="1692360"/>
            <a:ext cx="5288040" cy="1579320"/>
            <a:chOff x="2295360" y="1692360"/>
            <a:chExt cx="5288040" cy="1579320"/>
          </a:xfrm>
        </p:grpSpPr>
        <p:sp>
          <p:nvSpPr>
            <p:cNvPr id="86" name=""/>
            <p:cNvSpPr/>
            <p:nvPr/>
          </p:nvSpPr>
          <p:spPr>
            <a:xfrm>
              <a:off x="2295360" y="1692360"/>
              <a:ext cx="2643480" cy="1579320"/>
            </a:xfrm>
            <a:custGeom>
              <a:avLst/>
              <a:gdLst/>
              <a:ahLst/>
              <a:rect l="l" t="t" r="r" b="b"/>
              <a:pathLst>
                <a:path w="1665" h="995">
                  <a:moveTo>
                    <a:pt x="1665" y="846"/>
                  </a:moveTo>
                  <a:lnTo>
                    <a:pt x="1648" y="836"/>
                  </a:lnTo>
                  <a:lnTo>
                    <a:pt x="1633" y="827"/>
                  </a:lnTo>
                  <a:lnTo>
                    <a:pt x="1617" y="818"/>
                  </a:lnTo>
                  <a:lnTo>
                    <a:pt x="1602" y="809"/>
                  </a:lnTo>
                  <a:lnTo>
                    <a:pt x="1588" y="800"/>
                  </a:lnTo>
                  <a:lnTo>
                    <a:pt x="1573" y="790"/>
                  </a:lnTo>
                  <a:lnTo>
                    <a:pt x="1560" y="780"/>
                  </a:lnTo>
                  <a:lnTo>
                    <a:pt x="1547" y="770"/>
                  </a:lnTo>
                  <a:lnTo>
                    <a:pt x="1534" y="760"/>
                  </a:lnTo>
                  <a:lnTo>
                    <a:pt x="1521" y="749"/>
                  </a:lnTo>
                  <a:lnTo>
                    <a:pt x="1511" y="739"/>
                  </a:lnTo>
                  <a:lnTo>
                    <a:pt x="1500" y="729"/>
                  </a:lnTo>
                  <a:lnTo>
                    <a:pt x="1489" y="718"/>
                  </a:lnTo>
                  <a:lnTo>
                    <a:pt x="1479" y="708"/>
                  </a:lnTo>
                  <a:lnTo>
                    <a:pt x="1470" y="696"/>
                  </a:lnTo>
                  <a:lnTo>
                    <a:pt x="1460" y="685"/>
                  </a:lnTo>
                  <a:lnTo>
                    <a:pt x="1452" y="675"/>
                  </a:lnTo>
                  <a:lnTo>
                    <a:pt x="1444" y="663"/>
                  </a:lnTo>
                  <a:lnTo>
                    <a:pt x="1435" y="652"/>
                  </a:lnTo>
                  <a:lnTo>
                    <a:pt x="1429" y="640"/>
                  </a:lnTo>
                  <a:lnTo>
                    <a:pt x="1422" y="629"/>
                  </a:lnTo>
                  <a:lnTo>
                    <a:pt x="1416" y="617"/>
                  </a:lnTo>
                  <a:lnTo>
                    <a:pt x="1411" y="606"/>
                  </a:lnTo>
                  <a:lnTo>
                    <a:pt x="1407" y="593"/>
                  </a:lnTo>
                  <a:lnTo>
                    <a:pt x="1401" y="582"/>
                  </a:lnTo>
                  <a:lnTo>
                    <a:pt x="1399" y="570"/>
                  </a:lnTo>
                  <a:lnTo>
                    <a:pt x="1394" y="558"/>
                  </a:lnTo>
                  <a:lnTo>
                    <a:pt x="1392" y="546"/>
                  </a:lnTo>
                  <a:lnTo>
                    <a:pt x="1390" y="534"/>
                  </a:lnTo>
                  <a:lnTo>
                    <a:pt x="1389" y="522"/>
                  </a:lnTo>
                  <a:lnTo>
                    <a:pt x="1388" y="509"/>
                  </a:lnTo>
                  <a:lnTo>
                    <a:pt x="1388" y="498"/>
                  </a:lnTo>
                  <a:lnTo>
                    <a:pt x="1388" y="485"/>
                  </a:lnTo>
                  <a:lnTo>
                    <a:pt x="1389" y="473"/>
                  </a:lnTo>
                  <a:lnTo>
                    <a:pt x="1390" y="461"/>
                  </a:lnTo>
                  <a:lnTo>
                    <a:pt x="1392" y="449"/>
                  </a:lnTo>
                  <a:lnTo>
                    <a:pt x="1394" y="437"/>
                  </a:lnTo>
                  <a:lnTo>
                    <a:pt x="1399" y="425"/>
                  </a:lnTo>
                  <a:lnTo>
                    <a:pt x="1401" y="413"/>
                  </a:lnTo>
                  <a:lnTo>
                    <a:pt x="1407" y="402"/>
                  </a:lnTo>
                  <a:lnTo>
                    <a:pt x="1411" y="389"/>
                  </a:lnTo>
                  <a:lnTo>
                    <a:pt x="1416" y="378"/>
                  </a:lnTo>
                  <a:lnTo>
                    <a:pt x="1422" y="366"/>
                  </a:lnTo>
                  <a:lnTo>
                    <a:pt x="1429" y="355"/>
                  </a:lnTo>
                  <a:lnTo>
                    <a:pt x="1435" y="343"/>
                  </a:lnTo>
                  <a:lnTo>
                    <a:pt x="1444" y="332"/>
                  </a:lnTo>
                  <a:lnTo>
                    <a:pt x="1452" y="320"/>
                  </a:lnTo>
                  <a:lnTo>
                    <a:pt x="1460" y="310"/>
                  </a:lnTo>
                  <a:lnTo>
                    <a:pt x="1470" y="298"/>
                  </a:lnTo>
                  <a:lnTo>
                    <a:pt x="1479" y="288"/>
                  </a:lnTo>
                  <a:lnTo>
                    <a:pt x="1489" y="277"/>
                  </a:lnTo>
                  <a:lnTo>
                    <a:pt x="1500" y="266"/>
                  </a:lnTo>
                  <a:lnTo>
                    <a:pt x="1511" y="256"/>
                  </a:lnTo>
                  <a:lnTo>
                    <a:pt x="1521" y="246"/>
                  </a:lnTo>
                  <a:lnTo>
                    <a:pt x="1534" y="235"/>
                  </a:lnTo>
                  <a:lnTo>
                    <a:pt x="1547" y="225"/>
                  </a:lnTo>
                  <a:lnTo>
                    <a:pt x="1560" y="215"/>
                  </a:lnTo>
                  <a:lnTo>
                    <a:pt x="1573" y="206"/>
                  </a:lnTo>
                  <a:lnTo>
                    <a:pt x="1588" y="195"/>
                  </a:lnTo>
                  <a:lnTo>
                    <a:pt x="1602" y="186"/>
                  </a:lnTo>
                  <a:lnTo>
                    <a:pt x="1617" y="177"/>
                  </a:lnTo>
                  <a:lnTo>
                    <a:pt x="1633" y="168"/>
                  </a:lnTo>
                  <a:lnTo>
                    <a:pt x="1648" y="158"/>
                  </a:lnTo>
                  <a:lnTo>
                    <a:pt x="1665" y="149"/>
                  </a:lnTo>
                  <a:lnTo>
                    <a:pt x="1629" y="132"/>
                  </a:lnTo>
                  <a:lnTo>
                    <a:pt x="1592" y="115"/>
                  </a:lnTo>
                  <a:lnTo>
                    <a:pt x="1554" y="99"/>
                  </a:lnTo>
                  <a:lnTo>
                    <a:pt x="1515" y="85"/>
                  </a:lnTo>
                  <a:lnTo>
                    <a:pt x="1474" y="71"/>
                  </a:lnTo>
                  <a:lnTo>
                    <a:pt x="1431" y="60"/>
                  </a:lnTo>
                  <a:lnTo>
                    <a:pt x="1389" y="48"/>
                  </a:lnTo>
                  <a:lnTo>
                    <a:pt x="1347" y="38"/>
                  </a:lnTo>
                  <a:lnTo>
                    <a:pt x="1302" y="30"/>
                  </a:lnTo>
                  <a:lnTo>
                    <a:pt x="1258" y="22"/>
                  </a:lnTo>
                  <a:lnTo>
                    <a:pt x="1213" y="16"/>
                  </a:lnTo>
                  <a:lnTo>
                    <a:pt x="1166" y="11"/>
                  </a:lnTo>
                  <a:lnTo>
                    <a:pt x="1121" y="6"/>
                  </a:lnTo>
                  <a:lnTo>
                    <a:pt x="1075" y="2"/>
                  </a:lnTo>
                  <a:lnTo>
                    <a:pt x="1028" y="1"/>
                  </a:lnTo>
                  <a:lnTo>
                    <a:pt x="982" y="0"/>
                  </a:lnTo>
                  <a:lnTo>
                    <a:pt x="934" y="0"/>
                  </a:lnTo>
                  <a:lnTo>
                    <a:pt x="888" y="2"/>
                  </a:lnTo>
                  <a:lnTo>
                    <a:pt x="841" y="5"/>
                  </a:lnTo>
                  <a:lnTo>
                    <a:pt x="796" y="8"/>
                  </a:lnTo>
                  <a:lnTo>
                    <a:pt x="750" y="13"/>
                  </a:lnTo>
                  <a:lnTo>
                    <a:pt x="705" y="20"/>
                  </a:lnTo>
                  <a:lnTo>
                    <a:pt x="660" y="27"/>
                  </a:lnTo>
                  <a:lnTo>
                    <a:pt x="615" y="35"/>
                  </a:lnTo>
                  <a:lnTo>
                    <a:pt x="571" y="44"/>
                  </a:lnTo>
                  <a:lnTo>
                    <a:pt x="529" y="55"/>
                  </a:lnTo>
                  <a:lnTo>
                    <a:pt x="486" y="67"/>
                  </a:lnTo>
                  <a:lnTo>
                    <a:pt x="445" y="79"/>
                  </a:lnTo>
                  <a:lnTo>
                    <a:pt x="406" y="93"/>
                  </a:lnTo>
                  <a:lnTo>
                    <a:pt x="366" y="108"/>
                  </a:lnTo>
                  <a:lnTo>
                    <a:pt x="328" y="125"/>
                  </a:lnTo>
                  <a:lnTo>
                    <a:pt x="292" y="142"/>
                  </a:lnTo>
                  <a:lnTo>
                    <a:pt x="275" y="152"/>
                  </a:lnTo>
                  <a:lnTo>
                    <a:pt x="258" y="161"/>
                  </a:lnTo>
                  <a:lnTo>
                    <a:pt x="242" y="170"/>
                  </a:lnTo>
                  <a:lnTo>
                    <a:pt x="225" y="179"/>
                  </a:lnTo>
                  <a:lnTo>
                    <a:pt x="210" y="188"/>
                  </a:lnTo>
                  <a:lnTo>
                    <a:pt x="195" y="199"/>
                  </a:lnTo>
                  <a:lnTo>
                    <a:pt x="182" y="208"/>
                  </a:lnTo>
                  <a:lnTo>
                    <a:pt x="168" y="218"/>
                  </a:lnTo>
                  <a:lnTo>
                    <a:pt x="154" y="228"/>
                  </a:lnTo>
                  <a:lnTo>
                    <a:pt x="142" y="239"/>
                  </a:lnTo>
                  <a:lnTo>
                    <a:pt x="130" y="250"/>
                  </a:lnTo>
                  <a:lnTo>
                    <a:pt x="118" y="261"/>
                  </a:lnTo>
                  <a:lnTo>
                    <a:pt x="107" y="271"/>
                  </a:lnTo>
                  <a:lnTo>
                    <a:pt x="96" y="282"/>
                  </a:lnTo>
                  <a:lnTo>
                    <a:pt x="86" y="294"/>
                  </a:lnTo>
                  <a:lnTo>
                    <a:pt x="77" y="305"/>
                  </a:lnTo>
                  <a:lnTo>
                    <a:pt x="67" y="317"/>
                  </a:lnTo>
                  <a:lnTo>
                    <a:pt x="59" y="328"/>
                  </a:lnTo>
                  <a:lnTo>
                    <a:pt x="51" y="340"/>
                  </a:lnTo>
                  <a:lnTo>
                    <a:pt x="44" y="351"/>
                  </a:lnTo>
                  <a:lnTo>
                    <a:pt x="37" y="363"/>
                  </a:lnTo>
                  <a:lnTo>
                    <a:pt x="30" y="375"/>
                  </a:lnTo>
                  <a:lnTo>
                    <a:pt x="25" y="387"/>
                  </a:lnTo>
                  <a:lnTo>
                    <a:pt x="19" y="398"/>
                  </a:lnTo>
                  <a:lnTo>
                    <a:pt x="15" y="411"/>
                  </a:lnTo>
                  <a:lnTo>
                    <a:pt x="11" y="423"/>
                  </a:lnTo>
                  <a:lnTo>
                    <a:pt x="8" y="435"/>
                  </a:lnTo>
                  <a:lnTo>
                    <a:pt x="6" y="448"/>
                  </a:lnTo>
                  <a:lnTo>
                    <a:pt x="3" y="460"/>
                  </a:lnTo>
                  <a:lnTo>
                    <a:pt x="1" y="473"/>
                  </a:lnTo>
                  <a:lnTo>
                    <a:pt x="0" y="485"/>
                  </a:lnTo>
                  <a:lnTo>
                    <a:pt x="0" y="498"/>
                  </a:lnTo>
                  <a:lnTo>
                    <a:pt x="1" y="523"/>
                  </a:lnTo>
                  <a:lnTo>
                    <a:pt x="6" y="548"/>
                  </a:lnTo>
                  <a:lnTo>
                    <a:pt x="11" y="574"/>
                  </a:lnTo>
                  <a:lnTo>
                    <a:pt x="21" y="598"/>
                  </a:lnTo>
                  <a:lnTo>
                    <a:pt x="30" y="622"/>
                  </a:lnTo>
                  <a:lnTo>
                    <a:pt x="44" y="645"/>
                  </a:lnTo>
                  <a:lnTo>
                    <a:pt x="59" y="669"/>
                  </a:lnTo>
                  <a:lnTo>
                    <a:pt x="77" y="691"/>
                  </a:lnTo>
                  <a:lnTo>
                    <a:pt x="96" y="712"/>
                  </a:lnTo>
                  <a:lnTo>
                    <a:pt x="118" y="734"/>
                  </a:lnTo>
                  <a:lnTo>
                    <a:pt x="141" y="755"/>
                  </a:lnTo>
                  <a:lnTo>
                    <a:pt x="167" y="776"/>
                  </a:lnTo>
                  <a:lnTo>
                    <a:pt x="193" y="795"/>
                  </a:lnTo>
                  <a:lnTo>
                    <a:pt x="223" y="813"/>
                  </a:lnTo>
                  <a:lnTo>
                    <a:pt x="253" y="832"/>
                  </a:lnTo>
                  <a:lnTo>
                    <a:pt x="284" y="849"/>
                  </a:lnTo>
                  <a:lnTo>
                    <a:pt x="318" y="865"/>
                  </a:lnTo>
                  <a:lnTo>
                    <a:pt x="354" y="881"/>
                  </a:lnTo>
                  <a:lnTo>
                    <a:pt x="391" y="896"/>
                  </a:lnTo>
                  <a:lnTo>
                    <a:pt x="429" y="910"/>
                  </a:lnTo>
                  <a:lnTo>
                    <a:pt x="469" y="922"/>
                  </a:lnTo>
                  <a:lnTo>
                    <a:pt x="508" y="935"/>
                  </a:lnTo>
                  <a:lnTo>
                    <a:pt x="550" y="945"/>
                  </a:lnTo>
                  <a:lnTo>
                    <a:pt x="593" y="956"/>
                  </a:lnTo>
                  <a:lnTo>
                    <a:pt x="638" y="965"/>
                  </a:lnTo>
                  <a:lnTo>
                    <a:pt x="683" y="973"/>
                  </a:lnTo>
                  <a:lnTo>
                    <a:pt x="729" y="979"/>
                  </a:lnTo>
                  <a:lnTo>
                    <a:pt x="776" y="984"/>
                  </a:lnTo>
                  <a:lnTo>
                    <a:pt x="824" y="989"/>
                  </a:lnTo>
                  <a:lnTo>
                    <a:pt x="873" y="992"/>
                  </a:lnTo>
                  <a:lnTo>
                    <a:pt x="922" y="994"/>
                  </a:lnTo>
                  <a:lnTo>
                    <a:pt x="971" y="995"/>
                  </a:lnTo>
                  <a:lnTo>
                    <a:pt x="996" y="995"/>
                  </a:lnTo>
                  <a:lnTo>
                    <a:pt x="1020" y="994"/>
                  </a:lnTo>
                  <a:lnTo>
                    <a:pt x="1045" y="994"/>
                  </a:lnTo>
                  <a:lnTo>
                    <a:pt x="1069" y="992"/>
                  </a:lnTo>
                  <a:lnTo>
                    <a:pt x="1093" y="991"/>
                  </a:lnTo>
                  <a:lnTo>
                    <a:pt x="1117" y="989"/>
                  </a:lnTo>
                  <a:lnTo>
                    <a:pt x="1140" y="987"/>
                  </a:lnTo>
                  <a:lnTo>
                    <a:pt x="1165" y="984"/>
                  </a:lnTo>
                  <a:lnTo>
                    <a:pt x="1188" y="982"/>
                  </a:lnTo>
                  <a:lnTo>
                    <a:pt x="1211" y="980"/>
                  </a:lnTo>
                  <a:lnTo>
                    <a:pt x="1235" y="976"/>
                  </a:lnTo>
                  <a:lnTo>
                    <a:pt x="1258" y="973"/>
                  </a:lnTo>
                  <a:lnTo>
                    <a:pt x="1281" y="969"/>
                  </a:lnTo>
                  <a:lnTo>
                    <a:pt x="1303" y="965"/>
                  </a:lnTo>
                  <a:lnTo>
                    <a:pt x="1348" y="956"/>
                  </a:lnTo>
                  <a:lnTo>
                    <a:pt x="1392" y="945"/>
                  </a:lnTo>
                  <a:lnTo>
                    <a:pt x="1434" y="935"/>
                  </a:lnTo>
                  <a:lnTo>
                    <a:pt x="1476" y="922"/>
                  </a:lnTo>
                  <a:lnTo>
                    <a:pt x="1516" y="909"/>
                  </a:lnTo>
                  <a:lnTo>
                    <a:pt x="1556" y="895"/>
                  </a:lnTo>
                  <a:lnTo>
                    <a:pt x="1575" y="887"/>
                  </a:lnTo>
                  <a:lnTo>
                    <a:pt x="1594" y="879"/>
                  </a:lnTo>
                  <a:lnTo>
                    <a:pt x="1612" y="871"/>
                  </a:lnTo>
                  <a:lnTo>
                    <a:pt x="1631" y="863"/>
                  </a:lnTo>
                  <a:lnTo>
                    <a:pt x="1648" y="855"/>
                  </a:lnTo>
                  <a:lnTo>
                    <a:pt x="1665" y="84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95360" y="1692360"/>
              <a:ext cx="2643480" cy="1579320"/>
            </a:xfrm>
            <a:custGeom>
              <a:avLst/>
              <a:gdLst/>
              <a:ahLst/>
              <a:rect l="l" t="t" r="r" b="b"/>
              <a:pathLst>
                <a:path w="1665" h="995">
                  <a:moveTo>
                    <a:pt x="1665" y="846"/>
                  </a:moveTo>
                  <a:lnTo>
                    <a:pt x="1648" y="836"/>
                  </a:lnTo>
                  <a:lnTo>
                    <a:pt x="1633" y="827"/>
                  </a:lnTo>
                  <a:lnTo>
                    <a:pt x="1617" y="818"/>
                  </a:lnTo>
                  <a:lnTo>
                    <a:pt x="1602" y="809"/>
                  </a:lnTo>
                  <a:lnTo>
                    <a:pt x="1588" y="800"/>
                  </a:lnTo>
                  <a:lnTo>
                    <a:pt x="1573" y="790"/>
                  </a:lnTo>
                  <a:lnTo>
                    <a:pt x="1560" y="780"/>
                  </a:lnTo>
                  <a:lnTo>
                    <a:pt x="1547" y="770"/>
                  </a:lnTo>
                  <a:lnTo>
                    <a:pt x="1534" y="760"/>
                  </a:lnTo>
                  <a:lnTo>
                    <a:pt x="1521" y="749"/>
                  </a:lnTo>
                  <a:lnTo>
                    <a:pt x="1511" y="739"/>
                  </a:lnTo>
                  <a:lnTo>
                    <a:pt x="1500" y="729"/>
                  </a:lnTo>
                  <a:lnTo>
                    <a:pt x="1489" y="718"/>
                  </a:lnTo>
                  <a:lnTo>
                    <a:pt x="1479" y="708"/>
                  </a:lnTo>
                  <a:lnTo>
                    <a:pt x="1470" y="696"/>
                  </a:lnTo>
                  <a:lnTo>
                    <a:pt x="1460" y="685"/>
                  </a:lnTo>
                  <a:lnTo>
                    <a:pt x="1452" y="675"/>
                  </a:lnTo>
                  <a:lnTo>
                    <a:pt x="1444" y="663"/>
                  </a:lnTo>
                  <a:lnTo>
                    <a:pt x="1435" y="652"/>
                  </a:lnTo>
                  <a:lnTo>
                    <a:pt x="1429" y="640"/>
                  </a:lnTo>
                  <a:lnTo>
                    <a:pt x="1422" y="629"/>
                  </a:lnTo>
                  <a:lnTo>
                    <a:pt x="1416" y="617"/>
                  </a:lnTo>
                  <a:lnTo>
                    <a:pt x="1411" y="606"/>
                  </a:lnTo>
                  <a:lnTo>
                    <a:pt x="1407" y="593"/>
                  </a:lnTo>
                  <a:lnTo>
                    <a:pt x="1401" y="582"/>
                  </a:lnTo>
                  <a:lnTo>
                    <a:pt x="1399" y="570"/>
                  </a:lnTo>
                  <a:lnTo>
                    <a:pt x="1394" y="558"/>
                  </a:lnTo>
                  <a:lnTo>
                    <a:pt x="1392" y="546"/>
                  </a:lnTo>
                  <a:lnTo>
                    <a:pt x="1390" y="534"/>
                  </a:lnTo>
                  <a:lnTo>
                    <a:pt x="1389" y="522"/>
                  </a:lnTo>
                  <a:lnTo>
                    <a:pt x="1388" y="509"/>
                  </a:lnTo>
                  <a:lnTo>
                    <a:pt x="1388" y="498"/>
                  </a:lnTo>
                  <a:lnTo>
                    <a:pt x="1388" y="485"/>
                  </a:lnTo>
                  <a:lnTo>
                    <a:pt x="1389" y="473"/>
                  </a:lnTo>
                  <a:lnTo>
                    <a:pt x="1390" y="461"/>
                  </a:lnTo>
                  <a:lnTo>
                    <a:pt x="1392" y="449"/>
                  </a:lnTo>
                  <a:lnTo>
                    <a:pt x="1394" y="437"/>
                  </a:lnTo>
                  <a:lnTo>
                    <a:pt x="1399" y="425"/>
                  </a:lnTo>
                  <a:lnTo>
                    <a:pt x="1401" y="413"/>
                  </a:lnTo>
                  <a:lnTo>
                    <a:pt x="1407" y="402"/>
                  </a:lnTo>
                  <a:lnTo>
                    <a:pt x="1411" y="389"/>
                  </a:lnTo>
                  <a:lnTo>
                    <a:pt x="1416" y="378"/>
                  </a:lnTo>
                  <a:lnTo>
                    <a:pt x="1422" y="366"/>
                  </a:lnTo>
                  <a:lnTo>
                    <a:pt x="1429" y="355"/>
                  </a:lnTo>
                  <a:lnTo>
                    <a:pt x="1435" y="343"/>
                  </a:lnTo>
                  <a:lnTo>
                    <a:pt x="1444" y="332"/>
                  </a:lnTo>
                  <a:lnTo>
                    <a:pt x="1452" y="320"/>
                  </a:lnTo>
                  <a:lnTo>
                    <a:pt x="1460" y="310"/>
                  </a:lnTo>
                  <a:lnTo>
                    <a:pt x="1470" y="298"/>
                  </a:lnTo>
                  <a:lnTo>
                    <a:pt x="1479" y="288"/>
                  </a:lnTo>
                  <a:lnTo>
                    <a:pt x="1489" y="277"/>
                  </a:lnTo>
                  <a:lnTo>
                    <a:pt x="1500" y="266"/>
                  </a:lnTo>
                  <a:lnTo>
                    <a:pt x="1511" y="256"/>
                  </a:lnTo>
                  <a:lnTo>
                    <a:pt x="1521" y="246"/>
                  </a:lnTo>
                  <a:lnTo>
                    <a:pt x="1534" y="235"/>
                  </a:lnTo>
                  <a:lnTo>
                    <a:pt x="1547" y="225"/>
                  </a:lnTo>
                  <a:lnTo>
                    <a:pt x="1560" y="215"/>
                  </a:lnTo>
                  <a:lnTo>
                    <a:pt x="1573" y="206"/>
                  </a:lnTo>
                  <a:lnTo>
                    <a:pt x="1588" y="195"/>
                  </a:lnTo>
                  <a:lnTo>
                    <a:pt x="1602" y="186"/>
                  </a:lnTo>
                  <a:lnTo>
                    <a:pt x="1617" y="177"/>
                  </a:lnTo>
                  <a:lnTo>
                    <a:pt x="1633" y="168"/>
                  </a:lnTo>
                  <a:lnTo>
                    <a:pt x="1648" y="158"/>
                  </a:lnTo>
                  <a:lnTo>
                    <a:pt x="1665" y="149"/>
                  </a:lnTo>
                  <a:lnTo>
                    <a:pt x="1629" y="132"/>
                  </a:lnTo>
                  <a:lnTo>
                    <a:pt x="1592" y="115"/>
                  </a:lnTo>
                  <a:lnTo>
                    <a:pt x="1554" y="99"/>
                  </a:lnTo>
                  <a:lnTo>
                    <a:pt x="1515" y="85"/>
                  </a:lnTo>
                  <a:lnTo>
                    <a:pt x="1474" y="71"/>
                  </a:lnTo>
                  <a:lnTo>
                    <a:pt x="1431" y="60"/>
                  </a:lnTo>
                  <a:lnTo>
                    <a:pt x="1389" y="48"/>
                  </a:lnTo>
                  <a:lnTo>
                    <a:pt x="1347" y="38"/>
                  </a:lnTo>
                  <a:lnTo>
                    <a:pt x="1302" y="30"/>
                  </a:lnTo>
                  <a:lnTo>
                    <a:pt x="1258" y="22"/>
                  </a:lnTo>
                  <a:lnTo>
                    <a:pt x="1213" y="16"/>
                  </a:lnTo>
                  <a:lnTo>
                    <a:pt x="1166" y="11"/>
                  </a:lnTo>
                  <a:lnTo>
                    <a:pt x="1121" y="6"/>
                  </a:lnTo>
                  <a:lnTo>
                    <a:pt x="1075" y="2"/>
                  </a:lnTo>
                  <a:lnTo>
                    <a:pt x="1028" y="1"/>
                  </a:lnTo>
                  <a:lnTo>
                    <a:pt x="982" y="0"/>
                  </a:lnTo>
                  <a:lnTo>
                    <a:pt x="934" y="0"/>
                  </a:lnTo>
                  <a:lnTo>
                    <a:pt x="888" y="2"/>
                  </a:lnTo>
                  <a:lnTo>
                    <a:pt x="841" y="5"/>
                  </a:lnTo>
                  <a:lnTo>
                    <a:pt x="796" y="8"/>
                  </a:lnTo>
                  <a:lnTo>
                    <a:pt x="750" y="13"/>
                  </a:lnTo>
                  <a:lnTo>
                    <a:pt x="705" y="20"/>
                  </a:lnTo>
                  <a:lnTo>
                    <a:pt x="660" y="27"/>
                  </a:lnTo>
                  <a:lnTo>
                    <a:pt x="615" y="35"/>
                  </a:lnTo>
                  <a:lnTo>
                    <a:pt x="571" y="44"/>
                  </a:lnTo>
                  <a:lnTo>
                    <a:pt x="529" y="55"/>
                  </a:lnTo>
                  <a:lnTo>
                    <a:pt x="486" y="67"/>
                  </a:lnTo>
                  <a:lnTo>
                    <a:pt x="445" y="79"/>
                  </a:lnTo>
                  <a:lnTo>
                    <a:pt x="406" y="93"/>
                  </a:lnTo>
                  <a:lnTo>
                    <a:pt x="366" y="108"/>
                  </a:lnTo>
                  <a:lnTo>
                    <a:pt x="328" y="125"/>
                  </a:lnTo>
                  <a:lnTo>
                    <a:pt x="292" y="142"/>
                  </a:lnTo>
                  <a:lnTo>
                    <a:pt x="275" y="152"/>
                  </a:lnTo>
                  <a:lnTo>
                    <a:pt x="258" y="161"/>
                  </a:lnTo>
                  <a:lnTo>
                    <a:pt x="242" y="170"/>
                  </a:lnTo>
                  <a:lnTo>
                    <a:pt x="225" y="179"/>
                  </a:lnTo>
                  <a:lnTo>
                    <a:pt x="210" y="188"/>
                  </a:lnTo>
                  <a:lnTo>
                    <a:pt x="195" y="199"/>
                  </a:lnTo>
                  <a:lnTo>
                    <a:pt x="182" y="208"/>
                  </a:lnTo>
                  <a:lnTo>
                    <a:pt x="168" y="218"/>
                  </a:lnTo>
                  <a:lnTo>
                    <a:pt x="154" y="228"/>
                  </a:lnTo>
                  <a:lnTo>
                    <a:pt x="142" y="239"/>
                  </a:lnTo>
                  <a:lnTo>
                    <a:pt x="130" y="250"/>
                  </a:lnTo>
                  <a:lnTo>
                    <a:pt x="118" y="261"/>
                  </a:lnTo>
                  <a:lnTo>
                    <a:pt x="107" y="271"/>
                  </a:lnTo>
                  <a:lnTo>
                    <a:pt x="96" y="282"/>
                  </a:lnTo>
                  <a:lnTo>
                    <a:pt x="86" y="294"/>
                  </a:lnTo>
                  <a:lnTo>
                    <a:pt x="77" y="305"/>
                  </a:lnTo>
                  <a:lnTo>
                    <a:pt x="67" y="317"/>
                  </a:lnTo>
                  <a:lnTo>
                    <a:pt x="59" y="328"/>
                  </a:lnTo>
                  <a:lnTo>
                    <a:pt x="51" y="340"/>
                  </a:lnTo>
                  <a:lnTo>
                    <a:pt x="44" y="351"/>
                  </a:lnTo>
                  <a:lnTo>
                    <a:pt x="37" y="363"/>
                  </a:lnTo>
                  <a:lnTo>
                    <a:pt x="30" y="375"/>
                  </a:lnTo>
                  <a:lnTo>
                    <a:pt x="25" y="387"/>
                  </a:lnTo>
                  <a:lnTo>
                    <a:pt x="19" y="398"/>
                  </a:lnTo>
                  <a:lnTo>
                    <a:pt x="15" y="411"/>
                  </a:lnTo>
                  <a:lnTo>
                    <a:pt x="11" y="423"/>
                  </a:lnTo>
                  <a:lnTo>
                    <a:pt x="8" y="435"/>
                  </a:lnTo>
                  <a:lnTo>
                    <a:pt x="6" y="448"/>
                  </a:lnTo>
                  <a:lnTo>
                    <a:pt x="3" y="460"/>
                  </a:lnTo>
                  <a:lnTo>
                    <a:pt x="1" y="473"/>
                  </a:lnTo>
                  <a:lnTo>
                    <a:pt x="0" y="485"/>
                  </a:lnTo>
                  <a:lnTo>
                    <a:pt x="0" y="498"/>
                  </a:lnTo>
                  <a:lnTo>
                    <a:pt x="1" y="523"/>
                  </a:lnTo>
                  <a:lnTo>
                    <a:pt x="6" y="548"/>
                  </a:lnTo>
                  <a:lnTo>
                    <a:pt x="11" y="574"/>
                  </a:lnTo>
                  <a:lnTo>
                    <a:pt x="21" y="598"/>
                  </a:lnTo>
                  <a:lnTo>
                    <a:pt x="30" y="622"/>
                  </a:lnTo>
                  <a:lnTo>
                    <a:pt x="44" y="645"/>
                  </a:lnTo>
                  <a:lnTo>
                    <a:pt x="59" y="669"/>
                  </a:lnTo>
                  <a:lnTo>
                    <a:pt x="77" y="691"/>
                  </a:lnTo>
                  <a:lnTo>
                    <a:pt x="96" y="712"/>
                  </a:lnTo>
                  <a:lnTo>
                    <a:pt x="118" y="734"/>
                  </a:lnTo>
                  <a:lnTo>
                    <a:pt x="141" y="755"/>
                  </a:lnTo>
                  <a:lnTo>
                    <a:pt x="167" y="776"/>
                  </a:lnTo>
                  <a:lnTo>
                    <a:pt x="193" y="795"/>
                  </a:lnTo>
                  <a:lnTo>
                    <a:pt x="223" y="813"/>
                  </a:lnTo>
                  <a:lnTo>
                    <a:pt x="253" y="832"/>
                  </a:lnTo>
                  <a:lnTo>
                    <a:pt x="284" y="849"/>
                  </a:lnTo>
                  <a:lnTo>
                    <a:pt x="318" y="865"/>
                  </a:lnTo>
                  <a:lnTo>
                    <a:pt x="354" y="881"/>
                  </a:lnTo>
                  <a:lnTo>
                    <a:pt x="391" y="896"/>
                  </a:lnTo>
                  <a:lnTo>
                    <a:pt x="429" y="910"/>
                  </a:lnTo>
                  <a:lnTo>
                    <a:pt x="469" y="922"/>
                  </a:lnTo>
                  <a:lnTo>
                    <a:pt x="508" y="935"/>
                  </a:lnTo>
                  <a:lnTo>
                    <a:pt x="550" y="945"/>
                  </a:lnTo>
                  <a:lnTo>
                    <a:pt x="593" y="956"/>
                  </a:lnTo>
                  <a:lnTo>
                    <a:pt x="638" y="965"/>
                  </a:lnTo>
                  <a:lnTo>
                    <a:pt x="683" y="973"/>
                  </a:lnTo>
                  <a:lnTo>
                    <a:pt x="729" y="979"/>
                  </a:lnTo>
                  <a:lnTo>
                    <a:pt x="776" y="984"/>
                  </a:lnTo>
                  <a:lnTo>
                    <a:pt x="824" y="989"/>
                  </a:lnTo>
                  <a:lnTo>
                    <a:pt x="873" y="992"/>
                  </a:lnTo>
                  <a:lnTo>
                    <a:pt x="922" y="994"/>
                  </a:lnTo>
                  <a:lnTo>
                    <a:pt x="971" y="995"/>
                  </a:lnTo>
                  <a:lnTo>
                    <a:pt x="996" y="995"/>
                  </a:lnTo>
                  <a:lnTo>
                    <a:pt x="1020" y="994"/>
                  </a:lnTo>
                  <a:lnTo>
                    <a:pt x="1045" y="994"/>
                  </a:lnTo>
                  <a:lnTo>
                    <a:pt x="1069" y="992"/>
                  </a:lnTo>
                  <a:lnTo>
                    <a:pt x="1093" y="991"/>
                  </a:lnTo>
                  <a:lnTo>
                    <a:pt x="1117" y="989"/>
                  </a:lnTo>
                  <a:lnTo>
                    <a:pt x="1140" y="987"/>
                  </a:lnTo>
                  <a:lnTo>
                    <a:pt x="1165" y="984"/>
                  </a:lnTo>
                  <a:lnTo>
                    <a:pt x="1188" y="982"/>
                  </a:lnTo>
                  <a:lnTo>
                    <a:pt x="1211" y="980"/>
                  </a:lnTo>
                  <a:lnTo>
                    <a:pt x="1235" y="976"/>
                  </a:lnTo>
                  <a:lnTo>
                    <a:pt x="1258" y="973"/>
                  </a:lnTo>
                  <a:lnTo>
                    <a:pt x="1281" y="969"/>
                  </a:lnTo>
                  <a:lnTo>
                    <a:pt x="1303" y="965"/>
                  </a:lnTo>
                  <a:lnTo>
                    <a:pt x="1348" y="956"/>
                  </a:lnTo>
                  <a:lnTo>
                    <a:pt x="1392" y="945"/>
                  </a:lnTo>
                  <a:lnTo>
                    <a:pt x="1434" y="935"/>
                  </a:lnTo>
                  <a:lnTo>
                    <a:pt x="1476" y="922"/>
                  </a:lnTo>
                  <a:lnTo>
                    <a:pt x="1516" y="909"/>
                  </a:lnTo>
                  <a:lnTo>
                    <a:pt x="1556" y="895"/>
                  </a:lnTo>
                  <a:lnTo>
                    <a:pt x="1575" y="887"/>
                  </a:lnTo>
                  <a:lnTo>
                    <a:pt x="1594" y="879"/>
                  </a:lnTo>
                  <a:lnTo>
                    <a:pt x="1612" y="871"/>
                  </a:lnTo>
                  <a:lnTo>
                    <a:pt x="1631" y="863"/>
                  </a:lnTo>
                  <a:lnTo>
                    <a:pt x="1648" y="855"/>
                  </a:lnTo>
                  <a:lnTo>
                    <a:pt x="1665" y="84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63760" y="2371680"/>
              <a:ext cx="64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 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38840" y="1692360"/>
              <a:ext cx="2644560" cy="1579320"/>
            </a:xfrm>
            <a:custGeom>
              <a:avLst/>
              <a:gdLst/>
              <a:ahLst/>
              <a:rect l="l" t="t" r="r" b="b"/>
              <a:pathLst>
                <a:path w="1666" h="995">
                  <a:moveTo>
                    <a:pt x="0" y="846"/>
                  </a:moveTo>
                  <a:lnTo>
                    <a:pt x="37" y="863"/>
                  </a:lnTo>
                  <a:lnTo>
                    <a:pt x="74" y="880"/>
                  </a:lnTo>
                  <a:lnTo>
                    <a:pt x="112" y="896"/>
                  </a:lnTo>
                  <a:lnTo>
                    <a:pt x="151" y="910"/>
                  </a:lnTo>
                  <a:lnTo>
                    <a:pt x="192" y="924"/>
                  </a:lnTo>
                  <a:lnTo>
                    <a:pt x="233" y="935"/>
                  </a:lnTo>
                  <a:lnTo>
                    <a:pt x="276" y="946"/>
                  </a:lnTo>
                  <a:lnTo>
                    <a:pt x="319" y="957"/>
                  </a:lnTo>
                  <a:lnTo>
                    <a:pt x="363" y="965"/>
                  </a:lnTo>
                  <a:lnTo>
                    <a:pt x="408" y="973"/>
                  </a:lnTo>
                  <a:lnTo>
                    <a:pt x="453" y="980"/>
                  </a:lnTo>
                  <a:lnTo>
                    <a:pt x="498" y="984"/>
                  </a:lnTo>
                  <a:lnTo>
                    <a:pt x="545" y="989"/>
                  </a:lnTo>
                  <a:lnTo>
                    <a:pt x="591" y="992"/>
                  </a:lnTo>
                  <a:lnTo>
                    <a:pt x="638" y="994"/>
                  </a:lnTo>
                  <a:lnTo>
                    <a:pt x="684" y="995"/>
                  </a:lnTo>
                  <a:lnTo>
                    <a:pt x="730" y="995"/>
                  </a:lnTo>
                  <a:lnTo>
                    <a:pt x="777" y="992"/>
                  </a:lnTo>
                  <a:lnTo>
                    <a:pt x="823" y="990"/>
                  </a:lnTo>
                  <a:lnTo>
                    <a:pt x="870" y="987"/>
                  </a:lnTo>
                  <a:lnTo>
                    <a:pt x="916" y="982"/>
                  </a:lnTo>
                  <a:lnTo>
                    <a:pt x="961" y="975"/>
                  </a:lnTo>
                  <a:lnTo>
                    <a:pt x="1006" y="968"/>
                  </a:lnTo>
                  <a:lnTo>
                    <a:pt x="1050" y="960"/>
                  </a:lnTo>
                  <a:lnTo>
                    <a:pt x="1094" y="951"/>
                  </a:lnTo>
                  <a:lnTo>
                    <a:pt x="1137" y="940"/>
                  </a:lnTo>
                  <a:lnTo>
                    <a:pt x="1178" y="928"/>
                  </a:lnTo>
                  <a:lnTo>
                    <a:pt x="1221" y="916"/>
                  </a:lnTo>
                  <a:lnTo>
                    <a:pt x="1260" y="902"/>
                  </a:lnTo>
                  <a:lnTo>
                    <a:pt x="1300" y="887"/>
                  </a:lnTo>
                  <a:lnTo>
                    <a:pt x="1337" y="870"/>
                  </a:lnTo>
                  <a:lnTo>
                    <a:pt x="1374" y="852"/>
                  </a:lnTo>
                  <a:lnTo>
                    <a:pt x="1391" y="843"/>
                  </a:lnTo>
                  <a:lnTo>
                    <a:pt x="1408" y="835"/>
                  </a:lnTo>
                  <a:lnTo>
                    <a:pt x="1424" y="825"/>
                  </a:lnTo>
                  <a:lnTo>
                    <a:pt x="1439" y="816"/>
                  </a:lnTo>
                  <a:lnTo>
                    <a:pt x="1456" y="807"/>
                  </a:lnTo>
                  <a:lnTo>
                    <a:pt x="1469" y="796"/>
                  </a:lnTo>
                  <a:lnTo>
                    <a:pt x="1484" y="787"/>
                  </a:lnTo>
                  <a:lnTo>
                    <a:pt x="1498" y="777"/>
                  </a:lnTo>
                  <a:lnTo>
                    <a:pt x="1512" y="766"/>
                  </a:lnTo>
                  <a:lnTo>
                    <a:pt x="1524" y="756"/>
                  </a:lnTo>
                  <a:lnTo>
                    <a:pt x="1536" y="745"/>
                  </a:lnTo>
                  <a:lnTo>
                    <a:pt x="1548" y="734"/>
                  </a:lnTo>
                  <a:lnTo>
                    <a:pt x="1559" y="724"/>
                  </a:lnTo>
                  <a:lnTo>
                    <a:pt x="1570" y="712"/>
                  </a:lnTo>
                  <a:lnTo>
                    <a:pt x="1580" y="701"/>
                  </a:lnTo>
                  <a:lnTo>
                    <a:pt x="1589" y="690"/>
                  </a:lnTo>
                  <a:lnTo>
                    <a:pt x="1599" y="679"/>
                  </a:lnTo>
                  <a:lnTo>
                    <a:pt x="1607" y="668"/>
                  </a:lnTo>
                  <a:lnTo>
                    <a:pt x="1615" y="655"/>
                  </a:lnTo>
                  <a:lnTo>
                    <a:pt x="1622" y="644"/>
                  </a:lnTo>
                  <a:lnTo>
                    <a:pt x="1629" y="632"/>
                  </a:lnTo>
                  <a:lnTo>
                    <a:pt x="1636" y="621"/>
                  </a:lnTo>
                  <a:lnTo>
                    <a:pt x="1641" y="608"/>
                  </a:lnTo>
                  <a:lnTo>
                    <a:pt x="1645" y="597"/>
                  </a:lnTo>
                  <a:lnTo>
                    <a:pt x="1651" y="584"/>
                  </a:lnTo>
                  <a:lnTo>
                    <a:pt x="1655" y="571"/>
                  </a:lnTo>
                  <a:lnTo>
                    <a:pt x="1658" y="560"/>
                  </a:lnTo>
                  <a:lnTo>
                    <a:pt x="1660" y="547"/>
                  </a:lnTo>
                  <a:lnTo>
                    <a:pt x="1662" y="535"/>
                  </a:lnTo>
                  <a:lnTo>
                    <a:pt x="1665" y="522"/>
                  </a:lnTo>
                  <a:lnTo>
                    <a:pt x="1665" y="509"/>
                  </a:lnTo>
                  <a:lnTo>
                    <a:pt x="1666" y="498"/>
                  </a:lnTo>
                  <a:lnTo>
                    <a:pt x="1665" y="472"/>
                  </a:lnTo>
                  <a:lnTo>
                    <a:pt x="1660" y="446"/>
                  </a:lnTo>
                  <a:lnTo>
                    <a:pt x="1654" y="422"/>
                  </a:lnTo>
                  <a:lnTo>
                    <a:pt x="1645" y="397"/>
                  </a:lnTo>
                  <a:lnTo>
                    <a:pt x="1634" y="373"/>
                  </a:lnTo>
                  <a:lnTo>
                    <a:pt x="1622" y="350"/>
                  </a:lnTo>
                  <a:lnTo>
                    <a:pt x="1606" y="326"/>
                  </a:lnTo>
                  <a:lnTo>
                    <a:pt x="1589" y="304"/>
                  </a:lnTo>
                  <a:lnTo>
                    <a:pt x="1569" y="282"/>
                  </a:lnTo>
                  <a:lnTo>
                    <a:pt x="1548" y="261"/>
                  </a:lnTo>
                  <a:lnTo>
                    <a:pt x="1525" y="240"/>
                  </a:lnTo>
                  <a:lnTo>
                    <a:pt x="1499" y="219"/>
                  </a:lnTo>
                  <a:lnTo>
                    <a:pt x="1472" y="200"/>
                  </a:lnTo>
                  <a:lnTo>
                    <a:pt x="1443" y="181"/>
                  </a:lnTo>
                  <a:lnTo>
                    <a:pt x="1413" y="163"/>
                  </a:lnTo>
                  <a:lnTo>
                    <a:pt x="1380" y="146"/>
                  </a:lnTo>
                  <a:lnTo>
                    <a:pt x="1348" y="130"/>
                  </a:lnTo>
                  <a:lnTo>
                    <a:pt x="1312" y="114"/>
                  </a:lnTo>
                  <a:lnTo>
                    <a:pt x="1275" y="99"/>
                  </a:lnTo>
                  <a:lnTo>
                    <a:pt x="1237" y="85"/>
                  </a:lnTo>
                  <a:lnTo>
                    <a:pt x="1197" y="72"/>
                  </a:lnTo>
                  <a:lnTo>
                    <a:pt x="1157" y="60"/>
                  </a:lnTo>
                  <a:lnTo>
                    <a:pt x="1116" y="50"/>
                  </a:lnTo>
                  <a:lnTo>
                    <a:pt x="1072" y="39"/>
                  </a:lnTo>
                  <a:lnTo>
                    <a:pt x="1028" y="30"/>
                  </a:lnTo>
                  <a:lnTo>
                    <a:pt x="983" y="23"/>
                  </a:lnTo>
                  <a:lnTo>
                    <a:pt x="937" y="16"/>
                  </a:lnTo>
                  <a:lnTo>
                    <a:pt x="890" y="11"/>
                  </a:lnTo>
                  <a:lnTo>
                    <a:pt x="842" y="6"/>
                  </a:lnTo>
                  <a:lnTo>
                    <a:pt x="793" y="2"/>
                  </a:lnTo>
                  <a:lnTo>
                    <a:pt x="744" y="1"/>
                  </a:lnTo>
                  <a:lnTo>
                    <a:pt x="694" y="0"/>
                  </a:lnTo>
                  <a:lnTo>
                    <a:pt x="669" y="0"/>
                  </a:lnTo>
                  <a:lnTo>
                    <a:pt x="646" y="1"/>
                  </a:lnTo>
                  <a:lnTo>
                    <a:pt x="621" y="1"/>
                  </a:lnTo>
                  <a:lnTo>
                    <a:pt x="597" y="2"/>
                  </a:lnTo>
                  <a:lnTo>
                    <a:pt x="573" y="4"/>
                  </a:lnTo>
                  <a:lnTo>
                    <a:pt x="549" y="6"/>
                  </a:lnTo>
                  <a:lnTo>
                    <a:pt x="526" y="8"/>
                  </a:lnTo>
                  <a:lnTo>
                    <a:pt x="501" y="11"/>
                  </a:lnTo>
                  <a:lnTo>
                    <a:pt x="478" y="13"/>
                  </a:lnTo>
                  <a:lnTo>
                    <a:pt x="455" y="15"/>
                  </a:lnTo>
                  <a:lnTo>
                    <a:pt x="431" y="19"/>
                  </a:lnTo>
                  <a:lnTo>
                    <a:pt x="408" y="22"/>
                  </a:lnTo>
                  <a:lnTo>
                    <a:pt x="385" y="27"/>
                  </a:lnTo>
                  <a:lnTo>
                    <a:pt x="363" y="30"/>
                  </a:lnTo>
                  <a:lnTo>
                    <a:pt x="318" y="39"/>
                  </a:lnTo>
                  <a:lnTo>
                    <a:pt x="274" y="50"/>
                  </a:lnTo>
                  <a:lnTo>
                    <a:pt x="231" y="60"/>
                  </a:lnTo>
                  <a:lnTo>
                    <a:pt x="190" y="72"/>
                  </a:lnTo>
                  <a:lnTo>
                    <a:pt x="149" y="86"/>
                  </a:lnTo>
                  <a:lnTo>
                    <a:pt x="110" y="100"/>
                  </a:lnTo>
                  <a:lnTo>
                    <a:pt x="91" y="108"/>
                  </a:lnTo>
                  <a:lnTo>
                    <a:pt x="72" y="116"/>
                  </a:lnTo>
                  <a:lnTo>
                    <a:pt x="53" y="124"/>
                  </a:lnTo>
                  <a:lnTo>
                    <a:pt x="35" y="132"/>
                  </a:lnTo>
                  <a:lnTo>
                    <a:pt x="18" y="140"/>
                  </a:lnTo>
                  <a:lnTo>
                    <a:pt x="0" y="149"/>
                  </a:lnTo>
                  <a:lnTo>
                    <a:pt x="0" y="149"/>
                  </a:lnTo>
                  <a:lnTo>
                    <a:pt x="16" y="158"/>
                  </a:lnTo>
                  <a:lnTo>
                    <a:pt x="33" y="168"/>
                  </a:lnTo>
                  <a:lnTo>
                    <a:pt x="48" y="177"/>
                  </a:lnTo>
                  <a:lnTo>
                    <a:pt x="63" y="186"/>
                  </a:lnTo>
                  <a:lnTo>
                    <a:pt x="78" y="195"/>
                  </a:lnTo>
                  <a:lnTo>
                    <a:pt x="91" y="206"/>
                  </a:lnTo>
                  <a:lnTo>
                    <a:pt x="105" y="215"/>
                  </a:lnTo>
                  <a:lnTo>
                    <a:pt x="119" y="225"/>
                  </a:lnTo>
                  <a:lnTo>
                    <a:pt x="131" y="235"/>
                  </a:lnTo>
                  <a:lnTo>
                    <a:pt x="143" y="246"/>
                  </a:lnTo>
                  <a:lnTo>
                    <a:pt x="155" y="256"/>
                  </a:lnTo>
                  <a:lnTo>
                    <a:pt x="166" y="266"/>
                  </a:lnTo>
                  <a:lnTo>
                    <a:pt x="177" y="277"/>
                  </a:lnTo>
                  <a:lnTo>
                    <a:pt x="187" y="288"/>
                  </a:lnTo>
                  <a:lnTo>
                    <a:pt x="196" y="298"/>
                  </a:lnTo>
                  <a:lnTo>
                    <a:pt x="206" y="310"/>
                  </a:lnTo>
                  <a:lnTo>
                    <a:pt x="214" y="320"/>
                  </a:lnTo>
                  <a:lnTo>
                    <a:pt x="222" y="332"/>
                  </a:lnTo>
                  <a:lnTo>
                    <a:pt x="229" y="343"/>
                  </a:lnTo>
                  <a:lnTo>
                    <a:pt x="237" y="355"/>
                  </a:lnTo>
                  <a:lnTo>
                    <a:pt x="243" y="366"/>
                  </a:lnTo>
                  <a:lnTo>
                    <a:pt x="250" y="378"/>
                  </a:lnTo>
                  <a:lnTo>
                    <a:pt x="255" y="389"/>
                  </a:lnTo>
                  <a:lnTo>
                    <a:pt x="259" y="402"/>
                  </a:lnTo>
                  <a:lnTo>
                    <a:pt x="263" y="413"/>
                  </a:lnTo>
                  <a:lnTo>
                    <a:pt x="267" y="425"/>
                  </a:lnTo>
                  <a:lnTo>
                    <a:pt x="270" y="437"/>
                  </a:lnTo>
                  <a:lnTo>
                    <a:pt x="273" y="449"/>
                  </a:lnTo>
                  <a:lnTo>
                    <a:pt x="276" y="461"/>
                  </a:lnTo>
                  <a:lnTo>
                    <a:pt x="277" y="473"/>
                  </a:lnTo>
                  <a:lnTo>
                    <a:pt x="277" y="485"/>
                  </a:lnTo>
                  <a:lnTo>
                    <a:pt x="278" y="498"/>
                  </a:lnTo>
                  <a:lnTo>
                    <a:pt x="277" y="509"/>
                  </a:lnTo>
                  <a:lnTo>
                    <a:pt x="277" y="522"/>
                  </a:lnTo>
                  <a:lnTo>
                    <a:pt x="276" y="534"/>
                  </a:lnTo>
                  <a:lnTo>
                    <a:pt x="273" y="546"/>
                  </a:lnTo>
                  <a:lnTo>
                    <a:pt x="270" y="558"/>
                  </a:lnTo>
                  <a:lnTo>
                    <a:pt x="267" y="570"/>
                  </a:lnTo>
                  <a:lnTo>
                    <a:pt x="263" y="582"/>
                  </a:lnTo>
                  <a:lnTo>
                    <a:pt x="259" y="593"/>
                  </a:lnTo>
                  <a:lnTo>
                    <a:pt x="255" y="606"/>
                  </a:lnTo>
                  <a:lnTo>
                    <a:pt x="250" y="617"/>
                  </a:lnTo>
                  <a:lnTo>
                    <a:pt x="243" y="629"/>
                  </a:lnTo>
                  <a:lnTo>
                    <a:pt x="237" y="640"/>
                  </a:lnTo>
                  <a:lnTo>
                    <a:pt x="229" y="652"/>
                  </a:lnTo>
                  <a:lnTo>
                    <a:pt x="222" y="663"/>
                  </a:lnTo>
                  <a:lnTo>
                    <a:pt x="214" y="675"/>
                  </a:lnTo>
                  <a:lnTo>
                    <a:pt x="206" y="685"/>
                  </a:lnTo>
                  <a:lnTo>
                    <a:pt x="196" y="696"/>
                  </a:lnTo>
                  <a:lnTo>
                    <a:pt x="187" y="708"/>
                  </a:lnTo>
                  <a:lnTo>
                    <a:pt x="177" y="718"/>
                  </a:lnTo>
                  <a:lnTo>
                    <a:pt x="166" y="729"/>
                  </a:lnTo>
                  <a:lnTo>
                    <a:pt x="155" y="739"/>
                  </a:lnTo>
                  <a:lnTo>
                    <a:pt x="143" y="750"/>
                  </a:lnTo>
                  <a:lnTo>
                    <a:pt x="131" y="760"/>
                  </a:lnTo>
                  <a:lnTo>
                    <a:pt x="119" y="770"/>
                  </a:lnTo>
                  <a:lnTo>
                    <a:pt x="105" y="780"/>
                  </a:lnTo>
                  <a:lnTo>
                    <a:pt x="91" y="790"/>
                  </a:lnTo>
                  <a:lnTo>
                    <a:pt x="78" y="800"/>
                  </a:lnTo>
                  <a:lnTo>
                    <a:pt x="63" y="809"/>
                  </a:lnTo>
                  <a:lnTo>
                    <a:pt x="48" y="818"/>
                  </a:lnTo>
                  <a:lnTo>
                    <a:pt x="33" y="827"/>
                  </a:lnTo>
                  <a:lnTo>
                    <a:pt x="16" y="836"/>
                  </a:lnTo>
                  <a:lnTo>
                    <a:pt x="0" y="846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05440" y="2371680"/>
              <a:ext cx="64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 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8920" y="1928520"/>
              <a:ext cx="881280" cy="1106280"/>
            </a:xfrm>
            <a:custGeom>
              <a:avLst/>
              <a:gdLst/>
              <a:ahLst/>
              <a:rect l="l" t="t" r="r" b="b"/>
              <a:pathLst>
                <a:path w="555" h="697">
                  <a:moveTo>
                    <a:pt x="277" y="697"/>
                  </a:moveTo>
                  <a:lnTo>
                    <a:pt x="293" y="687"/>
                  </a:lnTo>
                  <a:lnTo>
                    <a:pt x="310" y="678"/>
                  </a:lnTo>
                  <a:lnTo>
                    <a:pt x="325" y="669"/>
                  </a:lnTo>
                  <a:lnTo>
                    <a:pt x="340" y="660"/>
                  </a:lnTo>
                  <a:lnTo>
                    <a:pt x="355" y="651"/>
                  </a:lnTo>
                  <a:lnTo>
                    <a:pt x="368" y="641"/>
                  </a:lnTo>
                  <a:lnTo>
                    <a:pt x="382" y="631"/>
                  </a:lnTo>
                  <a:lnTo>
                    <a:pt x="396" y="621"/>
                  </a:lnTo>
                  <a:lnTo>
                    <a:pt x="408" y="611"/>
                  </a:lnTo>
                  <a:lnTo>
                    <a:pt x="420" y="600"/>
                  </a:lnTo>
                  <a:lnTo>
                    <a:pt x="432" y="590"/>
                  </a:lnTo>
                  <a:lnTo>
                    <a:pt x="443" y="580"/>
                  </a:lnTo>
                  <a:lnTo>
                    <a:pt x="454" y="569"/>
                  </a:lnTo>
                  <a:lnTo>
                    <a:pt x="464" y="559"/>
                  </a:lnTo>
                  <a:lnTo>
                    <a:pt x="473" y="547"/>
                  </a:lnTo>
                  <a:lnTo>
                    <a:pt x="483" y="536"/>
                  </a:lnTo>
                  <a:lnTo>
                    <a:pt x="491" y="526"/>
                  </a:lnTo>
                  <a:lnTo>
                    <a:pt x="499" y="514"/>
                  </a:lnTo>
                  <a:lnTo>
                    <a:pt x="506" y="503"/>
                  </a:lnTo>
                  <a:lnTo>
                    <a:pt x="514" y="491"/>
                  </a:lnTo>
                  <a:lnTo>
                    <a:pt x="520" y="480"/>
                  </a:lnTo>
                  <a:lnTo>
                    <a:pt x="527" y="468"/>
                  </a:lnTo>
                  <a:lnTo>
                    <a:pt x="532" y="457"/>
                  </a:lnTo>
                  <a:lnTo>
                    <a:pt x="536" y="444"/>
                  </a:lnTo>
                  <a:lnTo>
                    <a:pt x="540" y="433"/>
                  </a:lnTo>
                  <a:lnTo>
                    <a:pt x="544" y="421"/>
                  </a:lnTo>
                  <a:lnTo>
                    <a:pt x="547" y="409"/>
                  </a:lnTo>
                  <a:lnTo>
                    <a:pt x="550" y="397"/>
                  </a:lnTo>
                  <a:lnTo>
                    <a:pt x="553" y="385"/>
                  </a:lnTo>
                  <a:lnTo>
                    <a:pt x="554" y="373"/>
                  </a:lnTo>
                  <a:lnTo>
                    <a:pt x="554" y="360"/>
                  </a:lnTo>
                  <a:lnTo>
                    <a:pt x="555" y="349"/>
                  </a:lnTo>
                  <a:lnTo>
                    <a:pt x="554" y="336"/>
                  </a:lnTo>
                  <a:lnTo>
                    <a:pt x="554" y="324"/>
                  </a:lnTo>
                  <a:lnTo>
                    <a:pt x="553" y="312"/>
                  </a:lnTo>
                  <a:lnTo>
                    <a:pt x="550" y="300"/>
                  </a:lnTo>
                  <a:lnTo>
                    <a:pt x="547" y="288"/>
                  </a:lnTo>
                  <a:lnTo>
                    <a:pt x="544" y="276"/>
                  </a:lnTo>
                  <a:lnTo>
                    <a:pt x="540" y="264"/>
                  </a:lnTo>
                  <a:lnTo>
                    <a:pt x="536" y="253"/>
                  </a:lnTo>
                  <a:lnTo>
                    <a:pt x="532" y="240"/>
                  </a:lnTo>
                  <a:lnTo>
                    <a:pt x="527" y="229"/>
                  </a:lnTo>
                  <a:lnTo>
                    <a:pt x="520" y="217"/>
                  </a:lnTo>
                  <a:lnTo>
                    <a:pt x="514" y="206"/>
                  </a:lnTo>
                  <a:lnTo>
                    <a:pt x="506" y="194"/>
                  </a:lnTo>
                  <a:lnTo>
                    <a:pt x="499" y="183"/>
                  </a:lnTo>
                  <a:lnTo>
                    <a:pt x="491" y="171"/>
                  </a:lnTo>
                  <a:lnTo>
                    <a:pt x="483" y="161"/>
                  </a:lnTo>
                  <a:lnTo>
                    <a:pt x="473" y="149"/>
                  </a:lnTo>
                  <a:lnTo>
                    <a:pt x="464" y="139"/>
                  </a:lnTo>
                  <a:lnTo>
                    <a:pt x="454" y="128"/>
                  </a:lnTo>
                  <a:lnTo>
                    <a:pt x="443" y="117"/>
                  </a:lnTo>
                  <a:lnTo>
                    <a:pt x="432" y="107"/>
                  </a:lnTo>
                  <a:lnTo>
                    <a:pt x="420" y="97"/>
                  </a:lnTo>
                  <a:lnTo>
                    <a:pt x="408" y="86"/>
                  </a:lnTo>
                  <a:lnTo>
                    <a:pt x="396" y="76"/>
                  </a:lnTo>
                  <a:lnTo>
                    <a:pt x="382" y="66"/>
                  </a:lnTo>
                  <a:lnTo>
                    <a:pt x="368" y="57"/>
                  </a:lnTo>
                  <a:lnTo>
                    <a:pt x="355" y="46"/>
                  </a:lnTo>
                  <a:lnTo>
                    <a:pt x="340" y="37"/>
                  </a:lnTo>
                  <a:lnTo>
                    <a:pt x="325" y="28"/>
                  </a:lnTo>
                  <a:lnTo>
                    <a:pt x="310" y="19"/>
                  </a:lnTo>
                  <a:lnTo>
                    <a:pt x="293" y="9"/>
                  </a:lnTo>
                  <a:lnTo>
                    <a:pt x="277" y="0"/>
                  </a:lnTo>
                  <a:lnTo>
                    <a:pt x="260" y="9"/>
                  </a:lnTo>
                  <a:lnTo>
                    <a:pt x="245" y="19"/>
                  </a:lnTo>
                  <a:lnTo>
                    <a:pt x="229" y="28"/>
                  </a:lnTo>
                  <a:lnTo>
                    <a:pt x="214" y="37"/>
                  </a:lnTo>
                  <a:lnTo>
                    <a:pt x="200" y="46"/>
                  </a:lnTo>
                  <a:lnTo>
                    <a:pt x="185" y="57"/>
                  </a:lnTo>
                  <a:lnTo>
                    <a:pt x="172" y="66"/>
                  </a:lnTo>
                  <a:lnTo>
                    <a:pt x="159" y="76"/>
                  </a:lnTo>
                  <a:lnTo>
                    <a:pt x="146" y="86"/>
                  </a:lnTo>
                  <a:lnTo>
                    <a:pt x="133" y="97"/>
                  </a:lnTo>
                  <a:lnTo>
                    <a:pt x="123" y="107"/>
                  </a:lnTo>
                  <a:lnTo>
                    <a:pt x="112" y="117"/>
                  </a:lnTo>
                  <a:lnTo>
                    <a:pt x="101" y="128"/>
                  </a:lnTo>
                  <a:lnTo>
                    <a:pt x="91" y="139"/>
                  </a:lnTo>
                  <a:lnTo>
                    <a:pt x="82" y="149"/>
                  </a:lnTo>
                  <a:lnTo>
                    <a:pt x="72" y="161"/>
                  </a:lnTo>
                  <a:lnTo>
                    <a:pt x="64" y="171"/>
                  </a:lnTo>
                  <a:lnTo>
                    <a:pt x="56" y="183"/>
                  </a:lnTo>
                  <a:lnTo>
                    <a:pt x="47" y="194"/>
                  </a:lnTo>
                  <a:lnTo>
                    <a:pt x="41" y="206"/>
                  </a:lnTo>
                  <a:lnTo>
                    <a:pt x="34" y="217"/>
                  </a:lnTo>
                  <a:lnTo>
                    <a:pt x="28" y="229"/>
                  </a:lnTo>
                  <a:lnTo>
                    <a:pt x="23" y="240"/>
                  </a:lnTo>
                  <a:lnTo>
                    <a:pt x="19" y="253"/>
                  </a:lnTo>
                  <a:lnTo>
                    <a:pt x="13" y="264"/>
                  </a:lnTo>
                  <a:lnTo>
                    <a:pt x="11" y="276"/>
                  </a:lnTo>
                  <a:lnTo>
                    <a:pt x="6" y="288"/>
                  </a:lnTo>
                  <a:lnTo>
                    <a:pt x="4" y="300"/>
                  </a:lnTo>
                  <a:lnTo>
                    <a:pt x="2" y="312"/>
                  </a:lnTo>
                  <a:lnTo>
                    <a:pt x="1" y="324"/>
                  </a:lnTo>
                  <a:lnTo>
                    <a:pt x="0" y="336"/>
                  </a:lnTo>
                  <a:lnTo>
                    <a:pt x="0" y="349"/>
                  </a:lnTo>
                  <a:lnTo>
                    <a:pt x="0" y="360"/>
                  </a:lnTo>
                  <a:lnTo>
                    <a:pt x="1" y="373"/>
                  </a:lnTo>
                  <a:lnTo>
                    <a:pt x="2" y="385"/>
                  </a:lnTo>
                  <a:lnTo>
                    <a:pt x="4" y="397"/>
                  </a:lnTo>
                  <a:lnTo>
                    <a:pt x="6" y="409"/>
                  </a:lnTo>
                  <a:lnTo>
                    <a:pt x="11" y="421"/>
                  </a:lnTo>
                  <a:lnTo>
                    <a:pt x="13" y="433"/>
                  </a:lnTo>
                  <a:lnTo>
                    <a:pt x="19" y="444"/>
                  </a:lnTo>
                  <a:lnTo>
                    <a:pt x="23" y="457"/>
                  </a:lnTo>
                  <a:lnTo>
                    <a:pt x="28" y="468"/>
                  </a:lnTo>
                  <a:lnTo>
                    <a:pt x="34" y="480"/>
                  </a:lnTo>
                  <a:lnTo>
                    <a:pt x="41" y="491"/>
                  </a:lnTo>
                  <a:lnTo>
                    <a:pt x="47" y="503"/>
                  </a:lnTo>
                  <a:lnTo>
                    <a:pt x="56" y="514"/>
                  </a:lnTo>
                  <a:lnTo>
                    <a:pt x="64" y="526"/>
                  </a:lnTo>
                  <a:lnTo>
                    <a:pt x="72" y="536"/>
                  </a:lnTo>
                  <a:lnTo>
                    <a:pt x="82" y="547"/>
                  </a:lnTo>
                  <a:lnTo>
                    <a:pt x="91" y="559"/>
                  </a:lnTo>
                  <a:lnTo>
                    <a:pt x="101" y="569"/>
                  </a:lnTo>
                  <a:lnTo>
                    <a:pt x="112" y="580"/>
                  </a:lnTo>
                  <a:lnTo>
                    <a:pt x="123" y="590"/>
                  </a:lnTo>
                  <a:lnTo>
                    <a:pt x="133" y="600"/>
                  </a:lnTo>
                  <a:lnTo>
                    <a:pt x="146" y="611"/>
                  </a:lnTo>
                  <a:lnTo>
                    <a:pt x="159" y="621"/>
                  </a:lnTo>
                  <a:lnTo>
                    <a:pt x="172" y="631"/>
                  </a:lnTo>
                  <a:lnTo>
                    <a:pt x="185" y="641"/>
                  </a:lnTo>
                  <a:lnTo>
                    <a:pt x="200" y="651"/>
                  </a:lnTo>
                  <a:lnTo>
                    <a:pt x="214" y="660"/>
                  </a:lnTo>
                  <a:lnTo>
                    <a:pt x="229" y="669"/>
                  </a:lnTo>
                  <a:lnTo>
                    <a:pt x="245" y="678"/>
                  </a:lnTo>
                  <a:lnTo>
                    <a:pt x="260" y="687"/>
                  </a:lnTo>
                  <a:lnTo>
                    <a:pt x="277" y="697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8920" y="1928520"/>
              <a:ext cx="881280" cy="1106280"/>
            </a:xfrm>
            <a:custGeom>
              <a:avLst/>
              <a:gdLst/>
              <a:ahLst/>
              <a:rect l="l" t="t" r="r" b="b"/>
              <a:pathLst>
                <a:path w="555" h="697">
                  <a:moveTo>
                    <a:pt x="277" y="697"/>
                  </a:moveTo>
                  <a:lnTo>
                    <a:pt x="293" y="687"/>
                  </a:lnTo>
                  <a:lnTo>
                    <a:pt x="310" y="678"/>
                  </a:lnTo>
                  <a:lnTo>
                    <a:pt x="325" y="669"/>
                  </a:lnTo>
                  <a:lnTo>
                    <a:pt x="340" y="660"/>
                  </a:lnTo>
                  <a:lnTo>
                    <a:pt x="355" y="651"/>
                  </a:lnTo>
                  <a:lnTo>
                    <a:pt x="368" y="641"/>
                  </a:lnTo>
                  <a:lnTo>
                    <a:pt x="382" y="631"/>
                  </a:lnTo>
                  <a:lnTo>
                    <a:pt x="396" y="621"/>
                  </a:lnTo>
                  <a:lnTo>
                    <a:pt x="408" y="611"/>
                  </a:lnTo>
                  <a:lnTo>
                    <a:pt x="420" y="600"/>
                  </a:lnTo>
                  <a:lnTo>
                    <a:pt x="432" y="590"/>
                  </a:lnTo>
                  <a:lnTo>
                    <a:pt x="443" y="580"/>
                  </a:lnTo>
                  <a:lnTo>
                    <a:pt x="454" y="569"/>
                  </a:lnTo>
                  <a:lnTo>
                    <a:pt x="464" y="559"/>
                  </a:lnTo>
                  <a:lnTo>
                    <a:pt x="473" y="547"/>
                  </a:lnTo>
                  <a:lnTo>
                    <a:pt x="483" y="536"/>
                  </a:lnTo>
                  <a:lnTo>
                    <a:pt x="491" y="526"/>
                  </a:lnTo>
                  <a:lnTo>
                    <a:pt x="499" y="514"/>
                  </a:lnTo>
                  <a:lnTo>
                    <a:pt x="506" y="503"/>
                  </a:lnTo>
                  <a:lnTo>
                    <a:pt x="514" y="491"/>
                  </a:lnTo>
                  <a:lnTo>
                    <a:pt x="520" y="480"/>
                  </a:lnTo>
                  <a:lnTo>
                    <a:pt x="527" y="468"/>
                  </a:lnTo>
                  <a:lnTo>
                    <a:pt x="532" y="457"/>
                  </a:lnTo>
                  <a:lnTo>
                    <a:pt x="536" y="444"/>
                  </a:lnTo>
                  <a:lnTo>
                    <a:pt x="540" y="433"/>
                  </a:lnTo>
                  <a:lnTo>
                    <a:pt x="544" y="421"/>
                  </a:lnTo>
                  <a:lnTo>
                    <a:pt x="547" y="409"/>
                  </a:lnTo>
                  <a:lnTo>
                    <a:pt x="550" y="397"/>
                  </a:lnTo>
                  <a:lnTo>
                    <a:pt x="553" y="385"/>
                  </a:lnTo>
                  <a:lnTo>
                    <a:pt x="554" y="373"/>
                  </a:lnTo>
                  <a:lnTo>
                    <a:pt x="554" y="360"/>
                  </a:lnTo>
                  <a:lnTo>
                    <a:pt x="555" y="349"/>
                  </a:lnTo>
                  <a:lnTo>
                    <a:pt x="554" y="336"/>
                  </a:lnTo>
                  <a:lnTo>
                    <a:pt x="554" y="324"/>
                  </a:lnTo>
                  <a:lnTo>
                    <a:pt x="553" y="312"/>
                  </a:lnTo>
                  <a:lnTo>
                    <a:pt x="550" y="300"/>
                  </a:lnTo>
                  <a:lnTo>
                    <a:pt x="547" y="288"/>
                  </a:lnTo>
                  <a:lnTo>
                    <a:pt x="544" y="276"/>
                  </a:lnTo>
                  <a:lnTo>
                    <a:pt x="540" y="264"/>
                  </a:lnTo>
                  <a:lnTo>
                    <a:pt x="536" y="253"/>
                  </a:lnTo>
                  <a:lnTo>
                    <a:pt x="532" y="240"/>
                  </a:lnTo>
                  <a:lnTo>
                    <a:pt x="527" y="229"/>
                  </a:lnTo>
                  <a:lnTo>
                    <a:pt x="520" y="217"/>
                  </a:lnTo>
                  <a:lnTo>
                    <a:pt x="514" y="206"/>
                  </a:lnTo>
                  <a:lnTo>
                    <a:pt x="506" y="194"/>
                  </a:lnTo>
                  <a:lnTo>
                    <a:pt x="499" y="183"/>
                  </a:lnTo>
                  <a:lnTo>
                    <a:pt x="491" y="171"/>
                  </a:lnTo>
                  <a:lnTo>
                    <a:pt x="483" y="161"/>
                  </a:lnTo>
                  <a:lnTo>
                    <a:pt x="473" y="149"/>
                  </a:lnTo>
                  <a:lnTo>
                    <a:pt x="464" y="139"/>
                  </a:lnTo>
                  <a:lnTo>
                    <a:pt x="454" y="128"/>
                  </a:lnTo>
                  <a:lnTo>
                    <a:pt x="443" y="117"/>
                  </a:lnTo>
                  <a:lnTo>
                    <a:pt x="432" y="107"/>
                  </a:lnTo>
                  <a:lnTo>
                    <a:pt x="420" y="97"/>
                  </a:lnTo>
                  <a:lnTo>
                    <a:pt x="408" y="86"/>
                  </a:lnTo>
                  <a:lnTo>
                    <a:pt x="396" y="76"/>
                  </a:lnTo>
                  <a:lnTo>
                    <a:pt x="382" y="66"/>
                  </a:lnTo>
                  <a:lnTo>
                    <a:pt x="368" y="57"/>
                  </a:lnTo>
                  <a:lnTo>
                    <a:pt x="355" y="46"/>
                  </a:lnTo>
                  <a:lnTo>
                    <a:pt x="340" y="37"/>
                  </a:lnTo>
                  <a:lnTo>
                    <a:pt x="325" y="28"/>
                  </a:lnTo>
                  <a:lnTo>
                    <a:pt x="310" y="19"/>
                  </a:lnTo>
                  <a:lnTo>
                    <a:pt x="293" y="9"/>
                  </a:lnTo>
                  <a:lnTo>
                    <a:pt x="277" y="0"/>
                  </a:lnTo>
                  <a:lnTo>
                    <a:pt x="260" y="9"/>
                  </a:lnTo>
                  <a:lnTo>
                    <a:pt x="245" y="19"/>
                  </a:lnTo>
                  <a:lnTo>
                    <a:pt x="229" y="28"/>
                  </a:lnTo>
                  <a:lnTo>
                    <a:pt x="214" y="37"/>
                  </a:lnTo>
                  <a:lnTo>
                    <a:pt x="200" y="46"/>
                  </a:lnTo>
                  <a:lnTo>
                    <a:pt x="185" y="57"/>
                  </a:lnTo>
                  <a:lnTo>
                    <a:pt x="172" y="66"/>
                  </a:lnTo>
                  <a:lnTo>
                    <a:pt x="159" y="76"/>
                  </a:lnTo>
                  <a:lnTo>
                    <a:pt x="146" y="86"/>
                  </a:lnTo>
                  <a:lnTo>
                    <a:pt x="133" y="97"/>
                  </a:lnTo>
                  <a:lnTo>
                    <a:pt x="123" y="107"/>
                  </a:lnTo>
                  <a:lnTo>
                    <a:pt x="112" y="117"/>
                  </a:lnTo>
                  <a:lnTo>
                    <a:pt x="101" y="128"/>
                  </a:lnTo>
                  <a:lnTo>
                    <a:pt x="91" y="139"/>
                  </a:lnTo>
                  <a:lnTo>
                    <a:pt x="82" y="149"/>
                  </a:lnTo>
                  <a:lnTo>
                    <a:pt x="72" y="161"/>
                  </a:lnTo>
                  <a:lnTo>
                    <a:pt x="64" y="171"/>
                  </a:lnTo>
                  <a:lnTo>
                    <a:pt x="56" y="183"/>
                  </a:lnTo>
                  <a:lnTo>
                    <a:pt x="47" y="194"/>
                  </a:lnTo>
                  <a:lnTo>
                    <a:pt x="41" y="206"/>
                  </a:lnTo>
                  <a:lnTo>
                    <a:pt x="34" y="217"/>
                  </a:lnTo>
                  <a:lnTo>
                    <a:pt x="28" y="229"/>
                  </a:lnTo>
                  <a:lnTo>
                    <a:pt x="23" y="240"/>
                  </a:lnTo>
                  <a:lnTo>
                    <a:pt x="19" y="253"/>
                  </a:lnTo>
                  <a:lnTo>
                    <a:pt x="13" y="264"/>
                  </a:lnTo>
                  <a:lnTo>
                    <a:pt x="11" y="276"/>
                  </a:lnTo>
                  <a:lnTo>
                    <a:pt x="6" y="288"/>
                  </a:lnTo>
                  <a:lnTo>
                    <a:pt x="4" y="300"/>
                  </a:lnTo>
                  <a:lnTo>
                    <a:pt x="2" y="312"/>
                  </a:lnTo>
                  <a:lnTo>
                    <a:pt x="1" y="324"/>
                  </a:lnTo>
                  <a:lnTo>
                    <a:pt x="0" y="336"/>
                  </a:lnTo>
                  <a:lnTo>
                    <a:pt x="0" y="349"/>
                  </a:lnTo>
                  <a:lnTo>
                    <a:pt x="0" y="360"/>
                  </a:lnTo>
                  <a:lnTo>
                    <a:pt x="1" y="373"/>
                  </a:lnTo>
                  <a:lnTo>
                    <a:pt x="2" y="385"/>
                  </a:lnTo>
                  <a:lnTo>
                    <a:pt x="4" y="397"/>
                  </a:lnTo>
                  <a:lnTo>
                    <a:pt x="6" y="409"/>
                  </a:lnTo>
                  <a:lnTo>
                    <a:pt x="11" y="421"/>
                  </a:lnTo>
                  <a:lnTo>
                    <a:pt x="13" y="433"/>
                  </a:lnTo>
                  <a:lnTo>
                    <a:pt x="19" y="444"/>
                  </a:lnTo>
                  <a:lnTo>
                    <a:pt x="23" y="457"/>
                  </a:lnTo>
                  <a:lnTo>
                    <a:pt x="28" y="468"/>
                  </a:lnTo>
                  <a:lnTo>
                    <a:pt x="34" y="480"/>
                  </a:lnTo>
                  <a:lnTo>
                    <a:pt x="41" y="491"/>
                  </a:lnTo>
                  <a:lnTo>
                    <a:pt x="47" y="503"/>
                  </a:lnTo>
                  <a:lnTo>
                    <a:pt x="56" y="514"/>
                  </a:lnTo>
                  <a:lnTo>
                    <a:pt x="64" y="526"/>
                  </a:lnTo>
                  <a:lnTo>
                    <a:pt x="72" y="536"/>
                  </a:lnTo>
                  <a:lnTo>
                    <a:pt x="82" y="547"/>
                  </a:lnTo>
                  <a:lnTo>
                    <a:pt x="91" y="559"/>
                  </a:lnTo>
                  <a:lnTo>
                    <a:pt x="101" y="569"/>
                  </a:lnTo>
                  <a:lnTo>
                    <a:pt x="112" y="580"/>
                  </a:lnTo>
                  <a:lnTo>
                    <a:pt x="123" y="590"/>
                  </a:lnTo>
                  <a:lnTo>
                    <a:pt x="133" y="600"/>
                  </a:lnTo>
                  <a:lnTo>
                    <a:pt x="146" y="611"/>
                  </a:lnTo>
                  <a:lnTo>
                    <a:pt x="159" y="621"/>
                  </a:lnTo>
                  <a:lnTo>
                    <a:pt x="172" y="631"/>
                  </a:lnTo>
                  <a:lnTo>
                    <a:pt x="185" y="641"/>
                  </a:lnTo>
                  <a:lnTo>
                    <a:pt x="200" y="651"/>
                  </a:lnTo>
                  <a:lnTo>
                    <a:pt x="214" y="660"/>
                  </a:lnTo>
                  <a:lnTo>
                    <a:pt x="229" y="669"/>
                  </a:lnTo>
                  <a:lnTo>
                    <a:pt x="245" y="678"/>
                  </a:lnTo>
                  <a:lnTo>
                    <a:pt x="260" y="687"/>
                  </a:lnTo>
                  <a:lnTo>
                    <a:pt x="277" y="69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eft Outer Joi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records from table on the LEFT side of a pair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76240" y="3486240"/>
            <a:ext cx="71406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i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Data from matching records in table on RIGHT of pai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NULL if no matching record is foun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pposite of the Right Outer Jo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322360" y="1720800"/>
            <a:ext cx="5280120" cy="1550880"/>
            <a:chOff x="2322360" y="1720800"/>
            <a:chExt cx="5280120" cy="1550880"/>
          </a:xfrm>
        </p:grpSpPr>
        <p:sp>
          <p:nvSpPr>
            <p:cNvPr id="97" name=""/>
            <p:cNvSpPr/>
            <p:nvPr/>
          </p:nvSpPr>
          <p:spPr>
            <a:xfrm>
              <a:off x="2322360" y="1720800"/>
              <a:ext cx="2638440" cy="1550880"/>
            </a:xfrm>
            <a:custGeom>
              <a:avLst/>
              <a:gdLst/>
              <a:ahLst/>
              <a:rect l="l" t="t" r="r" b="b"/>
              <a:pathLst>
                <a:path w="1662" h="977">
                  <a:moveTo>
                    <a:pt x="1662" y="830"/>
                  </a:moveTo>
                  <a:lnTo>
                    <a:pt x="1646" y="821"/>
                  </a:lnTo>
                  <a:lnTo>
                    <a:pt x="1631" y="812"/>
                  </a:lnTo>
                  <a:lnTo>
                    <a:pt x="1615" y="803"/>
                  </a:lnTo>
                  <a:lnTo>
                    <a:pt x="1600" y="794"/>
                  </a:lnTo>
                  <a:lnTo>
                    <a:pt x="1586" y="785"/>
                  </a:lnTo>
                  <a:lnTo>
                    <a:pt x="1571" y="776"/>
                  </a:lnTo>
                  <a:lnTo>
                    <a:pt x="1557" y="766"/>
                  </a:lnTo>
                  <a:lnTo>
                    <a:pt x="1545" y="756"/>
                  </a:lnTo>
                  <a:lnTo>
                    <a:pt x="1531" y="746"/>
                  </a:lnTo>
                  <a:lnTo>
                    <a:pt x="1519" y="736"/>
                  </a:lnTo>
                  <a:lnTo>
                    <a:pt x="1508" y="726"/>
                  </a:lnTo>
                  <a:lnTo>
                    <a:pt x="1497" y="716"/>
                  </a:lnTo>
                  <a:lnTo>
                    <a:pt x="1486" y="705"/>
                  </a:lnTo>
                  <a:lnTo>
                    <a:pt x="1477" y="695"/>
                  </a:lnTo>
                  <a:lnTo>
                    <a:pt x="1467" y="684"/>
                  </a:lnTo>
                  <a:lnTo>
                    <a:pt x="1458" y="673"/>
                  </a:lnTo>
                  <a:lnTo>
                    <a:pt x="1450" y="663"/>
                  </a:lnTo>
                  <a:lnTo>
                    <a:pt x="1441" y="651"/>
                  </a:lnTo>
                  <a:lnTo>
                    <a:pt x="1433" y="640"/>
                  </a:lnTo>
                  <a:lnTo>
                    <a:pt x="1426" y="629"/>
                  </a:lnTo>
                  <a:lnTo>
                    <a:pt x="1420" y="617"/>
                  </a:lnTo>
                  <a:lnTo>
                    <a:pt x="1414" y="606"/>
                  </a:lnTo>
                  <a:lnTo>
                    <a:pt x="1409" y="595"/>
                  </a:lnTo>
                  <a:lnTo>
                    <a:pt x="1405" y="583"/>
                  </a:lnTo>
                  <a:lnTo>
                    <a:pt x="1399" y="571"/>
                  </a:lnTo>
                  <a:lnTo>
                    <a:pt x="1396" y="560"/>
                  </a:lnTo>
                  <a:lnTo>
                    <a:pt x="1392" y="548"/>
                  </a:lnTo>
                  <a:lnTo>
                    <a:pt x="1390" y="536"/>
                  </a:lnTo>
                  <a:lnTo>
                    <a:pt x="1388" y="524"/>
                  </a:lnTo>
                  <a:lnTo>
                    <a:pt x="1387" y="513"/>
                  </a:lnTo>
                  <a:lnTo>
                    <a:pt x="1386" y="500"/>
                  </a:lnTo>
                  <a:lnTo>
                    <a:pt x="1386" y="489"/>
                  </a:lnTo>
                  <a:lnTo>
                    <a:pt x="1386" y="477"/>
                  </a:lnTo>
                  <a:lnTo>
                    <a:pt x="1387" y="464"/>
                  </a:lnTo>
                  <a:lnTo>
                    <a:pt x="1388" y="453"/>
                  </a:lnTo>
                  <a:lnTo>
                    <a:pt x="1390" y="441"/>
                  </a:lnTo>
                  <a:lnTo>
                    <a:pt x="1392" y="429"/>
                  </a:lnTo>
                  <a:lnTo>
                    <a:pt x="1396" y="417"/>
                  </a:lnTo>
                  <a:lnTo>
                    <a:pt x="1399" y="406"/>
                  </a:lnTo>
                  <a:lnTo>
                    <a:pt x="1405" y="394"/>
                  </a:lnTo>
                  <a:lnTo>
                    <a:pt x="1409" y="382"/>
                  </a:lnTo>
                  <a:lnTo>
                    <a:pt x="1414" y="371"/>
                  </a:lnTo>
                  <a:lnTo>
                    <a:pt x="1420" y="359"/>
                  </a:lnTo>
                  <a:lnTo>
                    <a:pt x="1426" y="348"/>
                  </a:lnTo>
                  <a:lnTo>
                    <a:pt x="1433" y="337"/>
                  </a:lnTo>
                  <a:lnTo>
                    <a:pt x="1441" y="326"/>
                  </a:lnTo>
                  <a:lnTo>
                    <a:pt x="1450" y="314"/>
                  </a:lnTo>
                  <a:lnTo>
                    <a:pt x="1458" y="304"/>
                  </a:lnTo>
                  <a:lnTo>
                    <a:pt x="1467" y="293"/>
                  </a:lnTo>
                  <a:lnTo>
                    <a:pt x="1477" y="283"/>
                  </a:lnTo>
                  <a:lnTo>
                    <a:pt x="1486" y="271"/>
                  </a:lnTo>
                  <a:lnTo>
                    <a:pt x="1497" y="261"/>
                  </a:lnTo>
                  <a:lnTo>
                    <a:pt x="1508" y="251"/>
                  </a:lnTo>
                  <a:lnTo>
                    <a:pt x="1519" y="241"/>
                  </a:lnTo>
                  <a:lnTo>
                    <a:pt x="1531" y="231"/>
                  </a:lnTo>
                  <a:lnTo>
                    <a:pt x="1545" y="221"/>
                  </a:lnTo>
                  <a:lnTo>
                    <a:pt x="1557" y="211"/>
                  </a:lnTo>
                  <a:lnTo>
                    <a:pt x="1571" y="202"/>
                  </a:lnTo>
                  <a:lnTo>
                    <a:pt x="1586" y="191"/>
                  </a:lnTo>
                  <a:lnTo>
                    <a:pt x="1600" y="182"/>
                  </a:lnTo>
                  <a:lnTo>
                    <a:pt x="1615" y="173"/>
                  </a:lnTo>
                  <a:lnTo>
                    <a:pt x="1631" y="164"/>
                  </a:lnTo>
                  <a:lnTo>
                    <a:pt x="1646" y="155"/>
                  </a:lnTo>
                  <a:lnTo>
                    <a:pt x="1662" y="146"/>
                  </a:lnTo>
                  <a:lnTo>
                    <a:pt x="1627" y="130"/>
                  </a:lnTo>
                  <a:lnTo>
                    <a:pt x="1590" y="113"/>
                  </a:lnTo>
                  <a:lnTo>
                    <a:pt x="1552" y="97"/>
                  </a:lnTo>
                  <a:lnTo>
                    <a:pt x="1512" y="83"/>
                  </a:lnTo>
                  <a:lnTo>
                    <a:pt x="1471" y="70"/>
                  </a:lnTo>
                  <a:lnTo>
                    <a:pt x="1429" y="59"/>
                  </a:lnTo>
                  <a:lnTo>
                    <a:pt x="1387" y="47"/>
                  </a:lnTo>
                  <a:lnTo>
                    <a:pt x="1345" y="37"/>
                  </a:lnTo>
                  <a:lnTo>
                    <a:pt x="1300" y="29"/>
                  </a:lnTo>
                  <a:lnTo>
                    <a:pt x="1256" y="21"/>
                  </a:lnTo>
                  <a:lnTo>
                    <a:pt x="1211" y="16"/>
                  </a:lnTo>
                  <a:lnTo>
                    <a:pt x="1165" y="10"/>
                  </a:lnTo>
                  <a:lnTo>
                    <a:pt x="1120" y="6"/>
                  </a:lnTo>
                  <a:lnTo>
                    <a:pt x="1073" y="2"/>
                  </a:lnTo>
                  <a:lnTo>
                    <a:pt x="1027" y="1"/>
                  </a:lnTo>
                  <a:lnTo>
                    <a:pt x="981" y="0"/>
                  </a:lnTo>
                  <a:lnTo>
                    <a:pt x="933" y="0"/>
                  </a:lnTo>
                  <a:lnTo>
                    <a:pt x="886" y="2"/>
                  </a:lnTo>
                  <a:lnTo>
                    <a:pt x="840" y="4"/>
                  </a:lnTo>
                  <a:lnTo>
                    <a:pt x="795" y="8"/>
                  </a:lnTo>
                  <a:lnTo>
                    <a:pt x="749" y="12"/>
                  </a:lnTo>
                  <a:lnTo>
                    <a:pt x="704" y="19"/>
                  </a:lnTo>
                  <a:lnTo>
                    <a:pt x="659" y="26"/>
                  </a:lnTo>
                  <a:lnTo>
                    <a:pt x="614" y="34"/>
                  </a:lnTo>
                  <a:lnTo>
                    <a:pt x="570" y="43"/>
                  </a:lnTo>
                  <a:lnTo>
                    <a:pt x="528" y="54"/>
                  </a:lnTo>
                  <a:lnTo>
                    <a:pt x="486" y="65"/>
                  </a:lnTo>
                  <a:lnTo>
                    <a:pt x="445" y="78"/>
                  </a:lnTo>
                  <a:lnTo>
                    <a:pt x="405" y="91"/>
                  </a:lnTo>
                  <a:lnTo>
                    <a:pt x="366" y="106"/>
                  </a:lnTo>
                  <a:lnTo>
                    <a:pt x="327" y="123"/>
                  </a:lnTo>
                  <a:lnTo>
                    <a:pt x="292" y="140"/>
                  </a:lnTo>
                  <a:lnTo>
                    <a:pt x="274" y="149"/>
                  </a:lnTo>
                  <a:lnTo>
                    <a:pt x="258" y="158"/>
                  </a:lnTo>
                  <a:lnTo>
                    <a:pt x="241" y="167"/>
                  </a:lnTo>
                  <a:lnTo>
                    <a:pt x="225" y="176"/>
                  </a:lnTo>
                  <a:lnTo>
                    <a:pt x="210" y="185"/>
                  </a:lnTo>
                  <a:lnTo>
                    <a:pt x="195" y="195"/>
                  </a:lnTo>
                  <a:lnTo>
                    <a:pt x="181" y="204"/>
                  </a:lnTo>
                  <a:lnTo>
                    <a:pt x="168" y="214"/>
                  </a:lnTo>
                  <a:lnTo>
                    <a:pt x="154" y="224"/>
                  </a:lnTo>
                  <a:lnTo>
                    <a:pt x="142" y="234"/>
                  </a:lnTo>
                  <a:lnTo>
                    <a:pt x="130" y="246"/>
                  </a:lnTo>
                  <a:lnTo>
                    <a:pt x="117" y="256"/>
                  </a:lnTo>
                  <a:lnTo>
                    <a:pt x="106" y="266"/>
                  </a:lnTo>
                  <a:lnTo>
                    <a:pt x="96" y="277"/>
                  </a:lnTo>
                  <a:lnTo>
                    <a:pt x="86" y="288"/>
                  </a:lnTo>
                  <a:lnTo>
                    <a:pt x="76" y="300"/>
                  </a:lnTo>
                  <a:lnTo>
                    <a:pt x="67" y="311"/>
                  </a:lnTo>
                  <a:lnTo>
                    <a:pt x="59" y="322"/>
                  </a:lnTo>
                  <a:lnTo>
                    <a:pt x="51" y="333"/>
                  </a:lnTo>
                  <a:lnTo>
                    <a:pt x="44" y="345"/>
                  </a:lnTo>
                  <a:lnTo>
                    <a:pt x="37" y="356"/>
                  </a:lnTo>
                  <a:lnTo>
                    <a:pt x="30" y="368"/>
                  </a:lnTo>
                  <a:lnTo>
                    <a:pt x="25" y="380"/>
                  </a:lnTo>
                  <a:lnTo>
                    <a:pt x="19" y="391"/>
                  </a:lnTo>
                  <a:lnTo>
                    <a:pt x="15" y="403"/>
                  </a:lnTo>
                  <a:lnTo>
                    <a:pt x="11" y="416"/>
                  </a:lnTo>
                  <a:lnTo>
                    <a:pt x="8" y="427"/>
                  </a:lnTo>
                  <a:lnTo>
                    <a:pt x="6" y="439"/>
                  </a:lnTo>
                  <a:lnTo>
                    <a:pt x="3" y="452"/>
                  </a:lnTo>
                  <a:lnTo>
                    <a:pt x="1" y="464"/>
                  </a:lnTo>
                  <a:lnTo>
                    <a:pt x="0" y="477"/>
                  </a:lnTo>
                  <a:lnTo>
                    <a:pt x="0" y="489"/>
                  </a:lnTo>
                  <a:lnTo>
                    <a:pt x="1" y="514"/>
                  </a:lnTo>
                  <a:lnTo>
                    <a:pt x="6" y="539"/>
                  </a:lnTo>
                  <a:lnTo>
                    <a:pt x="11" y="563"/>
                  </a:lnTo>
                  <a:lnTo>
                    <a:pt x="21" y="587"/>
                  </a:lnTo>
                  <a:lnTo>
                    <a:pt x="30" y="611"/>
                  </a:lnTo>
                  <a:lnTo>
                    <a:pt x="44" y="633"/>
                  </a:lnTo>
                  <a:lnTo>
                    <a:pt x="59" y="657"/>
                  </a:lnTo>
                  <a:lnTo>
                    <a:pt x="76" y="678"/>
                  </a:lnTo>
                  <a:lnTo>
                    <a:pt x="96" y="700"/>
                  </a:lnTo>
                  <a:lnTo>
                    <a:pt x="117" y="721"/>
                  </a:lnTo>
                  <a:lnTo>
                    <a:pt x="141" y="741"/>
                  </a:lnTo>
                  <a:lnTo>
                    <a:pt x="166" y="762"/>
                  </a:lnTo>
                  <a:lnTo>
                    <a:pt x="192" y="781"/>
                  </a:lnTo>
                  <a:lnTo>
                    <a:pt x="222" y="799"/>
                  </a:lnTo>
                  <a:lnTo>
                    <a:pt x="252" y="817"/>
                  </a:lnTo>
                  <a:lnTo>
                    <a:pt x="284" y="834"/>
                  </a:lnTo>
                  <a:lnTo>
                    <a:pt x="318" y="850"/>
                  </a:lnTo>
                  <a:lnTo>
                    <a:pt x="353" y="865"/>
                  </a:lnTo>
                  <a:lnTo>
                    <a:pt x="390" y="880"/>
                  </a:lnTo>
                  <a:lnTo>
                    <a:pt x="428" y="894"/>
                  </a:lnTo>
                  <a:lnTo>
                    <a:pt x="468" y="906"/>
                  </a:lnTo>
                  <a:lnTo>
                    <a:pt x="507" y="918"/>
                  </a:lnTo>
                  <a:lnTo>
                    <a:pt x="550" y="929"/>
                  </a:lnTo>
                  <a:lnTo>
                    <a:pt x="592" y="939"/>
                  </a:lnTo>
                  <a:lnTo>
                    <a:pt x="637" y="948"/>
                  </a:lnTo>
                  <a:lnTo>
                    <a:pt x="682" y="956"/>
                  </a:lnTo>
                  <a:lnTo>
                    <a:pt x="728" y="961"/>
                  </a:lnTo>
                  <a:lnTo>
                    <a:pt x="775" y="967"/>
                  </a:lnTo>
                  <a:lnTo>
                    <a:pt x="822" y="971"/>
                  </a:lnTo>
                  <a:lnTo>
                    <a:pt x="871" y="975"/>
                  </a:lnTo>
                  <a:lnTo>
                    <a:pt x="921" y="976"/>
                  </a:lnTo>
                  <a:lnTo>
                    <a:pt x="970" y="977"/>
                  </a:lnTo>
                  <a:lnTo>
                    <a:pt x="994" y="977"/>
                  </a:lnTo>
                  <a:lnTo>
                    <a:pt x="1019" y="976"/>
                  </a:lnTo>
                  <a:lnTo>
                    <a:pt x="1043" y="976"/>
                  </a:lnTo>
                  <a:lnTo>
                    <a:pt x="1068" y="975"/>
                  </a:lnTo>
                  <a:lnTo>
                    <a:pt x="1091" y="974"/>
                  </a:lnTo>
                  <a:lnTo>
                    <a:pt x="1116" y="971"/>
                  </a:lnTo>
                  <a:lnTo>
                    <a:pt x="1139" y="969"/>
                  </a:lnTo>
                  <a:lnTo>
                    <a:pt x="1163" y="967"/>
                  </a:lnTo>
                  <a:lnTo>
                    <a:pt x="1186" y="965"/>
                  </a:lnTo>
                  <a:lnTo>
                    <a:pt x="1210" y="962"/>
                  </a:lnTo>
                  <a:lnTo>
                    <a:pt x="1233" y="959"/>
                  </a:lnTo>
                  <a:lnTo>
                    <a:pt x="1256" y="956"/>
                  </a:lnTo>
                  <a:lnTo>
                    <a:pt x="1279" y="952"/>
                  </a:lnTo>
                  <a:lnTo>
                    <a:pt x="1301" y="948"/>
                  </a:lnTo>
                  <a:lnTo>
                    <a:pt x="1346" y="939"/>
                  </a:lnTo>
                  <a:lnTo>
                    <a:pt x="1390" y="929"/>
                  </a:lnTo>
                  <a:lnTo>
                    <a:pt x="1432" y="918"/>
                  </a:lnTo>
                  <a:lnTo>
                    <a:pt x="1474" y="906"/>
                  </a:lnTo>
                  <a:lnTo>
                    <a:pt x="1514" y="892"/>
                  </a:lnTo>
                  <a:lnTo>
                    <a:pt x="1553" y="879"/>
                  </a:lnTo>
                  <a:lnTo>
                    <a:pt x="1572" y="871"/>
                  </a:lnTo>
                  <a:lnTo>
                    <a:pt x="1591" y="863"/>
                  </a:lnTo>
                  <a:lnTo>
                    <a:pt x="1609" y="855"/>
                  </a:lnTo>
                  <a:lnTo>
                    <a:pt x="1628" y="847"/>
                  </a:lnTo>
                  <a:lnTo>
                    <a:pt x="1646" y="839"/>
                  </a:lnTo>
                  <a:lnTo>
                    <a:pt x="1662" y="830"/>
                  </a:lnTo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03080" y="2389320"/>
              <a:ext cx="64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 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60800" y="1720800"/>
              <a:ext cx="2641680" cy="1550880"/>
            </a:xfrm>
            <a:custGeom>
              <a:avLst/>
              <a:gdLst/>
              <a:ahLst/>
              <a:rect l="l" t="t" r="r" b="b"/>
              <a:pathLst>
                <a:path w="1664" h="977">
                  <a:moveTo>
                    <a:pt x="0" y="830"/>
                  </a:moveTo>
                  <a:lnTo>
                    <a:pt x="37" y="847"/>
                  </a:lnTo>
                  <a:lnTo>
                    <a:pt x="74" y="864"/>
                  </a:lnTo>
                  <a:lnTo>
                    <a:pt x="112" y="880"/>
                  </a:lnTo>
                  <a:lnTo>
                    <a:pt x="152" y="894"/>
                  </a:lnTo>
                  <a:lnTo>
                    <a:pt x="193" y="907"/>
                  </a:lnTo>
                  <a:lnTo>
                    <a:pt x="233" y="918"/>
                  </a:lnTo>
                  <a:lnTo>
                    <a:pt x="276" y="930"/>
                  </a:lnTo>
                  <a:lnTo>
                    <a:pt x="319" y="940"/>
                  </a:lnTo>
                  <a:lnTo>
                    <a:pt x="363" y="948"/>
                  </a:lnTo>
                  <a:lnTo>
                    <a:pt x="408" y="956"/>
                  </a:lnTo>
                  <a:lnTo>
                    <a:pt x="453" y="962"/>
                  </a:lnTo>
                  <a:lnTo>
                    <a:pt x="498" y="967"/>
                  </a:lnTo>
                  <a:lnTo>
                    <a:pt x="544" y="971"/>
                  </a:lnTo>
                  <a:lnTo>
                    <a:pt x="591" y="975"/>
                  </a:lnTo>
                  <a:lnTo>
                    <a:pt x="637" y="976"/>
                  </a:lnTo>
                  <a:lnTo>
                    <a:pt x="683" y="977"/>
                  </a:lnTo>
                  <a:lnTo>
                    <a:pt x="730" y="977"/>
                  </a:lnTo>
                  <a:lnTo>
                    <a:pt x="776" y="975"/>
                  </a:lnTo>
                  <a:lnTo>
                    <a:pt x="823" y="972"/>
                  </a:lnTo>
                  <a:lnTo>
                    <a:pt x="869" y="969"/>
                  </a:lnTo>
                  <a:lnTo>
                    <a:pt x="915" y="965"/>
                  </a:lnTo>
                  <a:lnTo>
                    <a:pt x="960" y="958"/>
                  </a:lnTo>
                  <a:lnTo>
                    <a:pt x="1005" y="951"/>
                  </a:lnTo>
                  <a:lnTo>
                    <a:pt x="1049" y="943"/>
                  </a:lnTo>
                  <a:lnTo>
                    <a:pt x="1093" y="934"/>
                  </a:lnTo>
                  <a:lnTo>
                    <a:pt x="1136" y="923"/>
                  </a:lnTo>
                  <a:lnTo>
                    <a:pt x="1177" y="912"/>
                  </a:lnTo>
                  <a:lnTo>
                    <a:pt x="1219" y="899"/>
                  </a:lnTo>
                  <a:lnTo>
                    <a:pt x="1259" y="886"/>
                  </a:lnTo>
                  <a:lnTo>
                    <a:pt x="1298" y="871"/>
                  </a:lnTo>
                  <a:lnTo>
                    <a:pt x="1335" y="854"/>
                  </a:lnTo>
                  <a:lnTo>
                    <a:pt x="1372" y="837"/>
                  </a:lnTo>
                  <a:lnTo>
                    <a:pt x="1390" y="828"/>
                  </a:lnTo>
                  <a:lnTo>
                    <a:pt x="1406" y="820"/>
                  </a:lnTo>
                  <a:lnTo>
                    <a:pt x="1423" y="810"/>
                  </a:lnTo>
                  <a:lnTo>
                    <a:pt x="1438" y="801"/>
                  </a:lnTo>
                  <a:lnTo>
                    <a:pt x="1454" y="792"/>
                  </a:lnTo>
                  <a:lnTo>
                    <a:pt x="1468" y="782"/>
                  </a:lnTo>
                  <a:lnTo>
                    <a:pt x="1483" y="773"/>
                  </a:lnTo>
                  <a:lnTo>
                    <a:pt x="1496" y="763"/>
                  </a:lnTo>
                  <a:lnTo>
                    <a:pt x="1510" y="753"/>
                  </a:lnTo>
                  <a:lnTo>
                    <a:pt x="1522" y="743"/>
                  </a:lnTo>
                  <a:lnTo>
                    <a:pt x="1534" y="731"/>
                  </a:lnTo>
                  <a:lnTo>
                    <a:pt x="1547" y="721"/>
                  </a:lnTo>
                  <a:lnTo>
                    <a:pt x="1558" y="711"/>
                  </a:lnTo>
                  <a:lnTo>
                    <a:pt x="1568" y="700"/>
                  </a:lnTo>
                  <a:lnTo>
                    <a:pt x="1578" y="688"/>
                  </a:lnTo>
                  <a:lnTo>
                    <a:pt x="1588" y="677"/>
                  </a:lnTo>
                  <a:lnTo>
                    <a:pt x="1597" y="667"/>
                  </a:lnTo>
                  <a:lnTo>
                    <a:pt x="1605" y="656"/>
                  </a:lnTo>
                  <a:lnTo>
                    <a:pt x="1613" y="643"/>
                  </a:lnTo>
                  <a:lnTo>
                    <a:pt x="1620" y="632"/>
                  </a:lnTo>
                  <a:lnTo>
                    <a:pt x="1627" y="621"/>
                  </a:lnTo>
                  <a:lnTo>
                    <a:pt x="1634" y="610"/>
                  </a:lnTo>
                  <a:lnTo>
                    <a:pt x="1639" y="597"/>
                  </a:lnTo>
                  <a:lnTo>
                    <a:pt x="1643" y="586"/>
                  </a:lnTo>
                  <a:lnTo>
                    <a:pt x="1649" y="574"/>
                  </a:lnTo>
                  <a:lnTo>
                    <a:pt x="1653" y="561"/>
                  </a:lnTo>
                  <a:lnTo>
                    <a:pt x="1656" y="550"/>
                  </a:lnTo>
                  <a:lnTo>
                    <a:pt x="1658" y="537"/>
                  </a:lnTo>
                  <a:lnTo>
                    <a:pt x="1660" y="525"/>
                  </a:lnTo>
                  <a:lnTo>
                    <a:pt x="1663" y="513"/>
                  </a:lnTo>
                  <a:lnTo>
                    <a:pt x="1663" y="500"/>
                  </a:lnTo>
                  <a:lnTo>
                    <a:pt x="1664" y="489"/>
                  </a:lnTo>
                  <a:lnTo>
                    <a:pt x="1663" y="463"/>
                  </a:lnTo>
                  <a:lnTo>
                    <a:pt x="1658" y="438"/>
                  </a:lnTo>
                  <a:lnTo>
                    <a:pt x="1652" y="415"/>
                  </a:lnTo>
                  <a:lnTo>
                    <a:pt x="1643" y="390"/>
                  </a:lnTo>
                  <a:lnTo>
                    <a:pt x="1633" y="366"/>
                  </a:lnTo>
                  <a:lnTo>
                    <a:pt x="1620" y="344"/>
                  </a:lnTo>
                  <a:lnTo>
                    <a:pt x="1604" y="320"/>
                  </a:lnTo>
                  <a:lnTo>
                    <a:pt x="1588" y="299"/>
                  </a:lnTo>
                  <a:lnTo>
                    <a:pt x="1567" y="277"/>
                  </a:lnTo>
                  <a:lnTo>
                    <a:pt x="1547" y="256"/>
                  </a:lnTo>
                  <a:lnTo>
                    <a:pt x="1523" y="235"/>
                  </a:lnTo>
                  <a:lnTo>
                    <a:pt x="1498" y="215"/>
                  </a:lnTo>
                  <a:lnTo>
                    <a:pt x="1470" y="196"/>
                  </a:lnTo>
                  <a:lnTo>
                    <a:pt x="1442" y="178"/>
                  </a:lnTo>
                  <a:lnTo>
                    <a:pt x="1412" y="160"/>
                  </a:lnTo>
                  <a:lnTo>
                    <a:pt x="1379" y="143"/>
                  </a:lnTo>
                  <a:lnTo>
                    <a:pt x="1346" y="127"/>
                  </a:lnTo>
                  <a:lnTo>
                    <a:pt x="1311" y="111"/>
                  </a:lnTo>
                  <a:lnTo>
                    <a:pt x="1274" y="97"/>
                  </a:lnTo>
                  <a:lnTo>
                    <a:pt x="1236" y="83"/>
                  </a:lnTo>
                  <a:lnTo>
                    <a:pt x="1196" y="71"/>
                  </a:lnTo>
                  <a:lnTo>
                    <a:pt x="1155" y="59"/>
                  </a:lnTo>
                  <a:lnTo>
                    <a:pt x="1114" y="48"/>
                  </a:lnTo>
                  <a:lnTo>
                    <a:pt x="1071" y="38"/>
                  </a:lnTo>
                  <a:lnTo>
                    <a:pt x="1027" y="29"/>
                  </a:lnTo>
                  <a:lnTo>
                    <a:pt x="982" y="22"/>
                  </a:lnTo>
                  <a:lnTo>
                    <a:pt x="936" y="16"/>
                  </a:lnTo>
                  <a:lnTo>
                    <a:pt x="889" y="10"/>
                  </a:lnTo>
                  <a:lnTo>
                    <a:pt x="842" y="6"/>
                  </a:lnTo>
                  <a:lnTo>
                    <a:pt x="793" y="2"/>
                  </a:lnTo>
                  <a:lnTo>
                    <a:pt x="743" y="1"/>
                  </a:lnTo>
                  <a:lnTo>
                    <a:pt x="693" y="0"/>
                  </a:lnTo>
                  <a:lnTo>
                    <a:pt x="668" y="0"/>
                  </a:lnTo>
                  <a:lnTo>
                    <a:pt x="645" y="1"/>
                  </a:lnTo>
                  <a:lnTo>
                    <a:pt x="621" y="1"/>
                  </a:lnTo>
                  <a:lnTo>
                    <a:pt x="596" y="2"/>
                  </a:lnTo>
                  <a:lnTo>
                    <a:pt x="573" y="3"/>
                  </a:lnTo>
                  <a:lnTo>
                    <a:pt x="548" y="6"/>
                  </a:lnTo>
                  <a:lnTo>
                    <a:pt x="525" y="8"/>
                  </a:lnTo>
                  <a:lnTo>
                    <a:pt x="501" y="10"/>
                  </a:lnTo>
                  <a:lnTo>
                    <a:pt x="478" y="12"/>
                  </a:lnTo>
                  <a:lnTo>
                    <a:pt x="454" y="15"/>
                  </a:lnTo>
                  <a:lnTo>
                    <a:pt x="431" y="18"/>
                  </a:lnTo>
                  <a:lnTo>
                    <a:pt x="408" y="21"/>
                  </a:lnTo>
                  <a:lnTo>
                    <a:pt x="385" y="26"/>
                  </a:lnTo>
                  <a:lnTo>
                    <a:pt x="363" y="29"/>
                  </a:lnTo>
                  <a:lnTo>
                    <a:pt x="318" y="38"/>
                  </a:lnTo>
                  <a:lnTo>
                    <a:pt x="274" y="48"/>
                  </a:lnTo>
                  <a:lnTo>
                    <a:pt x="231" y="59"/>
                  </a:lnTo>
                  <a:lnTo>
                    <a:pt x="190" y="71"/>
                  </a:lnTo>
                  <a:lnTo>
                    <a:pt x="149" y="84"/>
                  </a:lnTo>
                  <a:lnTo>
                    <a:pt x="111" y="98"/>
                  </a:lnTo>
                  <a:lnTo>
                    <a:pt x="92" y="106"/>
                  </a:lnTo>
                  <a:lnTo>
                    <a:pt x="73" y="114"/>
                  </a:lnTo>
                  <a:lnTo>
                    <a:pt x="53" y="122"/>
                  </a:lnTo>
                  <a:lnTo>
                    <a:pt x="36" y="130"/>
                  </a:lnTo>
                  <a:lnTo>
                    <a:pt x="18" y="137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17" y="155"/>
                  </a:lnTo>
                  <a:lnTo>
                    <a:pt x="33" y="164"/>
                  </a:lnTo>
                  <a:lnTo>
                    <a:pt x="48" y="173"/>
                  </a:lnTo>
                  <a:lnTo>
                    <a:pt x="63" y="182"/>
                  </a:lnTo>
                  <a:lnTo>
                    <a:pt x="78" y="191"/>
                  </a:lnTo>
                  <a:lnTo>
                    <a:pt x="92" y="202"/>
                  </a:lnTo>
                  <a:lnTo>
                    <a:pt x="105" y="211"/>
                  </a:lnTo>
                  <a:lnTo>
                    <a:pt x="119" y="221"/>
                  </a:lnTo>
                  <a:lnTo>
                    <a:pt x="131" y="231"/>
                  </a:lnTo>
                  <a:lnTo>
                    <a:pt x="143" y="241"/>
                  </a:lnTo>
                  <a:lnTo>
                    <a:pt x="156" y="251"/>
                  </a:lnTo>
                  <a:lnTo>
                    <a:pt x="167" y="261"/>
                  </a:lnTo>
                  <a:lnTo>
                    <a:pt x="178" y="271"/>
                  </a:lnTo>
                  <a:lnTo>
                    <a:pt x="187" y="283"/>
                  </a:lnTo>
                  <a:lnTo>
                    <a:pt x="197" y="293"/>
                  </a:lnTo>
                  <a:lnTo>
                    <a:pt x="206" y="304"/>
                  </a:lnTo>
                  <a:lnTo>
                    <a:pt x="214" y="314"/>
                  </a:lnTo>
                  <a:lnTo>
                    <a:pt x="223" y="326"/>
                  </a:lnTo>
                  <a:lnTo>
                    <a:pt x="229" y="337"/>
                  </a:lnTo>
                  <a:lnTo>
                    <a:pt x="238" y="348"/>
                  </a:lnTo>
                  <a:lnTo>
                    <a:pt x="243" y="359"/>
                  </a:lnTo>
                  <a:lnTo>
                    <a:pt x="250" y="371"/>
                  </a:lnTo>
                  <a:lnTo>
                    <a:pt x="255" y="382"/>
                  </a:lnTo>
                  <a:lnTo>
                    <a:pt x="259" y="394"/>
                  </a:lnTo>
                  <a:lnTo>
                    <a:pt x="263" y="406"/>
                  </a:lnTo>
                  <a:lnTo>
                    <a:pt x="268" y="417"/>
                  </a:lnTo>
                  <a:lnTo>
                    <a:pt x="270" y="429"/>
                  </a:lnTo>
                  <a:lnTo>
                    <a:pt x="273" y="441"/>
                  </a:lnTo>
                  <a:lnTo>
                    <a:pt x="276" y="453"/>
                  </a:lnTo>
                  <a:lnTo>
                    <a:pt x="277" y="464"/>
                  </a:lnTo>
                  <a:lnTo>
                    <a:pt x="277" y="477"/>
                  </a:lnTo>
                  <a:lnTo>
                    <a:pt x="278" y="489"/>
                  </a:lnTo>
                  <a:lnTo>
                    <a:pt x="277" y="500"/>
                  </a:lnTo>
                  <a:lnTo>
                    <a:pt x="277" y="513"/>
                  </a:lnTo>
                  <a:lnTo>
                    <a:pt x="276" y="524"/>
                  </a:lnTo>
                  <a:lnTo>
                    <a:pt x="273" y="536"/>
                  </a:lnTo>
                  <a:lnTo>
                    <a:pt x="270" y="548"/>
                  </a:lnTo>
                  <a:lnTo>
                    <a:pt x="268" y="560"/>
                  </a:lnTo>
                  <a:lnTo>
                    <a:pt x="263" y="571"/>
                  </a:lnTo>
                  <a:lnTo>
                    <a:pt x="259" y="583"/>
                  </a:lnTo>
                  <a:lnTo>
                    <a:pt x="255" y="595"/>
                  </a:lnTo>
                  <a:lnTo>
                    <a:pt x="250" y="606"/>
                  </a:lnTo>
                  <a:lnTo>
                    <a:pt x="243" y="617"/>
                  </a:lnTo>
                  <a:lnTo>
                    <a:pt x="238" y="629"/>
                  </a:lnTo>
                  <a:lnTo>
                    <a:pt x="229" y="640"/>
                  </a:lnTo>
                  <a:lnTo>
                    <a:pt x="223" y="651"/>
                  </a:lnTo>
                  <a:lnTo>
                    <a:pt x="214" y="663"/>
                  </a:lnTo>
                  <a:lnTo>
                    <a:pt x="206" y="673"/>
                  </a:lnTo>
                  <a:lnTo>
                    <a:pt x="197" y="684"/>
                  </a:lnTo>
                  <a:lnTo>
                    <a:pt x="187" y="695"/>
                  </a:lnTo>
                  <a:lnTo>
                    <a:pt x="178" y="705"/>
                  </a:lnTo>
                  <a:lnTo>
                    <a:pt x="167" y="716"/>
                  </a:lnTo>
                  <a:lnTo>
                    <a:pt x="156" y="726"/>
                  </a:lnTo>
                  <a:lnTo>
                    <a:pt x="143" y="737"/>
                  </a:lnTo>
                  <a:lnTo>
                    <a:pt x="131" y="746"/>
                  </a:lnTo>
                  <a:lnTo>
                    <a:pt x="119" y="756"/>
                  </a:lnTo>
                  <a:lnTo>
                    <a:pt x="105" y="766"/>
                  </a:lnTo>
                  <a:lnTo>
                    <a:pt x="92" y="776"/>
                  </a:lnTo>
                  <a:lnTo>
                    <a:pt x="78" y="785"/>
                  </a:lnTo>
                  <a:lnTo>
                    <a:pt x="63" y="794"/>
                  </a:lnTo>
                  <a:lnTo>
                    <a:pt x="48" y="803"/>
                  </a:lnTo>
                  <a:lnTo>
                    <a:pt x="33" y="812"/>
                  </a:lnTo>
                  <a:lnTo>
                    <a:pt x="17" y="821"/>
                  </a:lnTo>
                  <a:lnTo>
                    <a:pt x="0" y="830"/>
                  </a:lnTo>
                  <a:lnTo>
                    <a:pt x="0" y="83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0800" y="1720800"/>
              <a:ext cx="2641680" cy="1550880"/>
            </a:xfrm>
            <a:custGeom>
              <a:avLst/>
              <a:gdLst/>
              <a:ahLst/>
              <a:rect l="l" t="t" r="r" b="b"/>
              <a:pathLst>
                <a:path w="1664" h="977">
                  <a:moveTo>
                    <a:pt x="0" y="830"/>
                  </a:moveTo>
                  <a:lnTo>
                    <a:pt x="37" y="847"/>
                  </a:lnTo>
                  <a:lnTo>
                    <a:pt x="74" y="864"/>
                  </a:lnTo>
                  <a:lnTo>
                    <a:pt x="112" y="880"/>
                  </a:lnTo>
                  <a:lnTo>
                    <a:pt x="152" y="894"/>
                  </a:lnTo>
                  <a:lnTo>
                    <a:pt x="193" y="907"/>
                  </a:lnTo>
                  <a:lnTo>
                    <a:pt x="233" y="918"/>
                  </a:lnTo>
                  <a:lnTo>
                    <a:pt x="276" y="930"/>
                  </a:lnTo>
                  <a:lnTo>
                    <a:pt x="319" y="940"/>
                  </a:lnTo>
                  <a:lnTo>
                    <a:pt x="363" y="948"/>
                  </a:lnTo>
                  <a:lnTo>
                    <a:pt x="408" y="956"/>
                  </a:lnTo>
                  <a:lnTo>
                    <a:pt x="453" y="962"/>
                  </a:lnTo>
                  <a:lnTo>
                    <a:pt x="498" y="967"/>
                  </a:lnTo>
                  <a:lnTo>
                    <a:pt x="544" y="971"/>
                  </a:lnTo>
                  <a:lnTo>
                    <a:pt x="591" y="975"/>
                  </a:lnTo>
                  <a:lnTo>
                    <a:pt x="637" y="976"/>
                  </a:lnTo>
                  <a:lnTo>
                    <a:pt x="683" y="977"/>
                  </a:lnTo>
                  <a:lnTo>
                    <a:pt x="730" y="977"/>
                  </a:lnTo>
                  <a:lnTo>
                    <a:pt x="776" y="975"/>
                  </a:lnTo>
                  <a:lnTo>
                    <a:pt x="823" y="972"/>
                  </a:lnTo>
                  <a:lnTo>
                    <a:pt x="869" y="969"/>
                  </a:lnTo>
                  <a:lnTo>
                    <a:pt x="915" y="965"/>
                  </a:lnTo>
                  <a:lnTo>
                    <a:pt x="960" y="958"/>
                  </a:lnTo>
                  <a:lnTo>
                    <a:pt x="1005" y="951"/>
                  </a:lnTo>
                  <a:lnTo>
                    <a:pt x="1049" y="943"/>
                  </a:lnTo>
                  <a:lnTo>
                    <a:pt x="1093" y="934"/>
                  </a:lnTo>
                  <a:lnTo>
                    <a:pt x="1136" y="923"/>
                  </a:lnTo>
                  <a:lnTo>
                    <a:pt x="1177" y="912"/>
                  </a:lnTo>
                  <a:lnTo>
                    <a:pt x="1219" y="899"/>
                  </a:lnTo>
                  <a:lnTo>
                    <a:pt x="1259" y="886"/>
                  </a:lnTo>
                  <a:lnTo>
                    <a:pt x="1298" y="871"/>
                  </a:lnTo>
                  <a:lnTo>
                    <a:pt x="1335" y="854"/>
                  </a:lnTo>
                  <a:lnTo>
                    <a:pt x="1372" y="837"/>
                  </a:lnTo>
                  <a:lnTo>
                    <a:pt x="1390" y="828"/>
                  </a:lnTo>
                  <a:lnTo>
                    <a:pt x="1406" y="820"/>
                  </a:lnTo>
                  <a:lnTo>
                    <a:pt x="1423" y="810"/>
                  </a:lnTo>
                  <a:lnTo>
                    <a:pt x="1438" y="801"/>
                  </a:lnTo>
                  <a:lnTo>
                    <a:pt x="1454" y="792"/>
                  </a:lnTo>
                  <a:lnTo>
                    <a:pt x="1468" y="782"/>
                  </a:lnTo>
                  <a:lnTo>
                    <a:pt x="1483" y="773"/>
                  </a:lnTo>
                  <a:lnTo>
                    <a:pt x="1496" y="763"/>
                  </a:lnTo>
                  <a:lnTo>
                    <a:pt x="1510" y="753"/>
                  </a:lnTo>
                  <a:lnTo>
                    <a:pt x="1522" y="743"/>
                  </a:lnTo>
                  <a:lnTo>
                    <a:pt x="1534" y="731"/>
                  </a:lnTo>
                  <a:lnTo>
                    <a:pt x="1547" y="721"/>
                  </a:lnTo>
                  <a:lnTo>
                    <a:pt x="1558" y="711"/>
                  </a:lnTo>
                  <a:lnTo>
                    <a:pt x="1568" y="700"/>
                  </a:lnTo>
                  <a:lnTo>
                    <a:pt x="1578" y="688"/>
                  </a:lnTo>
                  <a:lnTo>
                    <a:pt x="1588" y="677"/>
                  </a:lnTo>
                  <a:lnTo>
                    <a:pt x="1597" y="667"/>
                  </a:lnTo>
                  <a:lnTo>
                    <a:pt x="1605" y="656"/>
                  </a:lnTo>
                  <a:lnTo>
                    <a:pt x="1613" y="643"/>
                  </a:lnTo>
                  <a:lnTo>
                    <a:pt x="1620" y="632"/>
                  </a:lnTo>
                  <a:lnTo>
                    <a:pt x="1627" y="621"/>
                  </a:lnTo>
                  <a:lnTo>
                    <a:pt x="1634" y="610"/>
                  </a:lnTo>
                  <a:lnTo>
                    <a:pt x="1639" y="597"/>
                  </a:lnTo>
                  <a:lnTo>
                    <a:pt x="1643" y="586"/>
                  </a:lnTo>
                  <a:lnTo>
                    <a:pt x="1649" y="574"/>
                  </a:lnTo>
                  <a:lnTo>
                    <a:pt x="1653" y="561"/>
                  </a:lnTo>
                  <a:lnTo>
                    <a:pt x="1656" y="550"/>
                  </a:lnTo>
                  <a:lnTo>
                    <a:pt x="1658" y="537"/>
                  </a:lnTo>
                  <a:lnTo>
                    <a:pt x="1660" y="525"/>
                  </a:lnTo>
                  <a:lnTo>
                    <a:pt x="1663" y="513"/>
                  </a:lnTo>
                  <a:lnTo>
                    <a:pt x="1663" y="500"/>
                  </a:lnTo>
                  <a:lnTo>
                    <a:pt x="1664" y="489"/>
                  </a:lnTo>
                  <a:lnTo>
                    <a:pt x="1663" y="463"/>
                  </a:lnTo>
                  <a:lnTo>
                    <a:pt x="1658" y="438"/>
                  </a:lnTo>
                  <a:lnTo>
                    <a:pt x="1652" y="415"/>
                  </a:lnTo>
                  <a:lnTo>
                    <a:pt x="1643" y="390"/>
                  </a:lnTo>
                  <a:lnTo>
                    <a:pt x="1633" y="366"/>
                  </a:lnTo>
                  <a:lnTo>
                    <a:pt x="1620" y="344"/>
                  </a:lnTo>
                  <a:lnTo>
                    <a:pt x="1604" y="320"/>
                  </a:lnTo>
                  <a:lnTo>
                    <a:pt x="1588" y="299"/>
                  </a:lnTo>
                  <a:lnTo>
                    <a:pt x="1567" y="277"/>
                  </a:lnTo>
                  <a:lnTo>
                    <a:pt x="1547" y="256"/>
                  </a:lnTo>
                  <a:lnTo>
                    <a:pt x="1523" y="235"/>
                  </a:lnTo>
                  <a:lnTo>
                    <a:pt x="1498" y="215"/>
                  </a:lnTo>
                  <a:lnTo>
                    <a:pt x="1470" y="196"/>
                  </a:lnTo>
                  <a:lnTo>
                    <a:pt x="1442" y="178"/>
                  </a:lnTo>
                  <a:lnTo>
                    <a:pt x="1412" y="160"/>
                  </a:lnTo>
                  <a:lnTo>
                    <a:pt x="1379" y="143"/>
                  </a:lnTo>
                  <a:lnTo>
                    <a:pt x="1346" y="127"/>
                  </a:lnTo>
                  <a:lnTo>
                    <a:pt x="1311" y="111"/>
                  </a:lnTo>
                  <a:lnTo>
                    <a:pt x="1274" y="97"/>
                  </a:lnTo>
                  <a:lnTo>
                    <a:pt x="1236" y="83"/>
                  </a:lnTo>
                  <a:lnTo>
                    <a:pt x="1196" y="71"/>
                  </a:lnTo>
                  <a:lnTo>
                    <a:pt x="1155" y="59"/>
                  </a:lnTo>
                  <a:lnTo>
                    <a:pt x="1114" y="48"/>
                  </a:lnTo>
                  <a:lnTo>
                    <a:pt x="1071" y="38"/>
                  </a:lnTo>
                  <a:lnTo>
                    <a:pt x="1027" y="29"/>
                  </a:lnTo>
                  <a:lnTo>
                    <a:pt x="982" y="22"/>
                  </a:lnTo>
                  <a:lnTo>
                    <a:pt x="936" y="16"/>
                  </a:lnTo>
                  <a:lnTo>
                    <a:pt x="889" y="10"/>
                  </a:lnTo>
                  <a:lnTo>
                    <a:pt x="842" y="6"/>
                  </a:lnTo>
                  <a:lnTo>
                    <a:pt x="793" y="2"/>
                  </a:lnTo>
                  <a:lnTo>
                    <a:pt x="743" y="1"/>
                  </a:lnTo>
                  <a:lnTo>
                    <a:pt x="693" y="0"/>
                  </a:lnTo>
                  <a:lnTo>
                    <a:pt x="668" y="0"/>
                  </a:lnTo>
                  <a:lnTo>
                    <a:pt x="645" y="1"/>
                  </a:lnTo>
                  <a:lnTo>
                    <a:pt x="621" y="1"/>
                  </a:lnTo>
                  <a:lnTo>
                    <a:pt x="596" y="2"/>
                  </a:lnTo>
                  <a:lnTo>
                    <a:pt x="573" y="3"/>
                  </a:lnTo>
                  <a:lnTo>
                    <a:pt x="548" y="6"/>
                  </a:lnTo>
                  <a:lnTo>
                    <a:pt x="525" y="8"/>
                  </a:lnTo>
                  <a:lnTo>
                    <a:pt x="501" y="10"/>
                  </a:lnTo>
                  <a:lnTo>
                    <a:pt x="478" y="12"/>
                  </a:lnTo>
                  <a:lnTo>
                    <a:pt x="454" y="15"/>
                  </a:lnTo>
                  <a:lnTo>
                    <a:pt x="431" y="18"/>
                  </a:lnTo>
                  <a:lnTo>
                    <a:pt x="408" y="21"/>
                  </a:lnTo>
                  <a:lnTo>
                    <a:pt x="385" y="26"/>
                  </a:lnTo>
                  <a:lnTo>
                    <a:pt x="363" y="29"/>
                  </a:lnTo>
                  <a:lnTo>
                    <a:pt x="318" y="38"/>
                  </a:lnTo>
                  <a:lnTo>
                    <a:pt x="274" y="48"/>
                  </a:lnTo>
                  <a:lnTo>
                    <a:pt x="231" y="59"/>
                  </a:lnTo>
                  <a:lnTo>
                    <a:pt x="190" y="71"/>
                  </a:lnTo>
                  <a:lnTo>
                    <a:pt x="149" y="84"/>
                  </a:lnTo>
                  <a:lnTo>
                    <a:pt x="111" y="98"/>
                  </a:lnTo>
                  <a:lnTo>
                    <a:pt x="92" y="106"/>
                  </a:lnTo>
                  <a:lnTo>
                    <a:pt x="73" y="114"/>
                  </a:lnTo>
                  <a:lnTo>
                    <a:pt x="53" y="122"/>
                  </a:lnTo>
                  <a:lnTo>
                    <a:pt x="36" y="130"/>
                  </a:lnTo>
                  <a:lnTo>
                    <a:pt x="18" y="137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17" y="155"/>
                  </a:lnTo>
                  <a:lnTo>
                    <a:pt x="33" y="164"/>
                  </a:lnTo>
                  <a:lnTo>
                    <a:pt x="48" y="173"/>
                  </a:lnTo>
                  <a:lnTo>
                    <a:pt x="63" y="182"/>
                  </a:lnTo>
                  <a:lnTo>
                    <a:pt x="78" y="191"/>
                  </a:lnTo>
                  <a:lnTo>
                    <a:pt x="92" y="202"/>
                  </a:lnTo>
                  <a:lnTo>
                    <a:pt x="105" y="211"/>
                  </a:lnTo>
                  <a:lnTo>
                    <a:pt x="119" y="221"/>
                  </a:lnTo>
                  <a:lnTo>
                    <a:pt x="131" y="231"/>
                  </a:lnTo>
                  <a:lnTo>
                    <a:pt x="143" y="241"/>
                  </a:lnTo>
                  <a:lnTo>
                    <a:pt x="156" y="251"/>
                  </a:lnTo>
                  <a:lnTo>
                    <a:pt x="167" y="261"/>
                  </a:lnTo>
                  <a:lnTo>
                    <a:pt x="178" y="271"/>
                  </a:lnTo>
                  <a:lnTo>
                    <a:pt x="187" y="283"/>
                  </a:lnTo>
                  <a:lnTo>
                    <a:pt x="197" y="293"/>
                  </a:lnTo>
                  <a:lnTo>
                    <a:pt x="206" y="304"/>
                  </a:lnTo>
                  <a:lnTo>
                    <a:pt x="214" y="314"/>
                  </a:lnTo>
                  <a:lnTo>
                    <a:pt x="223" y="326"/>
                  </a:lnTo>
                  <a:lnTo>
                    <a:pt x="229" y="337"/>
                  </a:lnTo>
                  <a:lnTo>
                    <a:pt x="238" y="348"/>
                  </a:lnTo>
                  <a:lnTo>
                    <a:pt x="243" y="359"/>
                  </a:lnTo>
                  <a:lnTo>
                    <a:pt x="250" y="371"/>
                  </a:lnTo>
                  <a:lnTo>
                    <a:pt x="255" y="382"/>
                  </a:lnTo>
                  <a:lnTo>
                    <a:pt x="259" y="394"/>
                  </a:lnTo>
                  <a:lnTo>
                    <a:pt x="263" y="406"/>
                  </a:lnTo>
                  <a:lnTo>
                    <a:pt x="268" y="417"/>
                  </a:lnTo>
                  <a:lnTo>
                    <a:pt x="270" y="429"/>
                  </a:lnTo>
                  <a:lnTo>
                    <a:pt x="273" y="441"/>
                  </a:lnTo>
                  <a:lnTo>
                    <a:pt x="276" y="453"/>
                  </a:lnTo>
                  <a:lnTo>
                    <a:pt x="277" y="464"/>
                  </a:lnTo>
                  <a:lnTo>
                    <a:pt x="277" y="477"/>
                  </a:lnTo>
                  <a:lnTo>
                    <a:pt x="278" y="489"/>
                  </a:lnTo>
                  <a:lnTo>
                    <a:pt x="277" y="500"/>
                  </a:lnTo>
                  <a:lnTo>
                    <a:pt x="277" y="513"/>
                  </a:lnTo>
                  <a:lnTo>
                    <a:pt x="276" y="524"/>
                  </a:lnTo>
                  <a:lnTo>
                    <a:pt x="273" y="536"/>
                  </a:lnTo>
                  <a:lnTo>
                    <a:pt x="270" y="548"/>
                  </a:lnTo>
                  <a:lnTo>
                    <a:pt x="268" y="560"/>
                  </a:lnTo>
                  <a:lnTo>
                    <a:pt x="263" y="571"/>
                  </a:lnTo>
                  <a:lnTo>
                    <a:pt x="259" y="583"/>
                  </a:lnTo>
                  <a:lnTo>
                    <a:pt x="255" y="595"/>
                  </a:lnTo>
                  <a:lnTo>
                    <a:pt x="250" y="606"/>
                  </a:lnTo>
                  <a:lnTo>
                    <a:pt x="243" y="617"/>
                  </a:lnTo>
                  <a:lnTo>
                    <a:pt x="238" y="629"/>
                  </a:lnTo>
                  <a:lnTo>
                    <a:pt x="229" y="640"/>
                  </a:lnTo>
                  <a:lnTo>
                    <a:pt x="223" y="651"/>
                  </a:lnTo>
                  <a:lnTo>
                    <a:pt x="214" y="663"/>
                  </a:lnTo>
                  <a:lnTo>
                    <a:pt x="206" y="673"/>
                  </a:lnTo>
                  <a:lnTo>
                    <a:pt x="197" y="684"/>
                  </a:lnTo>
                  <a:lnTo>
                    <a:pt x="187" y="695"/>
                  </a:lnTo>
                  <a:lnTo>
                    <a:pt x="178" y="705"/>
                  </a:lnTo>
                  <a:lnTo>
                    <a:pt x="167" y="716"/>
                  </a:lnTo>
                  <a:lnTo>
                    <a:pt x="156" y="726"/>
                  </a:lnTo>
                  <a:lnTo>
                    <a:pt x="143" y="737"/>
                  </a:lnTo>
                  <a:lnTo>
                    <a:pt x="131" y="746"/>
                  </a:lnTo>
                  <a:lnTo>
                    <a:pt x="119" y="756"/>
                  </a:lnTo>
                  <a:lnTo>
                    <a:pt x="105" y="766"/>
                  </a:lnTo>
                  <a:lnTo>
                    <a:pt x="92" y="776"/>
                  </a:lnTo>
                  <a:lnTo>
                    <a:pt x="78" y="785"/>
                  </a:lnTo>
                  <a:lnTo>
                    <a:pt x="63" y="794"/>
                  </a:lnTo>
                  <a:lnTo>
                    <a:pt x="48" y="803"/>
                  </a:lnTo>
                  <a:lnTo>
                    <a:pt x="33" y="812"/>
                  </a:lnTo>
                  <a:lnTo>
                    <a:pt x="17" y="821"/>
                  </a:lnTo>
                  <a:lnTo>
                    <a:pt x="0" y="830"/>
                  </a:lnTo>
                  <a:lnTo>
                    <a:pt x="0" y="83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45480" y="2389320"/>
              <a:ext cx="64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 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22680" y="1952640"/>
              <a:ext cx="879480" cy="1085760"/>
            </a:xfrm>
            <a:custGeom>
              <a:avLst/>
              <a:gdLst/>
              <a:ahLst/>
              <a:rect l="l" t="t" r="r" b="b"/>
              <a:pathLst>
                <a:path w="554" h="684">
                  <a:moveTo>
                    <a:pt x="276" y="684"/>
                  </a:moveTo>
                  <a:lnTo>
                    <a:pt x="293" y="675"/>
                  </a:lnTo>
                  <a:lnTo>
                    <a:pt x="309" y="666"/>
                  </a:lnTo>
                  <a:lnTo>
                    <a:pt x="324" y="657"/>
                  </a:lnTo>
                  <a:lnTo>
                    <a:pt x="339" y="648"/>
                  </a:lnTo>
                  <a:lnTo>
                    <a:pt x="354" y="639"/>
                  </a:lnTo>
                  <a:lnTo>
                    <a:pt x="368" y="630"/>
                  </a:lnTo>
                  <a:lnTo>
                    <a:pt x="381" y="620"/>
                  </a:lnTo>
                  <a:lnTo>
                    <a:pt x="395" y="610"/>
                  </a:lnTo>
                  <a:lnTo>
                    <a:pt x="407" y="600"/>
                  </a:lnTo>
                  <a:lnTo>
                    <a:pt x="419" y="590"/>
                  </a:lnTo>
                  <a:lnTo>
                    <a:pt x="432" y="580"/>
                  </a:lnTo>
                  <a:lnTo>
                    <a:pt x="443" y="570"/>
                  </a:lnTo>
                  <a:lnTo>
                    <a:pt x="454" y="559"/>
                  </a:lnTo>
                  <a:lnTo>
                    <a:pt x="463" y="549"/>
                  </a:lnTo>
                  <a:lnTo>
                    <a:pt x="473" y="538"/>
                  </a:lnTo>
                  <a:lnTo>
                    <a:pt x="482" y="527"/>
                  </a:lnTo>
                  <a:lnTo>
                    <a:pt x="490" y="517"/>
                  </a:lnTo>
                  <a:lnTo>
                    <a:pt x="499" y="505"/>
                  </a:lnTo>
                  <a:lnTo>
                    <a:pt x="505" y="494"/>
                  </a:lnTo>
                  <a:lnTo>
                    <a:pt x="514" y="483"/>
                  </a:lnTo>
                  <a:lnTo>
                    <a:pt x="519" y="471"/>
                  </a:lnTo>
                  <a:lnTo>
                    <a:pt x="526" y="460"/>
                  </a:lnTo>
                  <a:lnTo>
                    <a:pt x="531" y="449"/>
                  </a:lnTo>
                  <a:lnTo>
                    <a:pt x="535" y="437"/>
                  </a:lnTo>
                  <a:lnTo>
                    <a:pt x="539" y="425"/>
                  </a:lnTo>
                  <a:lnTo>
                    <a:pt x="544" y="414"/>
                  </a:lnTo>
                  <a:lnTo>
                    <a:pt x="546" y="402"/>
                  </a:lnTo>
                  <a:lnTo>
                    <a:pt x="549" y="390"/>
                  </a:lnTo>
                  <a:lnTo>
                    <a:pt x="552" y="378"/>
                  </a:lnTo>
                  <a:lnTo>
                    <a:pt x="553" y="367"/>
                  </a:lnTo>
                  <a:lnTo>
                    <a:pt x="553" y="354"/>
                  </a:lnTo>
                  <a:lnTo>
                    <a:pt x="554" y="343"/>
                  </a:lnTo>
                  <a:lnTo>
                    <a:pt x="553" y="331"/>
                  </a:lnTo>
                  <a:lnTo>
                    <a:pt x="553" y="318"/>
                  </a:lnTo>
                  <a:lnTo>
                    <a:pt x="552" y="307"/>
                  </a:lnTo>
                  <a:lnTo>
                    <a:pt x="549" y="295"/>
                  </a:lnTo>
                  <a:lnTo>
                    <a:pt x="546" y="283"/>
                  </a:lnTo>
                  <a:lnTo>
                    <a:pt x="544" y="271"/>
                  </a:lnTo>
                  <a:lnTo>
                    <a:pt x="539" y="260"/>
                  </a:lnTo>
                  <a:lnTo>
                    <a:pt x="535" y="248"/>
                  </a:lnTo>
                  <a:lnTo>
                    <a:pt x="531" y="236"/>
                  </a:lnTo>
                  <a:lnTo>
                    <a:pt x="526" y="225"/>
                  </a:lnTo>
                  <a:lnTo>
                    <a:pt x="519" y="213"/>
                  </a:lnTo>
                  <a:lnTo>
                    <a:pt x="514" y="202"/>
                  </a:lnTo>
                  <a:lnTo>
                    <a:pt x="505" y="191"/>
                  </a:lnTo>
                  <a:lnTo>
                    <a:pt x="499" y="180"/>
                  </a:lnTo>
                  <a:lnTo>
                    <a:pt x="490" y="168"/>
                  </a:lnTo>
                  <a:lnTo>
                    <a:pt x="482" y="158"/>
                  </a:lnTo>
                  <a:lnTo>
                    <a:pt x="473" y="147"/>
                  </a:lnTo>
                  <a:lnTo>
                    <a:pt x="463" y="137"/>
                  </a:lnTo>
                  <a:lnTo>
                    <a:pt x="454" y="125"/>
                  </a:lnTo>
                  <a:lnTo>
                    <a:pt x="443" y="115"/>
                  </a:lnTo>
                  <a:lnTo>
                    <a:pt x="432" y="105"/>
                  </a:lnTo>
                  <a:lnTo>
                    <a:pt x="419" y="95"/>
                  </a:lnTo>
                  <a:lnTo>
                    <a:pt x="407" y="85"/>
                  </a:lnTo>
                  <a:lnTo>
                    <a:pt x="395" y="75"/>
                  </a:lnTo>
                  <a:lnTo>
                    <a:pt x="381" y="65"/>
                  </a:lnTo>
                  <a:lnTo>
                    <a:pt x="368" y="56"/>
                  </a:lnTo>
                  <a:lnTo>
                    <a:pt x="354" y="45"/>
                  </a:lnTo>
                  <a:lnTo>
                    <a:pt x="339" y="36"/>
                  </a:lnTo>
                  <a:lnTo>
                    <a:pt x="324" y="27"/>
                  </a:lnTo>
                  <a:lnTo>
                    <a:pt x="309" y="18"/>
                  </a:lnTo>
                  <a:lnTo>
                    <a:pt x="293" y="9"/>
                  </a:lnTo>
                  <a:lnTo>
                    <a:pt x="276" y="0"/>
                  </a:lnTo>
                  <a:lnTo>
                    <a:pt x="260" y="9"/>
                  </a:lnTo>
                  <a:lnTo>
                    <a:pt x="245" y="18"/>
                  </a:lnTo>
                  <a:lnTo>
                    <a:pt x="229" y="27"/>
                  </a:lnTo>
                  <a:lnTo>
                    <a:pt x="214" y="36"/>
                  </a:lnTo>
                  <a:lnTo>
                    <a:pt x="200" y="45"/>
                  </a:lnTo>
                  <a:lnTo>
                    <a:pt x="185" y="56"/>
                  </a:lnTo>
                  <a:lnTo>
                    <a:pt x="171" y="65"/>
                  </a:lnTo>
                  <a:lnTo>
                    <a:pt x="159" y="75"/>
                  </a:lnTo>
                  <a:lnTo>
                    <a:pt x="145" y="85"/>
                  </a:lnTo>
                  <a:lnTo>
                    <a:pt x="133" y="95"/>
                  </a:lnTo>
                  <a:lnTo>
                    <a:pt x="122" y="105"/>
                  </a:lnTo>
                  <a:lnTo>
                    <a:pt x="111" y="115"/>
                  </a:lnTo>
                  <a:lnTo>
                    <a:pt x="100" y="125"/>
                  </a:lnTo>
                  <a:lnTo>
                    <a:pt x="91" y="137"/>
                  </a:lnTo>
                  <a:lnTo>
                    <a:pt x="81" y="147"/>
                  </a:lnTo>
                  <a:lnTo>
                    <a:pt x="72" y="158"/>
                  </a:lnTo>
                  <a:lnTo>
                    <a:pt x="64" y="168"/>
                  </a:lnTo>
                  <a:lnTo>
                    <a:pt x="55" y="180"/>
                  </a:lnTo>
                  <a:lnTo>
                    <a:pt x="47" y="191"/>
                  </a:lnTo>
                  <a:lnTo>
                    <a:pt x="40" y="202"/>
                  </a:lnTo>
                  <a:lnTo>
                    <a:pt x="34" y="213"/>
                  </a:lnTo>
                  <a:lnTo>
                    <a:pt x="28" y="225"/>
                  </a:lnTo>
                  <a:lnTo>
                    <a:pt x="23" y="236"/>
                  </a:lnTo>
                  <a:lnTo>
                    <a:pt x="19" y="248"/>
                  </a:lnTo>
                  <a:lnTo>
                    <a:pt x="13" y="260"/>
                  </a:lnTo>
                  <a:lnTo>
                    <a:pt x="10" y="271"/>
                  </a:lnTo>
                  <a:lnTo>
                    <a:pt x="6" y="283"/>
                  </a:lnTo>
                  <a:lnTo>
                    <a:pt x="4" y="295"/>
                  </a:lnTo>
                  <a:lnTo>
                    <a:pt x="2" y="307"/>
                  </a:lnTo>
                  <a:lnTo>
                    <a:pt x="1" y="318"/>
                  </a:lnTo>
                  <a:lnTo>
                    <a:pt x="0" y="331"/>
                  </a:lnTo>
                  <a:lnTo>
                    <a:pt x="0" y="343"/>
                  </a:lnTo>
                  <a:lnTo>
                    <a:pt x="0" y="354"/>
                  </a:lnTo>
                  <a:lnTo>
                    <a:pt x="1" y="367"/>
                  </a:lnTo>
                  <a:lnTo>
                    <a:pt x="2" y="378"/>
                  </a:lnTo>
                  <a:lnTo>
                    <a:pt x="4" y="390"/>
                  </a:lnTo>
                  <a:lnTo>
                    <a:pt x="6" y="402"/>
                  </a:lnTo>
                  <a:lnTo>
                    <a:pt x="10" y="414"/>
                  </a:lnTo>
                  <a:lnTo>
                    <a:pt x="13" y="425"/>
                  </a:lnTo>
                  <a:lnTo>
                    <a:pt x="19" y="437"/>
                  </a:lnTo>
                  <a:lnTo>
                    <a:pt x="23" y="449"/>
                  </a:lnTo>
                  <a:lnTo>
                    <a:pt x="28" y="460"/>
                  </a:lnTo>
                  <a:lnTo>
                    <a:pt x="34" y="471"/>
                  </a:lnTo>
                  <a:lnTo>
                    <a:pt x="40" y="483"/>
                  </a:lnTo>
                  <a:lnTo>
                    <a:pt x="47" y="494"/>
                  </a:lnTo>
                  <a:lnTo>
                    <a:pt x="55" y="505"/>
                  </a:lnTo>
                  <a:lnTo>
                    <a:pt x="64" y="517"/>
                  </a:lnTo>
                  <a:lnTo>
                    <a:pt x="72" y="527"/>
                  </a:lnTo>
                  <a:lnTo>
                    <a:pt x="81" y="538"/>
                  </a:lnTo>
                  <a:lnTo>
                    <a:pt x="91" y="549"/>
                  </a:lnTo>
                  <a:lnTo>
                    <a:pt x="100" y="559"/>
                  </a:lnTo>
                  <a:lnTo>
                    <a:pt x="111" y="570"/>
                  </a:lnTo>
                  <a:lnTo>
                    <a:pt x="122" y="580"/>
                  </a:lnTo>
                  <a:lnTo>
                    <a:pt x="133" y="590"/>
                  </a:lnTo>
                  <a:lnTo>
                    <a:pt x="145" y="600"/>
                  </a:lnTo>
                  <a:lnTo>
                    <a:pt x="159" y="610"/>
                  </a:lnTo>
                  <a:lnTo>
                    <a:pt x="171" y="620"/>
                  </a:lnTo>
                  <a:lnTo>
                    <a:pt x="185" y="630"/>
                  </a:lnTo>
                  <a:lnTo>
                    <a:pt x="200" y="639"/>
                  </a:lnTo>
                  <a:lnTo>
                    <a:pt x="214" y="648"/>
                  </a:lnTo>
                  <a:lnTo>
                    <a:pt x="229" y="657"/>
                  </a:lnTo>
                  <a:lnTo>
                    <a:pt x="245" y="666"/>
                  </a:lnTo>
                  <a:lnTo>
                    <a:pt x="260" y="675"/>
                  </a:lnTo>
                  <a:lnTo>
                    <a:pt x="276" y="684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22680" y="1952640"/>
              <a:ext cx="879480" cy="1085760"/>
            </a:xfrm>
            <a:custGeom>
              <a:avLst/>
              <a:gdLst/>
              <a:ahLst/>
              <a:rect l="l" t="t" r="r" b="b"/>
              <a:pathLst>
                <a:path w="554" h="684">
                  <a:moveTo>
                    <a:pt x="276" y="684"/>
                  </a:moveTo>
                  <a:lnTo>
                    <a:pt x="293" y="675"/>
                  </a:lnTo>
                  <a:lnTo>
                    <a:pt x="309" y="666"/>
                  </a:lnTo>
                  <a:lnTo>
                    <a:pt x="324" y="657"/>
                  </a:lnTo>
                  <a:lnTo>
                    <a:pt x="339" y="648"/>
                  </a:lnTo>
                  <a:lnTo>
                    <a:pt x="354" y="639"/>
                  </a:lnTo>
                  <a:lnTo>
                    <a:pt x="368" y="630"/>
                  </a:lnTo>
                  <a:lnTo>
                    <a:pt x="381" y="620"/>
                  </a:lnTo>
                  <a:lnTo>
                    <a:pt x="395" y="610"/>
                  </a:lnTo>
                  <a:lnTo>
                    <a:pt x="407" y="600"/>
                  </a:lnTo>
                  <a:lnTo>
                    <a:pt x="419" y="590"/>
                  </a:lnTo>
                  <a:lnTo>
                    <a:pt x="432" y="580"/>
                  </a:lnTo>
                  <a:lnTo>
                    <a:pt x="443" y="570"/>
                  </a:lnTo>
                  <a:lnTo>
                    <a:pt x="454" y="559"/>
                  </a:lnTo>
                  <a:lnTo>
                    <a:pt x="463" y="549"/>
                  </a:lnTo>
                  <a:lnTo>
                    <a:pt x="473" y="538"/>
                  </a:lnTo>
                  <a:lnTo>
                    <a:pt x="482" y="527"/>
                  </a:lnTo>
                  <a:lnTo>
                    <a:pt x="490" y="517"/>
                  </a:lnTo>
                  <a:lnTo>
                    <a:pt x="499" y="505"/>
                  </a:lnTo>
                  <a:lnTo>
                    <a:pt x="505" y="494"/>
                  </a:lnTo>
                  <a:lnTo>
                    <a:pt x="514" y="483"/>
                  </a:lnTo>
                  <a:lnTo>
                    <a:pt x="519" y="471"/>
                  </a:lnTo>
                  <a:lnTo>
                    <a:pt x="526" y="460"/>
                  </a:lnTo>
                  <a:lnTo>
                    <a:pt x="531" y="449"/>
                  </a:lnTo>
                  <a:lnTo>
                    <a:pt x="535" y="437"/>
                  </a:lnTo>
                  <a:lnTo>
                    <a:pt x="539" y="425"/>
                  </a:lnTo>
                  <a:lnTo>
                    <a:pt x="544" y="414"/>
                  </a:lnTo>
                  <a:lnTo>
                    <a:pt x="546" y="402"/>
                  </a:lnTo>
                  <a:lnTo>
                    <a:pt x="549" y="390"/>
                  </a:lnTo>
                  <a:lnTo>
                    <a:pt x="552" y="378"/>
                  </a:lnTo>
                  <a:lnTo>
                    <a:pt x="553" y="367"/>
                  </a:lnTo>
                  <a:lnTo>
                    <a:pt x="553" y="354"/>
                  </a:lnTo>
                  <a:lnTo>
                    <a:pt x="554" y="343"/>
                  </a:lnTo>
                  <a:lnTo>
                    <a:pt x="553" y="331"/>
                  </a:lnTo>
                  <a:lnTo>
                    <a:pt x="553" y="318"/>
                  </a:lnTo>
                  <a:lnTo>
                    <a:pt x="552" y="307"/>
                  </a:lnTo>
                  <a:lnTo>
                    <a:pt x="549" y="295"/>
                  </a:lnTo>
                  <a:lnTo>
                    <a:pt x="546" y="283"/>
                  </a:lnTo>
                  <a:lnTo>
                    <a:pt x="544" y="271"/>
                  </a:lnTo>
                  <a:lnTo>
                    <a:pt x="539" y="260"/>
                  </a:lnTo>
                  <a:lnTo>
                    <a:pt x="535" y="248"/>
                  </a:lnTo>
                  <a:lnTo>
                    <a:pt x="531" y="236"/>
                  </a:lnTo>
                  <a:lnTo>
                    <a:pt x="526" y="225"/>
                  </a:lnTo>
                  <a:lnTo>
                    <a:pt x="519" y="213"/>
                  </a:lnTo>
                  <a:lnTo>
                    <a:pt x="514" y="202"/>
                  </a:lnTo>
                  <a:lnTo>
                    <a:pt x="505" y="191"/>
                  </a:lnTo>
                  <a:lnTo>
                    <a:pt x="499" y="180"/>
                  </a:lnTo>
                  <a:lnTo>
                    <a:pt x="490" y="168"/>
                  </a:lnTo>
                  <a:lnTo>
                    <a:pt x="482" y="158"/>
                  </a:lnTo>
                  <a:lnTo>
                    <a:pt x="473" y="147"/>
                  </a:lnTo>
                  <a:lnTo>
                    <a:pt x="463" y="137"/>
                  </a:lnTo>
                  <a:lnTo>
                    <a:pt x="454" y="125"/>
                  </a:lnTo>
                  <a:lnTo>
                    <a:pt x="443" y="115"/>
                  </a:lnTo>
                  <a:lnTo>
                    <a:pt x="432" y="105"/>
                  </a:lnTo>
                  <a:lnTo>
                    <a:pt x="419" y="95"/>
                  </a:lnTo>
                  <a:lnTo>
                    <a:pt x="407" y="85"/>
                  </a:lnTo>
                  <a:lnTo>
                    <a:pt x="395" y="75"/>
                  </a:lnTo>
                  <a:lnTo>
                    <a:pt x="381" y="65"/>
                  </a:lnTo>
                  <a:lnTo>
                    <a:pt x="368" y="56"/>
                  </a:lnTo>
                  <a:lnTo>
                    <a:pt x="354" y="45"/>
                  </a:lnTo>
                  <a:lnTo>
                    <a:pt x="339" y="36"/>
                  </a:lnTo>
                  <a:lnTo>
                    <a:pt x="324" y="27"/>
                  </a:lnTo>
                  <a:lnTo>
                    <a:pt x="309" y="18"/>
                  </a:lnTo>
                  <a:lnTo>
                    <a:pt x="293" y="9"/>
                  </a:lnTo>
                  <a:lnTo>
                    <a:pt x="276" y="0"/>
                  </a:lnTo>
                  <a:lnTo>
                    <a:pt x="260" y="9"/>
                  </a:lnTo>
                  <a:lnTo>
                    <a:pt x="245" y="18"/>
                  </a:lnTo>
                  <a:lnTo>
                    <a:pt x="229" y="27"/>
                  </a:lnTo>
                  <a:lnTo>
                    <a:pt x="214" y="36"/>
                  </a:lnTo>
                  <a:lnTo>
                    <a:pt x="200" y="45"/>
                  </a:lnTo>
                  <a:lnTo>
                    <a:pt x="185" y="56"/>
                  </a:lnTo>
                  <a:lnTo>
                    <a:pt x="171" y="65"/>
                  </a:lnTo>
                  <a:lnTo>
                    <a:pt x="159" y="75"/>
                  </a:lnTo>
                  <a:lnTo>
                    <a:pt x="145" y="85"/>
                  </a:lnTo>
                  <a:lnTo>
                    <a:pt x="133" y="95"/>
                  </a:lnTo>
                  <a:lnTo>
                    <a:pt x="122" y="105"/>
                  </a:lnTo>
                  <a:lnTo>
                    <a:pt x="111" y="115"/>
                  </a:lnTo>
                  <a:lnTo>
                    <a:pt x="100" y="125"/>
                  </a:lnTo>
                  <a:lnTo>
                    <a:pt x="91" y="137"/>
                  </a:lnTo>
                  <a:lnTo>
                    <a:pt x="81" y="147"/>
                  </a:lnTo>
                  <a:lnTo>
                    <a:pt x="72" y="158"/>
                  </a:lnTo>
                  <a:lnTo>
                    <a:pt x="64" y="168"/>
                  </a:lnTo>
                  <a:lnTo>
                    <a:pt x="55" y="180"/>
                  </a:lnTo>
                  <a:lnTo>
                    <a:pt x="47" y="191"/>
                  </a:lnTo>
                  <a:lnTo>
                    <a:pt x="40" y="202"/>
                  </a:lnTo>
                  <a:lnTo>
                    <a:pt x="34" y="213"/>
                  </a:lnTo>
                  <a:lnTo>
                    <a:pt x="28" y="225"/>
                  </a:lnTo>
                  <a:lnTo>
                    <a:pt x="23" y="236"/>
                  </a:lnTo>
                  <a:lnTo>
                    <a:pt x="19" y="248"/>
                  </a:lnTo>
                  <a:lnTo>
                    <a:pt x="13" y="260"/>
                  </a:lnTo>
                  <a:lnTo>
                    <a:pt x="10" y="271"/>
                  </a:lnTo>
                  <a:lnTo>
                    <a:pt x="6" y="283"/>
                  </a:lnTo>
                  <a:lnTo>
                    <a:pt x="4" y="295"/>
                  </a:lnTo>
                  <a:lnTo>
                    <a:pt x="2" y="307"/>
                  </a:lnTo>
                  <a:lnTo>
                    <a:pt x="1" y="318"/>
                  </a:lnTo>
                  <a:lnTo>
                    <a:pt x="0" y="331"/>
                  </a:lnTo>
                  <a:lnTo>
                    <a:pt x="0" y="343"/>
                  </a:lnTo>
                  <a:lnTo>
                    <a:pt x="0" y="354"/>
                  </a:lnTo>
                  <a:lnTo>
                    <a:pt x="1" y="367"/>
                  </a:lnTo>
                  <a:lnTo>
                    <a:pt x="2" y="378"/>
                  </a:lnTo>
                  <a:lnTo>
                    <a:pt x="4" y="390"/>
                  </a:lnTo>
                  <a:lnTo>
                    <a:pt x="6" y="402"/>
                  </a:lnTo>
                  <a:lnTo>
                    <a:pt x="10" y="414"/>
                  </a:lnTo>
                  <a:lnTo>
                    <a:pt x="13" y="425"/>
                  </a:lnTo>
                  <a:lnTo>
                    <a:pt x="19" y="437"/>
                  </a:lnTo>
                  <a:lnTo>
                    <a:pt x="23" y="449"/>
                  </a:lnTo>
                  <a:lnTo>
                    <a:pt x="28" y="460"/>
                  </a:lnTo>
                  <a:lnTo>
                    <a:pt x="34" y="471"/>
                  </a:lnTo>
                  <a:lnTo>
                    <a:pt x="40" y="483"/>
                  </a:lnTo>
                  <a:lnTo>
                    <a:pt x="47" y="494"/>
                  </a:lnTo>
                  <a:lnTo>
                    <a:pt x="55" y="505"/>
                  </a:lnTo>
                  <a:lnTo>
                    <a:pt x="64" y="517"/>
                  </a:lnTo>
                  <a:lnTo>
                    <a:pt x="72" y="527"/>
                  </a:lnTo>
                  <a:lnTo>
                    <a:pt x="81" y="538"/>
                  </a:lnTo>
                  <a:lnTo>
                    <a:pt x="91" y="549"/>
                  </a:lnTo>
                  <a:lnTo>
                    <a:pt x="100" y="559"/>
                  </a:lnTo>
                  <a:lnTo>
                    <a:pt x="111" y="570"/>
                  </a:lnTo>
                  <a:lnTo>
                    <a:pt x="122" y="580"/>
                  </a:lnTo>
                  <a:lnTo>
                    <a:pt x="133" y="590"/>
                  </a:lnTo>
                  <a:lnTo>
                    <a:pt x="145" y="600"/>
                  </a:lnTo>
                  <a:lnTo>
                    <a:pt x="159" y="610"/>
                  </a:lnTo>
                  <a:lnTo>
                    <a:pt x="171" y="620"/>
                  </a:lnTo>
                  <a:lnTo>
                    <a:pt x="185" y="630"/>
                  </a:lnTo>
                  <a:lnTo>
                    <a:pt x="200" y="639"/>
                  </a:lnTo>
                  <a:lnTo>
                    <a:pt x="214" y="648"/>
                  </a:lnTo>
                  <a:lnTo>
                    <a:pt x="229" y="657"/>
                  </a:lnTo>
                  <a:lnTo>
                    <a:pt x="245" y="666"/>
                  </a:lnTo>
                  <a:lnTo>
                    <a:pt x="260" y="675"/>
                  </a:lnTo>
                  <a:lnTo>
                    <a:pt x="276" y="684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ight Outer Joi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ll records from table on the RIGHT side of a pair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76240" y="3486240"/>
            <a:ext cx="71406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2858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i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040" indent="-19620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Data from matching records in table on LEF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040" indent="-19620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1040" indent="-19620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NULL if no matching record is foun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92480" y="1693800"/>
          <a:ext cx="5308560" cy="159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92480" y="1693800"/>
                    <a:ext cx="530856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ull Outer Joi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mbination of LEFT and RIGHT outer joi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76240" y="3486240"/>
            <a:ext cx="7140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ntains three sub sets of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Records that match in both tables (Inner Join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Records from Left table with no match (Left Outer Join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Records from Right table with no match (Right Outer Join)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rtesian Joi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ctually a ‘Cartesian Product’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rises when no join condition is specified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All records in one table joined to all records in the other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esult set = Product of the record counts of the tables – can get VERY large, very quickly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rior to VFP 9.0 was the only way to add new columns of type MEMO or INTEGER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Usually a Cartesian Product = Error in SQL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ike This…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1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ION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mbines result sets from separate queri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ll queries must generate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Same names, in same order with same data type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(Implicit conversion may work in some cases, but…)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wo form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UNION ALL 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Appends Result Set2 to Result Set1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UNION 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Appends Result Set2 to Result Set1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Removes duplicate record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115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ub Quer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s a query embedded in a quer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Return one or more values to the parent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ree basic return types from a sub quer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Times New Roman"/>
              </a:rPr>
              <a:t>List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; must begin with an “IN”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Times New Roman"/>
              </a:rPr>
              <a:t>Comparison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; must return a single valu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00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ffff"/>
                </a:solidFill>
                <a:latin typeface="Times New Roman"/>
              </a:rPr>
              <a:t>Existence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; must begin with “EXISTS”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our basic types of sub quer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Uncorrelated Sub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Correlated Sub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Derived Tabl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Computed Column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11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11" dur="1" fill="hold"/>
                                  <p:tgtEl>
                                    <p:spTgt spid="11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12" dur="1" fill="hold"/>
                                  <p:tgtEl>
                                    <p:spTgt spid="11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13" dur="1" fill="hold"/>
                                  <p:tgtEl>
                                    <p:spTgt spid="11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14" dur="1" fill="hold"/>
                                  <p:tgtEl>
                                    <p:spTgt spid="11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Uncorrelated Sub Quer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fined in the WHERE claus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re valid queries in their own righ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Are executed only once per run of the main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ELECT pcat_fk, prod_name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ROM prodmain PM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ERE PM.pcat_fk IN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</a:rPr>
              <a:t>(SELECT pcat_pk FROM prodcat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Courier New"/>
              </a:rPr>
              <a:t>        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</a:rPr>
              <a:t>WHERE pcat_name = 'Meat')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in us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Handling queries involving unrelated sibling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Avoid having to hard-code value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2" dur="1" fill="hold"/>
                                  <p:tgtEl>
                                    <p:spTgt spid="119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rrelated Sub Quer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fined in the WHERE claus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Query is not valid in its own right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Input value to sub query derived from outer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Executed for every row in the main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CU.cust_name, ord_date, ord_amt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customer CU, orderhdr OH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WHERE CU.cust_pk = OH.cust_fk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AND ord_date =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(SELECT MAX(ord_date)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  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FROM orderhdr WHERE cust_fk = CU.cust_pk )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ORDER BY cust_name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voids having to use, and is much more efficient than, repeating queries or UNION select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0" dur="1" fill="hold"/>
                                  <p:tgtEl>
                                    <p:spTgt spid="121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75880" y="1104840"/>
            <a:ext cx="7278840" cy="471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dependent Consultant since 1993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icrosoft MVP since 1996 and MCP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-Author of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MegaFox: 1002 TYWTKA Extending VFP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1001 Things YWTKA VFP(Kilofox)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Revolutionary Guide to VFP OOP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FoxTalk </a:t>
            </a:r>
            <a:r>
              <a:rPr b="0" i="1" lang="en-US" sz="1900" spc="-1" strike="noStrike">
                <a:solidFill>
                  <a:srgbClr val="ffff00"/>
                </a:solidFill>
                <a:latin typeface="Times New Roman"/>
              </a:rPr>
              <a:t>Kitbox</a:t>
            </a: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 Column since April 1998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peaker at User Groups/Conference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SouthWest Fox [2004]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Essential Fox [2002/03/04]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GLGDW (WhilFest) [2000/01/02/03]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Advisor DevCon [2001/02]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London, Frankfurt, Amsterdam, Prague, Sydne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001000" y="237960"/>
            <a:ext cx="990720" cy="865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15200" y="1266840"/>
            <a:ext cx="1676520" cy="419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0920" y="4838760"/>
            <a:ext cx="1231920" cy="1600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239760" y="2954160"/>
            <a:ext cx="1255680" cy="1676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44440" y="1104840"/>
            <a:ext cx="1246320" cy="1603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Who Am I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erived Tabl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fined in the FROM claus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Creates a named intermediate result set that can be referenced in the same query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con_lname, con_fname, PH.ccon_det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contact CO LEFT OUTER JOIN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(SELECT cont_fk, ccon_det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       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FROM custcont WHERE ctyp_fk = 1) PH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ON CO.cont_pk = PH.cont_fk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Main uses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Creating exclusion querie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voiding filtered JOIN clause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But may be slower than explicit join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6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mputed Column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fined in the SELECT clause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Can only return a single valu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CU.cust_name,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(SELECT SUM(ord_amt) FROM orderhdr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        </a:t>
            </a:r>
            <a:r>
              <a:rPr b="1" lang="en-US" sz="1500" spc="-1" strike="noStrike">
                <a:solidFill>
                  <a:srgbClr val="00ffff"/>
                </a:solidFill>
                <a:latin typeface="Courier New"/>
                <a:ea typeface="Courier New"/>
              </a:rPr>
              <a:t>WHERE cust_fk = CU.cust_pk) tSales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;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customer CU </a:t>
            </a:r>
            <a:endParaRPr b="1" lang="en-US" sz="15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turns NULL if no matching value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Can avoid an outer join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Can avoid complex Group By clause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5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6" dur="1" fill="hold"/>
                                  <p:tgtEl>
                                    <p:spTgt spid="12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ckling Complex Quer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riting a complex query can be tricky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Three steps to succes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1] Define the output column list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This will form the basis of the SELECT claus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2] List the source table for each column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This will form the basis of the FROM claus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3] Phrase the query in terms of sets 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This will form the basis of the WHERE claus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The problem is that we tend to think in rows…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3" dur="1" fill="hold"/>
                                  <p:tgtEl>
                                    <p:spTgt spid="12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34" dur="1" fill="hold"/>
                                  <p:tgtEl>
                                    <p:spTgt spid="12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35" dur="1" fill="hold"/>
                                  <p:tgtEl>
                                    <p:spTgt spid="12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Tackling Complex Querie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he wording of a question matters!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Give me a list of all customers who have placed three or more orders in the past 6 month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Reverse the wording to try to define the set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nclude anyone whose order count is greater than two in the period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Reverse the logic to try to define the set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clude anyone whose order count is less than three in the period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Don’t just use the first one that works!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Instrument as many different solutions as you can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0" dur="1" fill="hold"/>
                                  <p:tgtEl>
                                    <p:spTgt spid="12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71" dur="1" fill="hold"/>
                                  <p:tgtEl>
                                    <p:spTgt spid="12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ample 1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he problem is to create a query that will: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List all products that a customer has ever purchased, but that were NOT on their last order, together with the date that each was last purchased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ike This…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8120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8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Example 2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he problem is to create a query that will: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List all customers in a given locale (e.g. country) that have purchased one (or more) products in a given category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ike This…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8120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7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5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617840" y="41400"/>
            <a:ext cx="7014960" cy="5763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 rot="488400">
            <a:off x="1820520" y="3409920"/>
            <a:ext cx="465768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Questions?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ssion Overview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75880" y="1104480"/>
            <a:ext cx="6309000" cy="41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evel: Intermediate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pth: How-To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fficulty Level: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quired Knowledge: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Familiarity with standard SQL Syntax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38320" y="2936880"/>
            <a:ext cx="6248520" cy="3049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62360" y="249876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00080" y="24987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317840" y="3047760"/>
            <a:ext cx="0" cy="53316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75880" y="1104480"/>
            <a:ext cx="6667560" cy="43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finiti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Cursor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Joins and Filter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ypes of Join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b Queri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rived Tables &amp; Computed Colum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pproaching Complex Problem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xample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rsors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Acronym for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CUR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rent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et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f 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ecords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The subset of data meeting some condition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lways local, always ‘Exclusive’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Implemented as a temporary table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SELECT * FROM customer INTO CURSOR temp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NOFILTER (VFP 8.0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Force a physical cursor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VFP 9.0 doesn’t seem to use filtered views as much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READWRITE (VFP 8.0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Makes cursor updatable 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llows for multiple index creation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" dur="1" fill="hold"/>
                                  <p:tgtEl>
                                    <p:spTgt spid="6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6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6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rsors – Advanced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WITH BUFFERING = &lt;expl&gt; (VFP 9.0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When .T. queries read data from local buffer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Useful in some circumstances, but…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It’s a </a:t>
            </a: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Non-Repeatable Read</a:t>
            </a: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 and is dangerou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TO instead of INTO (old, often forgotten)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FILE [Additive][,Plain][,NoConsole]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Direct to ASCII fil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With/Without field names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PRINTER [Prompt][,NoConsole]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Direct to current (or selected) printer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SCREEN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VFP Screen or Active Window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" dur="1" fill="hold"/>
                                  <p:tgtEl>
                                    <p:spTgt spid="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1" dur="1" fill="hold"/>
                                  <p:tgtEl>
                                    <p:spTgt spid="6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2" dur="1" fill="hold"/>
                                  <p:tgtEl>
                                    <p:spTgt spid="6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3" dur="1" fill="hold"/>
                                  <p:tgtEl>
                                    <p:spTgt spid="6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4" dur="1" fill="hold"/>
                                  <p:tgtEl>
                                    <p:spTgt spid="6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6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6" dur="1" fill="hold"/>
                                  <p:tgtEl>
                                    <p:spTgt spid="66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87" dur="1" fill="hold"/>
                                  <p:tgtEl>
                                    <p:spTgt spid="6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oin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JOIN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Determine which records selected from two table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Always two but may use same table twice (Self-Join)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Include multiple joins in a single query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equence of joins affects results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SQL optimizer determines the “best” execution plan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SYS(3054) – Optimization Level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SYS(3092) – Direct Optimization Output to fil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FORCE ensures joins as defined in ‘FROM’ clause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Like This …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6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lter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ilters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fined in the WHERE claus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dditional criteria used to refine a result set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2" marL="1054080" indent="-185760">
              <a:spcBef>
                <a:spcPts val="99"/>
              </a:spcBef>
              <a:spcAft>
                <a:spcPts val="99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imes New Roman"/>
              </a:rPr>
              <a:t>Often based on a specific value or key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Evaluated after the set of records satisfying the join condition is selected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00"/>
              </a:spcBef>
              <a:spcAft>
                <a:spcPts val="300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ving</a:t>
            </a:r>
            <a:endParaRPr b="1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Defined in its own unique clause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Additional criteria relating to grouped data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13"/>
              </a:spcBef>
              <a:spcAft>
                <a:spcPts val="113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imes New Roman"/>
              </a:rPr>
              <a:t>If no group by, or aggregate function, equivalent to a WHERE clause – but slower!</a:t>
            </a:r>
            <a:endParaRPr b="1" lang="en-US" sz="19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9" dur="1" fill="hold"/>
                                  <p:tgtEl>
                                    <p:spTgt spid="7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60" dur="1" fill="hold"/>
                                  <p:tgtEl>
                                    <p:spTgt spid="7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61" dur="1" fill="hold"/>
                                  <p:tgtEl>
                                    <p:spTgt spid="7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62" dur="1" fill="hold"/>
                                  <p:tgtEl>
                                    <p:spTgt spid="7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74440" y="276120"/>
            <a:ext cx="713268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Join Syntax - Simple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75880" y="1104840"/>
            <a:ext cx="7140600" cy="48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9080" indent="-289080">
              <a:spcBef>
                <a:spcPts val="326"/>
              </a:spcBef>
              <a:spcAft>
                <a:spcPts val="326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Simple SQL</a:t>
            </a:r>
            <a:endParaRPr b="1" lang="en-US" sz="26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Puts table names in FROM clause and mixes join and filter conditions in WHERE clause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SELECT CU.cust_name, CO.con_lname ;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Courier New"/>
              </a:rPr>
              <a:t>FROM contact CO, customer CU ;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WHERE CO.cust_fk = CU.cust_pk ;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AND CU.cust_pk &gt; 100</a:t>
            </a:r>
            <a:endParaRPr b="1" lang="en-US" sz="1700" spc="-1" strike="noStrike">
              <a:solidFill>
                <a:srgbClr val="ffff00"/>
              </a:solidFill>
              <a:latin typeface="Times New Roman"/>
            </a:endParaRPr>
          </a:p>
          <a:p>
            <a:pPr marL="289080" indent="-28908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s and Cons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Supported by all SQL databases (portable)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  <a:p>
            <a:pPr lvl="1" marL="677880" indent="-198360">
              <a:spcBef>
                <a:spcPts val="125"/>
              </a:spcBef>
              <a:spcAft>
                <a:spcPts val="125"/>
              </a:spcAft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Times New Roman"/>
              </a:rPr>
              <a:t>VFP can only support inner joins</a:t>
            </a:r>
            <a:endParaRPr b="1" lang="en-US" sz="21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5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96" dur="1" fill="hold"/>
                                  <p:tgtEl>
                                    <p:spTgt spid="7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97" dur="1" fill="hold"/>
                                  <p:tgtEl>
                                    <p:spTgt spid="7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8T12:50:52Z</dcterms:created>
  <dc:creator>Andy Kramek</dc:creator>
  <dc:description/>
  <dc:language>en-US</dc:language>
  <cp:lastModifiedBy>Andrew E. Kramek</cp:lastModifiedBy>
  <dcterms:modified xsi:type="dcterms:W3CDTF">2005-01-10T14:06:40Z</dcterms:modified>
  <cp:revision>20</cp:revision>
  <dc:subject/>
  <dc:title>SQL in VFP 9.0  Taking it to new limits</dc:title>
</cp:coreProperties>
</file>